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gif" ContentType="image/gif"/>
  <Override PartName="/ppt/media/image1.jpeg" ContentType="image/jpeg"/>
  <Override PartName="/ppt/media/image5.jpeg" ContentType="image/jpeg"/>
  <Override PartName="/ppt/media/nikos%20ignatiadis.the%20beginning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6F7-7E9D-40A8-9D52-EF9B1ADF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39-B322-4025-8899-3DF6574A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BAB-240C-4AD0-A0A6-D254C3DA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6AA-8DE3-454F-94DB-58F09A23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41E-EE97-4143-94F7-F2D087A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CD2-731A-4C5F-AA0B-C81AA248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AAE-33D0-4285-A747-3C02530F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E9E-2870-4126-9D19-EAA442D0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5F3-F025-45F1-8EE0-318E0865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6FE-4C30-4216-9CAE-EFC3C6B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C09-476F-411A-B811-42A53A8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C99-CC6E-434D-9D33-DA8275EF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D126-C4F7-460C-9EF7-AEC3F483CF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nikos%20ignatiadis.the%20beginning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27000" tIns="-392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27000" tIns="-392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124000" y="508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101ff"/>
                </a:solidFill>
                <a:uFillTx/>
                <a:latin typeface="Comic Sans MS"/>
              </a:rPr>
              <a:t>Música: Nikos Ignatia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2195640" y="2421000"/>
            <a:ext cx="409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tos curtos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3924360" y="3573360"/>
            <a:ext cx="4238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Tony de Mell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WordArt 17"/>
          <p:cNvSpPr txBox="1"/>
          <p:nvPr/>
        </p:nvSpPr>
        <p:spPr>
          <a:xfrm>
            <a:off x="4067280" y="1413000"/>
            <a:ext cx="4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horz"/>
    <p:sndAc>
      <p:stSnd>
        <p:snd r:embed="rId8" name="nikos%20ignatiadis.the%20beginn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0" y="3783240"/>
            <a:ext cx="7020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Um urso percorria constanteme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para cima e para baix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s seis metros de comprimento da jaul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Quando, ao fim de cinco anos, o tiraram da jau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 urso continuou a percorrer, para cima e para baix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12b56"/>
                </a:solidFill>
                <a:latin typeface="Comic Sans MS"/>
                <a:ea typeface="SimSun"/>
              </a:rPr>
              <a:t>os mesmos seis metros, como se ainda estivesse na jaul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12b56"/>
                </a:solidFill>
                <a:uFillTx/>
                <a:latin typeface="Comic Sans MS"/>
                <a:ea typeface="SimSun"/>
              </a:rPr>
              <a:t>… </a:t>
            </a:r>
            <a:r>
              <a:rPr b="1" lang="es-ES" sz="2000" spc="-1" strike="noStrike" u="sng">
                <a:solidFill>
                  <a:srgbClr val="812b56"/>
                </a:solidFill>
                <a:uFillTx/>
                <a:latin typeface="Comic Sans MS"/>
                <a:ea typeface="SimSun"/>
              </a:rPr>
              <a:t>E estava... Para ele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55120" y="476280"/>
            <a:ext cx="325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As pare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que nos aprision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são ment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66"/>
                </a:solidFill>
                <a:uFillTx/>
                <a:latin typeface="Comic Sans MS"/>
              </a:rPr>
              <a:t>não reai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alomad"/>
          <p:cNvPicPr/>
          <p:nvPr/>
        </p:nvPicPr>
        <p:blipFill>
          <a:blip r:embed="rId2"/>
          <a:stretch/>
        </p:blipFill>
        <p:spPr>
          <a:xfrm>
            <a:off x="-576360" y="-851040"/>
            <a:ext cx="115272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4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4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2680" y="33336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Nossos inimigos não são os que nos odeiam,</a:t>
            </a:r>
            <a:br>
              <a:rPr sz="2400"/>
            </a:br>
            <a:r>
              <a:rPr b="1" lang="es-ES" sz="2400" spc="-1" strike="noStrike" u="sng">
                <a:solidFill>
                  <a:srgbClr val="cc0066"/>
                </a:solidFill>
                <a:uFillTx/>
                <a:latin typeface="Comic Sans MS"/>
              </a:rPr>
              <a:t>mas aqueles que nós odia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2052360"/>
            <a:ext cx="6372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Um ex-prisioneiro de gu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foi visitar un amigo que havia compartilhado com      ele tão penosa experiência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Já esqueceste a prisão durante a guerra?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perguntou ao seu am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Sim”, disse o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Pois eu ainda não. Ainda continuo a odiar todos aqueles que nos aprisionaram com toda a minha alma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Seu amigo disse-lhe calm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”</a:t>
            </a:r>
            <a:r>
              <a:rPr b="1" lang="es-ES" sz="1800" spc="-1" strike="noStrike">
                <a:solidFill>
                  <a:srgbClr val="cc0066"/>
                </a:solidFill>
                <a:latin typeface="Comic Sans MS"/>
              </a:rPr>
              <a:t>Então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cc0066"/>
                </a:solidFill>
                <a:uFillTx/>
                <a:latin typeface="Comic Sans MS"/>
              </a:rPr>
              <a:t> </a:t>
            </a:r>
            <a:r>
              <a:rPr b="1" lang="es-ES" sz="2000" spc="-1" strike="noStrike" u="sng">
                <a:solidFill>
                  <a:srgbClr val="cc0066"/>
                </a:solidFill>
                <a:uFillTx/>
                <a:latin typeface="Comic Sans MS"/>
              </a:rPr>
              <a:t>ainda te mantens prisioneiro”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-214200" y="4327560"/>
            <a:ext cx="7192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-“Perdoe-me, senhor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disse o tímido estudan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mas eu não fui capaz de decif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o que me escreveu na margem</a:t>
            </a:r>
            <a:br>
              <a:rPr sz="1800"/>
            </a:b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do meu último exame...”</a:t>
            </a:r>
            <a:br>
              <a:rPr sz="1800"/>
            </a:br>
            <a:br>
              <a:rPr sz="1800"/>
            </a:br>
            <a:r>
              <a:rPr b="1" lang="es-ES" sz="1800" spc="-1" strike="noStrike" u="sng">
                <a:solidFill>
                  <a:srgbClr val="990000"/>
                </a:solidFill>
                <a:uFillTx/>
                <a:latin typeface="Comic Sans MS"/>
              </a:rPr>
              <a:t>-“Eu te dizia que escrevesses de um modo </a:t>
            </a:r>
            <a:r>
              <a:rPr b="1" lang="es-ES" sz="2000" spc="-1" strike="noStrike" u="sng">
                <a:solidFill>
                  <a:srgbClr val="990000"/>
                </a:solidFill>
                <a:uFillTx/>
                <a:latin typeface="Comic Sans MS"/>
              </a:rPr>
              <a:t>mais legível</a:t>
            </a:r>
            <a:r>
              <a:rPr b="1" lang="es-ES" sz="1800" spc="-1" strike="noStrike" u="sng">
                <a:solidFill>
                  <a:srgbClr val="990000"/>
                </a:solidFill>
                <a:uFillTx/>
                <a:latin typeface="Comic Sans MS"/>
              </a:rPr>
              <a:t>”,</a:t>
            </a: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Comic Sans MS"/>
              </a:rPr>
              <a:t>Respondeu-lhe o profes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91600" y="1989000"/>
            <a:ext cx="525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A maior parte das v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os defeitos que vemos nos outros</a:t>
            </a:r>
            <a:br>
              <a:rPr sz="2400"/>
            </a:br>
            <a:r>
              <a:rPr b="1" lang="es-ES" sz="2400" spc="-1" strike="noStrike" u="sng">
                <a:solidFill>
                  <a:srgbClr val="006600"/>
                </a:solidFill>
                <a:uFillTx/>
                <a:latin typeface="Comic Sans MS"/>
              </a:rPr>
              <a:t>são os nossos próprios defeitos</a:t>
            </a:r>
            <a:r>
              <a:rPr b="1" lang="es-ES" sz="24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0800" y="2024280"/>
            <a:ext cx="7893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 Peste dirigia-se para Damasco e passou velozmente junto à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enda do chefe de uma caravana no deserto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Aonde vais com tanta pressa?” Perguntou-lhe o chefe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A Damasco. Penso cobrar um milhar de vidas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No regresso de Damasco, a Peste passou de novo junto à carav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Então, o chefe disse-l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Eu já sei que cobraste 50.000 vid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não o milhar que havias dito!.”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Não,” respondeu-lhe a Pe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-“Eu só cobrei mil v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s restantes levou-as o Med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395440" y="260280"/>
            <a:ext cx="32878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O poder do m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-828720" y="1639800"/>
            <a:ext cx="79218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Dizia um velho que só se havia queixado uma 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m toda a sua vid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Foi quando ia com os pés descal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 não tinha dinheiro para comprar sapato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a006a"/>
                </a:solidFill>
                <a:latin typeface="Comic Sans MS"/>
              </a:rPr>
              <a:t>Então, viu um homem feliz que não tinha pé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a006a"/>
                </a:solidFill>
                <a:uFillTx/>
                <a:latin typeface="Comic Sans MS"/>
              </a:rPr>
              <a:t>E nunca mais voltou a queixar-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059200" y="260280"/>
            <a:ext cx="19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3300"/>
                </a:solidFill>
                <a:uFillTx/>
                <a:latin typeface="Comic Sans MS"/>
                <a:ea typeface="FangSong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3300"/>
                </a:solidFill>
                <a:uFillTx/>
                <a:latin typeface="Comic Sans MS"/>
                <a:ea typeface="FangSong"/>
              </a:rPr>
              <a:t>Feli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216000" y="1240200"/>
            <a:ext cx="88200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Estava o filósofo Diógenes comendo lentilhas quando viu o filósofo Aristipo, que vivia, confortavelmente, com base em lisonjear o rei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E Aristipo disse-lh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Se aprendesses a ser submisso ao re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não terias que comer esse lixo de lentilhas".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Comic Sans MS"/>
              </a:rPr>
              <a:t>Ao que Diógenes replico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“</a:t>
            </a: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Se tivesses aprendido a comer lentilh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0000"/>
                </a:solidFill>
                <a:uFillTx/>
                <a:latin typeface="Comic Sans MS"/>
              </a:rPr>
              <a:t>não terias que bajular o rei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343680" y="355680"/>
            <a:ext cx="182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00"/>
                </a:solidFill>
                <a:uFillTx/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00"/>
                </a:solidFill>
                <a:uFillTx/>
                <a:latin typeface="Comic Sans MS"/>
              </a:rPr>
              <a:t>Dióge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6"/>
          <p:cNvPicPr/>
          <p:nvPr/>
        </p:nvPicPr>
        <p:blipFill>
          <a:blip r:embed="rId1"/>
          <a:stretch/>
        </p:blipFill>
        <p:spPr>
          <a:xfrm>
            <a:off x="0" y="-19044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903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gatohamaca"/>
          <p:cNvPicPr/>
          <p:nvPr/>
        </p:nvPicPr>
        <p:blipFill>
          <a:blip r:embed="rId2"/>
          <a:stretch/>
        </p:blipFill>
        <p:spPr>
          <a:xfrm>
            <a:off x="6012000" y="5673600"/>
            <a:ext cx="1296720" cy="106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n"/>
          <p:cNvPicPr/>
          <p:nvPr/>
        </p:nvPicPr>
        <p:blipFill>
          <a:blip r:embed="rId3"/>
          <a:stretch/>
        </p:blipFill>
        <p:spPr>
          <a:xfrm>
            <a:off x="1547640" y="6093000"/>
            <a:ext cx="195480" cy="28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a"/>
          <p:cNvPicPr/>
          <p:nvPr/>
        </p:nvPicPr>
        <p:blipFill>
          <a:blip r:embed="rId4"/>
          <a:stretch/>
        </p:blipFill>
        <p:spPr>
          <a:xfrm>
            <a:off x="1763640" y="6093000"/>
            <a:ext cx="204840" cy="287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n"/>
          <p:cNvPicPr/>
          <p:nvPr/>
        </p:nvPicPr>
        <p:blipFill>
          <a:blip r:embed="rId5"/>
          <a:stretch/>
        </p:blipFill>
        <p:spPr>
          <a:xfrm>
            <a:off x="2050920" y="6093000"/>
            <a:ext cx="19224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d"/>
          <p:cNvPicPr/>
          <p:nvPr/>
        </p:nvPicPr>
        <p:blipFill>
          <a:blip r:embed="rId6"/>
          <a:stretch/>
        </p:blipFill>
        <p:spPr>
          <a:xfrm>
            <a:off x="2268360" y="6093000"/>
            <a:ext cx="198720" cy="2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a"/>
          <p:cNvPicPr/>
          <p:nvPr/>
        </p:nvPicPr>
        <p:blipFill>
          <a:blip r:embed="rId7"/>
          <a:stretch/>
        </p:blipFill>
        <p:spPr>
          <a:xfrm>
            <a:off x="2484360" y="6093000"/>
            <a:ext cx="212760" cy="285480"/>
          </a:xfrm>
          <a:prstGeom prst="rect">
            <a:avLst/>
          </a:prstGeom>
          <a:ln w="0">
            <a:noFill/>
          </a:ln>
        </p:spPr>
      </p:pic>
      <p:sp>
        <p:nvSpPr>
          <p:cNvPr id="82" name="WordArt 19"/>
          <p:cNvSpPr txBox="1"/>
          <p:nvPr/>
        </p:nvSpPr>
        <p:spPr>
          <a:xfrm>
            <a:off x="2771640" y="476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Que tenhas </a:t>
            </a:r>
            <a:endParaRPr b="1" lang="en-US" sz="2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3" name="WordArt 20"/>
          <p:cNvSpPr txBox="1"/>
          <p:nvPr/>
        </p:nvSpPr>
        <p:spPr>
          <a:xfrm>
            <a:off x="3564000" y="1484280"/>
            <a:ext cx="280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um bom </a:t>
            </a:r>
            <a:endParaRPr b="0" lang="en-US" sz="2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4" name="WordArt 21"/>
          <p:cNvSpPr txBox="1"/>
          <p:nvPr/>
        </p:nvSpPr>
        <p:spPr>
          <a:xfrm>
            <a:off x="6300720" y="227664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dia</a:t>
            </a:r>
            <a:endParaRPr b="0" lang="en-US" sz="32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5" name="WordArt 22"/>
          <p:cNvSpPr txBox="1"/>
          <p:nvPr/>
        </p:nvSpPr>
        <p:spPr>
          <a:xfrm>
            <a:off x="539640" y="537372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oper Black"/>
              </a:rPr>
              <a:t>Presentación:</a:t>
            </a:r>
            <a:endParaRPr b="0" lang="en-US" sz="2400" spc="1" strike="noStrike"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6" name="CaixaDeTexto 16"/>
          <p:cNvSpPr/>
          <p:nvPr/>
        </p:nvSpPr>
        <p:spPr>
          <a:xfrm>
            <a:off x="356760" y="652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92d050"/>
                </a:solidFill>
                <a:latin typeface="Baveuse"/>
              </a:rPr>
              <a:t>d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0070c0"/>
                </a:solidFill>
                <a:latin typeface="Baveuse"/>
              </a:rPr>
              <a:t>p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t</a:t>
            </a:r>
            <a:r>
              <a:rPr b="0" lang="pt-PT" sz="1800" spc="-1" strike="noStrike">
                <a:solidFill>
                  <a:srgbClr val="002060"/>
                </a:solidFill>
                <a:latin typeface="Baveuse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ç</a:t>
            </a:r>
            <a:r>
              <a:rPr b="0" lang="pt-PT" sz="1800" spc="-1" strike="noStrike">
                <a:solidFill>
                  <a:srgbClr val="0070c0"/>
                </a:solidFill>
                <a:latin typeface="Baveuse"/>
              </a:rPr>
              <a:t>ã</a:t>
            </a:r>
            <a:r>
              <a:rPr b="0" lang="pt-PT" sz="1800" spc="-1" strike="noStrike">
                <a:solidFill>
                  <a:srgbClr val="ff0000"/>
                </a:solidFill>
                <a:latin typeface="Baveuse"/>
              </a:rPr>
              <a:t>o: </a:t>
            </a:r>
            <a:r>
              <a:rPr b="0" lang="pt-PT" sz="1800" spc="-1" strike="noStrike">
                <a:solidFill>
                  <a:srgbClr val="ff0000"/>
                </a:solidFill>
                <a:latin typeface="Lucida Calligraphy"/>
              </a:rPr>
              <a:t>I</a:t>
            </a:r>
            <a:r>
              <a:rPr b="0" lang="pt-PT" sz="1800" spc="-1" strike="noStrike">
                <a:solidFill>
                  <a:srgbClr val="00b050"/>
                </a:solidFill>
                <a:latin typeface="Lucida Calligraphy"/>
              </a:rPr>
              <a:t>A</a:t>
            </a:r>
            <a:r>
              <a:rPr b="0" lang="pt-PT" sz="1800" spc="-1" strike="noStrike">
                <a:solidFill>
                  <a:srgbClr val="ff0000"/>
                </a:solidFill>
                <a:latin typeface="Lucida Calligraphy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ângulo 4"/>
          <p:cNvSpPr/>
          <p:nvPr/>
        </p:nvSpPr>
        <p:spPr>
          <a:xfrm>
            <a:off x="974880" y="2349360"/>
            <a:ext cx="601164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4"/>
          <p:cNvSpPr/>
          <p:nvPr/>
        </p:nvSpPr>
        <p:spPr>
          <a:xfrm>
            <a:off x="1884240" y="4830840"/>
            <a:ext cx="4559400" cy="46044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917640" y="620640"/>
            <a:ext cx="76327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Receba duas mensagens semanais gratuitas, uma na segunda-feira e outra na sexta.  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1"/>
              </a:rPr>
              <a:t>powerpointsemanal-subscribe@yahoogrupos.com.br</a:t>
            </a: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Acesse:  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Segoe UI Symbol"/>
                <a:ea typeface="Segoe UI Symbol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16:56Z</dcterms:created>
  <dc:creator>Nanda</dc:creator>
  <dc:description/>
  <dc:language>en-US</dc:language>
  <cp:lastModifiedBy>Sergio Camargos</cp:lastModifiedBy>
  <dcterms:modified xsi:type="dcterms:W3CDTF">2013-05-27T14:50:39Z</dcterms:modified>
  <cp:revision>16</cp:revision>
  <dc:subject/>
  <dc:title>6 CUENTOS CORTOS DE TONY DE MELLO</dc:title>
</cp:coreProperties>
</file>