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gif" ContentType="image/gif"/>
  <Override PartName="/ppt/media/image1.jpeg" ContentType="image/jpeg"/>
  <Override PartName="/ppt/media/image5.jpeg" ContentType="image/jpeg"/>
  <Override PartName="/ppt/media/nikos%20ignatiadis.the%20beginning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87A-78CD-4F10-A778-7B14463D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6B0-E8B4-435F-892B-9F67204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BB2-30B5-4035-A251-DAF937B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E2A-80A3-4088-A032-9029184D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EF9-3B5E-45B1-BAEC-7B6974C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449-6069-4E18-81E6-F0A6661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349-4D5E-48E0-9198-6582514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C79-9D6F-4063-A0F2-061BFEB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731-CDA2-4BA4-8925-8B75A38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91C-68F9-4D40-950B-3299BAB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846-B4D8-434B-9D69-5AB01D4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396-1389-4424-A7F2-348B811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7B4-DF1B-40FB-84E4-481E39632A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nikos%20ignatiadis.the%20beginning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27000" tIns="-392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27000" tIns="-392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124000" y="508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101ff"/>
                </a:solidFill>
                <a:uFillTx/>
                <a:latin typeface="Comic Sans MS"/>
              </a:rPr>
              <a:t>Música: Nikos Ignatia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2195640" y="2421000"/>
            <a:ext cx="409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os curtos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3924360" y="3573360"/>
            <a:ext cx="4238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Tony de Mell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17"/>
          <p:cNvSpPr txBox="1"/>
          <p:nvPr/>
        </p:nvSpPr>
        <p:spPr>
          <a:xfrm>
            <a:off x="4067280" y="1413000"/>
            <a:ext cx="4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horz"/>
    <p:sndAc>
      <p:stSnd>
        <p:snd r:embed="rId8" name="nikos%20ignatiadis.the%20beginn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3783240"/>
            <a:ext cx="7020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Um urso percorria constantem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para cima e para baix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s seis metros de comprimento da jaul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Quando, ao fim de cinco anos, o tiraram da jau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 urso continuou a percorrer, para cima e para baix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s mesmos seis metros, como se ainda estivesse na jaul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12b56"/>
                </a:solidFill>
                <a:uFillTx/>
                <a:latin typeface="Comic Sans MS"/>
                <a:ea typeface="SimSun"/>
              </a:rPr>
              <a:t>… </a:t>
            </a:r>
            <a:r>
              <a:rPr b="1" lang="es-ES" sz="2000" spc="-1" strike="noStrike" u="sng">
                <a:solidFill>
                  <a:srgbClr val="812b56"/>
                </a:solidFill>
                <a:uFillTx/>
                <a:latin typeface="Comic Sans MS"/>
                <a:ea typeface="SimSun"/>
              </a:rPr>
              <a:t>E estava... Para el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55120" y="476280"/>
            <a:ext cx="325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As pare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que nos aprision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são ment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não reai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alomad"/>
          <p:cNvPicPr/>
          <p:nvPr/>
        </p:nvPicPr>
        <p:blipFill>
          <a:blip r:embed="rId2"/>
          <a:stretch/>
        </p:blipFill>
        <p:spPr>
          <a:xfrm>
            <a:off x="-576360" y="-851040"/>
            <a:ext cx="11527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4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4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2680" y="33336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Nossos inimigos não são os que nos odeiam,</a:t>
            </a:r>
            <a:br>
              <a:rPr sz="2400"/>
            </a:b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mas aqueles que nós odia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2052360"/>
            <a:ext cx="6372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Um ex-prisioneiro de gu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foi visitar un amigo que havia compartilhado com      ele tão penosa experiênci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Já esqueceste a prisão durante a guerra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perguntou ao seu am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Sim”, disse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Pois eu ainda não. Ainda continuo a odiar todos aqueles que nos aprisionaram com toda a minha alma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Seu amigo disse-lhe calm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Então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c0066"/>
                </a:solidFill>
                <a:uFillTx/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cc0066"/>
                </a:solidFill>
                <a:uFillTx/>
                <a:latin typeface="Comic Sans MS"/>
              </a:rPr>
              <a:t>ainda te mantens prisioneiro”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-214200" y="4327560"/>
            <a:ext cx="7192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-“Perdoe-me, senhor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disse o tímido estuda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mas eu não fui capaz de decif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o que me escreveu na margem</a:t>
            </a:r>
            <a:br>
              <a:rPr sz="1800"/>
            </a:b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do meu último exame...”</a:t>
            </a:r>
            <a:br>
              <a:rPr sz="1800"/>
            </a:br>
            <a:br>
              <a:rPr sz="1800"/>
            </a:br>
            <a:r>
              <a:rPr b="1" lang="es-ES" sz="1800" spc="-1" strike="noStrike" u="sng">
                <a:solidFill>
                  <a:srgbClr val="990000"/>
                </a:solidFill>
                <a:uFillTx/>
                <a:latin typeface="Comic Sans MS"/>
              </a:rPr>
              <a:t>-“Eu te dizia que escrevesses de um modo </a:t>
            </a:r>
            <a:r>
              <a:rPr b="1" lang="es-ES" sz="2000" spc="-1" strike="noStrike" u="sng">
                <a:solidFill>
                  <a:srgbClr val="990000"/>
                </a:solidFill>
                <a:uFillTx/>
                <a:latin typeface="Comic Sans MS"/>
              </a:rPr>
              <a:t>mais legível</a:t>
            </a:r>
            <a:r>
              <a:rPr b="1" lang="es-ES" sz="1800" spc="-1" strike="noStrike" u="sng">
                <a:solidFill>
                  <a:srgbClr val="990000"/>
                </a:solidFill>
                <a:uFillTx/>
                <a:latin typeface="Comic Sans MS"/>
              </a:rPr>
              <a:t>”,</a:t>
            </a: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Respondeu-lhe o prof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91600" y="1989000"/>
            <a:ext cx="525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A maior parte das v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os defeitos que vemos nos outros</a:t>
            </a:r>
            <a:br>
              <a:rPr sz="2400"/>
            </a:b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são os nossos próprios defeitos</a:t>
            </a:r>
            <a:r>
              <a:rPr b="1" lang="es-ES" sz="24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0800" y="2024280"/>
            <a:ext cx="7893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 Peste dirigia-se para Damasco e passou velozmente junto à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enda do chefe de uma caravana no desert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Aonde vais com tanta pressa?” Perguntou-lhe o chefe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A Damasco. Penso cobrar um milhar de vidas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No regresso de Damasco, a Peste passou de novo junto à carav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tão, o chefe disse-l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Eu já sei que cobraste 50.000 vid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não o milhar que havias dito!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Não,” respondeu-lhe a Pe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Eu só cobrei mil v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s restantes levou-as o Me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395440" y="260280"/>
            <a:ext cx="32878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O poder do m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-828720" y="1639800"/>
            <a:ext cx="79218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Dizia um velho que só se havia queixado uma 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m toda a sua vi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Foi quando ia com os pés descal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 não tinha dinheiro para comprar sapat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ntão, viu um homem feliz que não tinha pé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a006a"/>
                </a:solidFill>
                <a:uFillTx/>
                <a:latin typeface="Comic Sans MS"/>
              </a:rPr>
              <a:t>E nunca mais voltou a queix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059200" y="26028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3300"/>
                </a:solidFill>
                <a:uFillTx/>
                <a:latin typeface="Comic Sans MS"/>
                <a:ea typeface="FangSong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3300"/>
                </a:solidFill>
                <a:uFillTx/>
                <a:latin typeface="Comic Sans MS"/>
                <a:ea typeface="FangSong"/>
              </a:rPr>
              <a:t>Feli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16000" y="1240200"/>
            <a:ext cx="88200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Estava o filósofo Diógenes comendo lentilhas quando viu o filósofo Aristipo, que vivia, confortavelmente, com base em lisonjear o rei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E Aristipo disse-l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Se aprendesses a ser submisso ao re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não terias que comer esse lixo de lentilhas"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Ao que Diógenes replico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“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Se tivesses aprendido a comer lentilh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não terias que bajular o rei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43680" y="355680"/>
            <a:ext cx="182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00"/>
                </a:solidFill>
                <a:uFillTx/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00"/>
                </a:solidFill>
                <a:uFillTx/>
                <a:latin typeface="Comic Sans MS"/>
              </a:rPr>
              <a:t>Dióge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6"/>
          <p:cNvPicPr/>
          <p:nvPr/>
        </p:nvPicPr>
        <p:blipFill>
          <a:blip r:embed="rId1"/>
          <a:stretch/>
        </p:blipFill>
        <p:spPr>
          <a:xfrm>
            <a:off x="0" y="-19044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903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gatohamaca"/>
          <p:cNvPicPr/>
          <p:nvPr/>
        </p:nvPicPr>
        <p:blipFill>
          <a:blip r:embed="rId2"/>
          <a:stretch/>
        </p:blipFill>
        <p:spPr>
          <a:xfrm>
            <a:off x="6012000" y="5673600"/>
            <a:ext cx="1296720" cy="106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n"/>
          <p:cNvPicPr/>
          <p:nvPr/>
        </p:nvPicPr>
        <p:blipFill>
          <a:blip r:embed="rId3"/>
          <a:stretch/>
        </p:blipFill>
        <p:spPr>
          <a:xfrm>
            <a:off x="1547640" y="6093000"/>
            <a:ext cx="195480" cy="28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a"/>
          <p:cNvPicPr/>
          <p:nvPr/>
        </p:nvPicPr>
        <p:blipFill>
          <a:blip r:embed="rId4"/>
          <a:stretch/>
        </p:blipFill>
        <p:spPr>
          <a:xfrm>
            <a:off x="1763640" y="609300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n"/>
          <p:cNvPicPr/>
          <p:nvPr/>
        </p:nvPicPr>
        <p:blipFill>
          <a:blip r:embed="rId5"/>
          <a:stretch/>
        </p:blipFill>
        <p:spPr>
          <a:xfrm>
            <a:off x="2050920" y="60930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d"/>
          <p:cNvPicPr/>
          <p:nvPr/>
        </p:nvPicPr>
        <p:blipFill>
          <a:blip r:embed="rId6"/>
          <a:stretch/>
        </p:blipFill>
        <p:spPr>
          <a:xfrm>
            <a:off x="2268360" y="6093000"/>
            <a:ext cx="198720" cy="2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a"/>
          <p:cNvPicPr/>
          <p:nvPr/>
        </p:nvPicPr>
        <p:blipFill>
          <a:blip r:embed="rId7"/>
          <a:stretch/>
        </p:blipFill>
        <p:spPr>
          <a:xfrm>
            <a:off x="2484360" y="6093000"/>
            <a:ext cx="212760" cy="285480"/>
          </a:xfrm>
          <a:prstGeom prst="rect">
            <a:avLst/>
          </a:prstGeom>
          <a:ln w="0">
            <a:noFill/>
          </a:ln>
        </p:spPr>
      </p:pic>
      <p:sp>
        <p:nvSpPr>
          <p:cNvPr id="82" name="WordArt 19"/>
          <p:cNvSpPr txBox="1"/>
          <p:nvPr/>
        </p:nvSpPr>
        <p:spPr>
          <a:xfrm>
            <a:off x="2771640" y="476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Que tenhas </a:t>
            </a:r>
            <a:endParaRPr b="1" lang="en-US" sz="2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3" name="WordArt 20"/>
          <p:cNvSpPr txBox="1"/>
          <p:nvPr/>
        </p:nvSpPr>
        <p:spPr>
          <a:xfrm>
            <a:off x="3564000" y="1484280"/>
            <a:ext cx="280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um bom </a:t>
            </a:r>
            <a:endParaRPr b="0" lang="en-US" sz="2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4" name="WordArt 21"/>
          <p:cNvSpPr txBox="1"/>
          <p:nvPr/>
        </p:nvSpPr>
        <p:spPr>
          <a:xfrm>
            <a:off x="6300720" y="227664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dia</a:t>
            </a:r>
            <a:endParaRPr b="0" lang="en-US" sz="32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5" name="WordArt 22"/>
          <p:cNvSpPr txBox="1"/>
          <p:nvPr/>
        </p:nvSpPr>
        <p:spPr>
          <a:xfrm>
            <a:off x="539640" y="537372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Presentación:</a:t>
            </a:r>
            <a:endParaRPr b="0" lang="en-US" sz="2400" spc="1" strike="noStrike"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6" name="CaixaDeTexto 16"/>
          <p:cNvSpPr/>
          <p:nvPr/>
        </p:nvSpPr>
        <p:spPr>
          <a:xfrm>
            <a:off x="356760" y="652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92d050"/>
                </a:solidFill>
                <a:latin typeface="Baveuse"/>
              </a:rPr>
              <a:t>d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0070c0"/>
                </a:solidFill>
                <a:latin typeface="Baveuse"/>
              </a:rPr>
              <a:t>p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t</a:t>
            </a:r>
            <a:r>
              <a:rPr b="0" lang="pt-PT" sz="1800" spc="-1" strike="noStrike">
                <a:solidFill>
                  <a:srgbClr val="00206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ç</a:t>
            </a:r>
            <a:r>
              <a:rPr b="0" lang="pt-PT" sz="1800" spc="-1" strike="noStrike">
                <a:solidFill>
                  <a:srgbClr val="0070c0"/>
                </a:solidFill>
                <a:latin typeface="Baveuse"/>
              </a:rPr>
              <a:t>ã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o: </a:t>
            </a:r>
            <a:r>
              <a:rPr b="0" lang="pt-PT" sz="1800" spc="-1" strike="noStrike">
                <a:solidFill>
                  <a:srgbClr val="ff0000"/>
                </a:solidFill>
                <a:latin typeface="Lucida Calligraphy"/>
              </a:rPr>
              <a:t>I</a:t>
            </a:r>
            <a:r>
              <a:rPr b="0" lang="pt-PT" sz="1800" spc="-1" strike="noStrike">
                <a:solidFill>
                  <a:srgbClr val="00b050"/>
                </a:solidFill>
                <a:latin typeface="Lucida Calligraphy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Lucida Calligraphy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4"/>
          <p:cNvSpPr/>
          <p:nvPr/>
        </p:nvSpPr>
        <p:spPr>
          <a:xfrm>
            <a:off x="1884240" y="4830840"/>
            <a:ext cx="455940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917640" y="620640"/>
            <a:ext cx="7632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16:56Z</dcterms:created>
  <dc:creator>Nanda</dc:creator>
  <dc:description/>
  <dc:language>en-US</dc:language>
  <cp:lastModifiedBy>Sergio Camargos</cp:lastModifiedBy>
  <dcterms:modified xsi:type="dcterms:W3CDTF">2013-05-27T14:50:39Z</dcterms:modified>
  <cp:revision>16</cp:revision>
  <dc:subject/>
  <dc:title>6 CUENTOS CORTOS DE TONY DE MELLO</dc:title>
</cp:coreProperties>
</file>