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%20Califfa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A06-9F02-466C-8910-A5224BCD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A6D-71CD-48C3-9B26-8124FC66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EAE-5FC9-4C08-8A99-2AFB720D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E40-F9AE-4994-BA6A-2FDB6BEF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2BA-A26A-4C33-9055-815F0970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198-0B91-418B-87FC-C8FB896A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A25-7B2B-4F1F-86C5-048DC4ED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DFF-3BFE-4E8A-9583-7D7F5BE8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134-DB4E-4CE8-8A9C-BC708BAF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AC4-76EB-4C05-B0DC-C8FC80FF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6BD-47CC-4224-9C1E-CFBB7318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B86-DC5F-431B-AAF9-A8966735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51D4-6495-4369-8D79-180CF22D0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La%20Califf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E8-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876920" y="1295280"/>
            <a:ext cx="3809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NJOS</a:t>
            </a:r>
            <a:endParaRPr b="0" lang="en-US" sz="4800" spc="1" strike="noStrike">
              <a:ln w="936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86400" y="4800600"/>
            <a:ext cx="3200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b2b2b2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2800" spc="1" strike="noStrike">
              <a:ln w="9360">
                <a:solidFill>
                  <a:srgbClr val="b2b2b2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  <p:sndAc>
      <p:stSnd>
        <p:snd r:embed="rId6" name="La%20Califf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00226789-001" descr=""/>
          <p:cNvPicPr/>
          <p:nvPr/>
        </p:nvPicPr>
        <p:blipFill>
          <a:blip r:embed="rId1"/>
          <a:srcRect l="0" t="661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5040" y="954000"/>
            <a:ext cx="49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m nunca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ntiu sozinho e desampar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m nunca senti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m algum momento que havia a impressão que tinha                chegado ao fim do caminho e que não tinha mais soluçã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00272215-003" descr=""/>
          <p:cNvPicPr/>
          <p:nvPr/>
        </p:nvPicPr>
        <p:blipFill>
          <a:blip r:embed="rId1"/>
          <a:srcRect l="0" t="74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040" y="457200"/>
            <a:ext cx="451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r seja por u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usa grave, ou por outras menos grav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odos já nos sentimos assim. Quando adolescentes,      mesmo a dor de amor perdido pode nos dar essa impressão. Pensamos que nunca mais va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ncontrar outra pessoa, que nunca mais va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mar outro alguém. Tudo tem uma forma tão grande e exagerada que toma conta da g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00209001-001" descr=""/>
          <p:cNvPicPr/>
          <p:nvPr/>
        </p:nvPicPr>
        <p:blipFill>
          <a:blip r:embed="rId1"/>
          <a:srcRect l="0" t="95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9080" y="649440"/>
            <a:ext cx="4282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uitas vezes 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esperamos e sofremos antecipadamente               por coisas que colocamos na nossa cabeça,              mas que na realidade nunca chegam na noss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esses momentos         sentimos uma sensação de solidão profunda,                de abandono. Tudo parece opaco, sem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A010312" descr=""/>
          <p:cNvPicPr/>
          <p:nvPr/>
        </p:nvPicPr>
        <p:blipFill>
          <a:blip r:embed="rId1"/>
          <a:srcRect l="0" t="101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9080" y="1066680"/>
            <a:ext cx="4359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smo nos momentos mais difíceis da nos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istência, nunca estamos sozinhos. Me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ando não vemos ninguém ao nosso la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lguém certamente está lá e nos olha com 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lhos cheios de amor, simplesmente esperando que a gente se entre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exph005_038" descr=""/>
          <p:cNvPicPr/>
          <p:nvPr/>
        </p:nvPicPr>
        <p:blipFill>
          <a:blip r:embed="rId1"/>
          <a:srcRect l="0" t="95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080" y="496800"/>
            <a:ext cx="3825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É reconfortante sa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 reconhecer que nunca estamos sozinhos.       Poder reconhecer que estamos fra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 frágeis, mas saber que existe uma Mão Invisível segurando a nossa,       um Colo confortável e um peito cheio de             amor e compaix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A012856" descr=""/>
          <p:cNvPicPr/>
          <p:nvPr/>
        </p:nvPicPr>
        <p:blipFill>
          <a:blip r:embed="rId1"/>
          <a:srcRect l="0" t="702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040" y="496800"/>
            <a:ext cx="443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á uma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erdade, mas que poucas pessoas sabem: De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ma mesmo aqueles que não acreditam nEle,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e cuida mesmo daqueles que não sab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 não estão sozinhos; ele está sempre presente, mesmo q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lhamos à nossa volta e tudo parece vaz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ha227000009" descr=""/>
          <p:cNvPicPr/>
          <p:nvPr/>
        </p:nvPicPr>
        <p:blipFill>
          <a:blip r:embed="rId1"/>
          <a:srcRect l="0" t="716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5040" y="1030320"/>
            <a:ext cx="397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á pessoa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creditam em Deus, mas não em Anjos.                   Mas segundo a Bíblia: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O Anjo do Senhor           acampa-se ao redor dos que O temem                     e os livra”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Então por que não acreditar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exph047_059" descr=""/>
          <p:cNvPicPr/>
          <p:nvPr/>
        </p:nvPicPr>
        <p:blipFill>
          <a:blip r:embed="rId1"/>
          <a:srcRect l="0" t="95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38480" y="304920"/>
            <a:ext cx="4724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 qualquer maneira, a verdade é que a solidão não existe. O que existe é a sensação de solidão e abandono. Nem existem as dores que doem eternamente. Se você um dia se sentir assim, abra os olhos da sua alma e tenha certeza que ao seu lado Alguém vai estar cuidando de você. Deixe-se amar e acalentar. Durma tranqüilo e repouse na certeza que quando acordar terá uma outra visão do seu próprio mu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360" y="4572000"/>
            <a:ext cx="3232080" cy="9464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Formatação: 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Música: La Cali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21:34:19Z</dcterms:created>
  <dc:creator>Beth Norling</dc:creator>
  <dc:description/>
  <dc:language>en-US</dc:language>
  <cp:lastModifiedBy>Usuário</cp:lastModifiedBy>
  <dcterms:modified xsi:type="dcterms:W3CDTF">2006-10-24T18:01:12Z</dcterms:modified>
  <cp:revision>5</cp:revision>
  <dc:subject/>
  <dc:title>Anjos</dc:title>
</cp:coreProperties>
</file>