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%20Califf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694-0C6F-4A5D-820B-DB505602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3AE-ED45-4F71-B9F9-E847DB7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919-2DDF-440C-BE39-C78F14DC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438-D9C4-48AA-97A0-7B397211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A8E-D4E8-4266-BF95-1A85D6ED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2A5-E2E4-4494-9C78-32040EF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5C4-DE56-45F3-860C-ED45E7BC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452-707C-4A6C-B49E-BB528C68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B5C-4AF5-4859-838C-84301791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F14-85C4-48B1-B335-658221E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4D0-78DC-41C9-B08A-83AF7E7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123-5097-4538-825D-97750FC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401F-02E6-4E4C-86B0-5326FE39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La%20Califf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8-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76920" y="1295280"/>
            <a:ext cx="3809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JOS</a:t>
            </a:r>
            <a:endParaRPr b="0" lang="en-US" sz="4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80060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6" name="La%20Califf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226789-001" descr=""/>
          <p:cNvPicPr/>
          <p:nvPr/>
        </p:nvPicPr>
        <p:blipFill>
          <a:blip r:embed="rId1"/>
          <a:srcRect l="0" t="66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954000"/>
            <a:ext cx="49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nunc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ntiu sozinho e desampar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nunca sent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m algum momento que havia a impressão que tinha                chegado ao fim do caminho e que não tinha mais soluçã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272215-003" descr=""/>
          <p:cNvPicPr/>
          <p:nvPr/>
        </p:nvPicPr>
        <p:blipFill>
          <a:blip r:embed="rId1"/>
          <a:srcRect l="0" t="74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457200"/>
            <a:ext cx="451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r seja por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usa grave, ou por outras menos grav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dos já nos sentimos assim. Quando adolescentes,      mesmo a dor de amor perdido pode nos dar essa impressão. Pensamos que nunca mais v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contrar outra pessoa, que nunca mais v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r outro alguém. Tudo tem uma forma tão grande e exagerada que toma conta d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209001-001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080" y="649440"/>
            <a:ext cx="42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as vezes 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esperamos e sofremos antecipadamente               por coisas que colocamos na nossa cabeça,              mas que na realidade nunca chegam na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esses momentos         sentimos uma sensação de solidão profunda,                de abandono. Tudo parece opaco, sem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10312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080" y="1066680"/>
            <a:ext cx="435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smo nos momentos mais difíceis da nos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istência, nunca estamos sozinhos. Me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não vemos ninguém ao nosso la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guém certamente está lá e nos olha com 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lhos cheios de amor, simplesmente esperando que a gente se entre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xph005_038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080" y="496800"/>
            <a:ext cx="382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É reconfortante sa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reconhecer que nunca estamos sozinhos.       Poder reconhecer que estamos fra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frágeis, mas saber que existe uma Mão Invisível segurando a nossa,       um Colo confortável e um peito cheio de             amor e compaix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A012856" descr=""/>
          <p:cNvPicPr/>
          <p:nvPr/>
        </p:nvPicPr>
        <p:blipFill>
          <a:blip r:embed="rId1"/>
          <a:srcRect l="0" t="702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040" y="496800"/>
            <a:ext cx="443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á uma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erdade, mas que poucas pessoas sabem: D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 mesmo aqueles que não acreditam nEle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 cuida mesmo daqueles que não sab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não estão sozinhos; ele está sempre presente, mesmo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lhamos à nossa volta e tudo parece vaz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ha227000009" descr=""/>
          <p:cNvPicPr/>
          <p:nvPr/>
        </p:nvPicPr>
        <p:blipFill>
          <a:blip r:embed="rId1"/>
          <a:srcRect l="0" t="716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1030320"/>
            <a:ext cx="397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á pessoa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reditam em Deus, mas não em Anjos.                   Mas segundo a Bíblia: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O Anjo do Senhor           acampa-se ao redor dos que O temem                     e os livra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Então por que não acreditar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exph047_059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304920"/>
            <a:ext cx="472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 qualquer maneira, a verdade é que a solidão não existe. O que existe é a sensação de solidão e abandono. Nem existem as dores que doem eternamente. Se você um dia se sentir assim, abra os olhos da sua alma e tenha certeza que ao seu lado Alguém vai estar cuidando de você. Deixe-se amar e acalentar. Durma tranqüilo e repouse na certeza que quando acordar terá uma outra visão do seu próprio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360" y="4572000"/>
            <a:ext cx="323208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Música: La Cali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21:34:19Z</dcterms:created>
  <dc:creator>Beth Norling</dc:creator>
  <dc:description/>
  <dc:language>en-US</dc:language>
  <cp:lastModifiedBy>Usuário</cp:lastModifiedBy>
  <dcterms:modified xsi:type="dcterms:W3CDTF">2006-10-24T18:01:12Z</dcterms:modified>
  <cp:revision>5</cp:revision>
  <dc:subject/>
  <dc:title>Anjos</dc:title>
</cp:coreProperties>
</file>