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13-Pholhas-My%20Mistake.wav" ContentType="audio/x-wav"/>
  <Override PartName="/ppt/media/image9.jpeg" ContentType="image/jpeg"/>
  <Override PartName="/ppt/media/image11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05A-5BF2-4758-9566-BB60BA16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62C-2007-4922-BB58-19A99D5B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210-9A88-4BF7-8447-2E546795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E42-E00F-4183-B57D-EBA8DE31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10C-BB10-4981-9F8A-DB17C766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D15-5410-4ECB-86BE-FC629187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AB1-363D-4571-8F8B-F40E8E0C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507-9822-40FD-88A5-7F335E96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A3A-F0BB-480F-B607-DC1164D5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0C8-B627-44B6-8402-5ACB7B5A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DDF-F6A1-4835-8A26-AF04650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504-D615-4E19-B08E-CACE04B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973E-A5B2-415F-BD7D-81CE133027F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3-Pholhas-My%20Mistak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663300"/>
                </a:solidFill>
                <a:latin typeface="Castellar"/>
              </a:rPr>
              <a:t>IMÓVEL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663300"/>
                </a:solidFill>
                <a:latin typeface="Castellar"/>
              </a:rPr>
              <a:t>na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663300"/>
                </a:solidFill>
                <a:latin typeface="Castellar"/>
              </a:rPr>
              <a:t>pla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0080"/>
            <a:ext cx="9144000" cy="665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11120"/>
            <a:ext cx="9144000" cy="6035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82600"/>
            <a:ext cx="9144000" cy="6292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5680" y="0"/>
            <a:ext cx="6632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11120"/>
            <a:ext cx="9144000" cy="6035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5920"/>
            <a:ext cx="9144000" cy="608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03400" y="0"/>
            <a:ext cx="5135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" y="0"/>
            <a:ext cx="9129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2680" y="0"/>
            <a:ext cx="891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68200"/>
            <a:ext cx="9144000" cy="6319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8840" y="0"/>
            <a:ext cx="7366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92120"/>
            <a:ext cx="9144000" cy="587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01600" y="0"/>
            <a:ext cx="6940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4560" y="0"/>
            <a:ext cx="6913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663300"/>
                </a:solidFill>
                <a:latin typeface="Castellar"/>
              </a:rPr>
              <a:t>COLECIONADO </a:t>
            </a:r>
            <a:r>
              <a:rPr b="1" lang="pt-BR" sz="3600" spc="-1" strike="noStrike">
                <a:solidFill>
                  <a:srgbClr val="663300"/>
                </a:solidFill>
                <a:latin typeface="Arial Unicode MS"/>
              </a:rPr>
              <a:t>e</a:t>
            </a:r>
            <a:r>
              <a:rPr b="1" lang="pt-BR" sz="3600" spc="-1" strike="noStrike">
                <a:solidFill>
                  <a:srgbClr val="663300"/>
                </a:solidFill>
                <a:latin typeface="Castellar"/>
              </a:rPr>
              <a:t> COMPILADO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663300"/>
                </a:solidFill>
                <a:latin typeface="Arial Unicode MS"/>
              </a:rPr>
              <a:t>por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663300"/>
                </a:solidFill>
                <a:latin typeface="Castellar"/>
              </a:rPr>
              <a:t>sandra ganter de castro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663300"/>
                </a:solidFill>
                <a:latin typeface="Arial Unicode MS"/>
              </a:rPr>
              <a:t>Curitiba, 1° de Dezembro de 2009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663300"/>
                </a:solidFill>
                <a:latin typeface="Arial Unicode MS"/>
              </a:rPr>
              <a:t>gantercastro@uol.com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0"/>
            <a:ext cx="9144000" cy="685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40"/>
            <a:ext cx="9144000" cy="685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4760"/>
            <a:ext cx="9144000" cy="610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2:25Z</dcterms:created>
  <dc:creator>Sandra G</dc:creator>
  <dc:description/>
  <dc:language>en-US</dc:language>
  <cp:lastModifiedBy>CLIENTE</cp:lastModifiedBy>
  <dcterms:modified xsi:type="dcterms:W3CDTF">2009-12-01T17:57:30Z</dcterms:modified>
  <cp:revision>4</cp:revision>
  <dc:subject/>
  <dc:title> Imóvel  na  Planta</dc:title>
</cp:coreProperties>
</file>