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13-Pholhas-My%20Mistake.wav" ContentType="audio/x-wav"/>
  <Override PartName="/ppt/media/image9.jpeg" ContentType="image/jpeg"/>
  <Override PartName="/ppt/media/image11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24D4-F2EF-4AB2-ABBC-CCF3F274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454-0480-4BA9-B403-2B0C504B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949-9558-4592-8FAB-12B9A2F1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8D0-FB35-4377-8144-24EA46CF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0458-C341-427F-BF45-0E333E87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4E6-F885-4EF9-95F1-5D7A08AB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202-A88B-44F2-B2D3-D7D825C1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736-80CA-4415-9751-0510DF47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7EA-A0C2-45E2-B200-54C48905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525-1791-4A9B-9E45-5848D947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FAF-5BC8-4393-92BC-D93038AD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5958-90A1-4C5F-A2DE-D9DFE477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2B3E-1D6B-4373-8BC7-F38724C1DFE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13-Pholhas-My%20Mistake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663300"/>
                </a:solidFill>
                <a:latin typeface="Castellar"/>
              </a:rPr>
              <a:t>IMÓVEL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663300"/>
                </a:solidFill>
                <a:latin typeface="Castellar"/>
              </a:rPr>
              <a:t>na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663300"/>
                </a:solidFill>
                <a:latin typeface="Castellar"/>
              </a:rPr>
              <a:t>plant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0080"/>
            <a:ext cx="9144000" cy="665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11120"/>
            <a:ext cx="9144000" cy="6035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82600"/>
            <a:ext cx="9144000" cy="6292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5680" y="0"/>
            <a:ext cx="6632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11120"/>
            <a:ext cx="9144000" cy="6035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0"/>
            <a:ext cx="6858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5920"/>
            <a:ext cx="9144000" cy="6086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0"/>
            <a:ext cx="6858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03400" y="0"/>
            <a:ext cx="5135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80" y="0"/>
            <a:ext cx="9129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2680" y="0"/>
            <a:ext cx="891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28600"/>
            <a:ext cx="9144000" cy="640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68200"/>
            <a:ext cx="9144000" cy="6319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8840" y="0"/>
            <a:ext cx="7366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92120"/>
            <a:ext cx="9144000" cy="587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01600" y="0"/>
            <a:ext cx="6940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4560" y="0"/>
            <a:ext cx="69134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663300"/>
                </a:solidFill>
                <a:latin typeface="Castellar"/>
              </a:rPr>
              <a:t>COLECIONADO </a:t>
            </a:r>
            <a:r>
              <a:rPr b="1" lang="pt-BR" sz="3600" spc="-1" strike="noStrike">
                <a:solidFill>
                  <a:srgbClr val="663300"/>
                </a:solidFill>
                <a:latin typeface="Arial Unicode MS"/>
              </a:rPr>
              <a:t>e</a:t>
            </a:r>
            <a:r>
              <a:rPr b="1" lang="pt-BR" sz="3600" spc="-1" strike="noStrike">
                <a:solidFill>
                  <a:srgbClr val="663300"/>
                </a:solidFill>
                <a:latin typeface="Castellar"/>
              </a:rPr>
              <a:t> COMPILADO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663300"/>
                </a:solidFill>
                <a:latin typeface="Arial Unicode MS"/>
              </a:rPr>
              <a:t>por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663300"/>
                </a:solidFill>
                <a:latin typeface="Castellar"/>
              </a:rPr>
              <a:t>sandra ganter de castro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663300"/>
                </a:solidFill>
                <a:latin typeface="Arial Unicode MS"/>
              </a:rPr>
              <a:t>Curitiba, 1° de Dezembro de 2009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663300"/>
                </a:solidFill>
                <a:latin typeface="Arial Unicode MS"/>
              </a:rPr>
              <a:t>gantercastro@uol.com.b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0"/>
            <a:ext cx="9144000" cy="6850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240"/>
            <a:ext cx="9144000" cy="6850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74760"/>
            <a:ext cx="9144000" cy="610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7:32:25Z</dcterms:created>
  <dc:creator>Sandra G</dc:creator>
  <dc:description/>
  <dc:language>en-US</dc:language>
  <cp:lastModifiedBy>CLIENTE</cp:lastModifiedBy>
  <dcterms:modified xsi:type="dcterms:W3CDTF">2009-12-01T17:57:30Z</dcterms:modified>
  <cp:revision>4</cp:revision>
  <dc:subject/>
  <dc:title> Imóvel  na  Planta</dc:title>
</cp:coreProperties>
</file>