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Ernesto%20Cortazar%20-%20Lara's%20Theme.wav" ContentType="audio/x-wav"/>
  <Override PartName="/ppt/media/image15.jpeg" ContentType="image/jpeg"/>
  <Override PartName="/ppt/media/image4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276-D055-454B-B0BA-D6F17C36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943-74D1-4151-8C00-99E751A3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C88-D3A7-4EF7-A3DD-B8EB1BBA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234-B343-477C-8218-7BD47F69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48A-9E78-468F-8145-CBDA067A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1F9-C244-4335-8AB8-D04CD7F6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509-AC10-44E4-9C5F-9FB437A8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B92-54B2-436B-8DB9-421289EB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BB9-40AE-4978-BDBA-A20912ED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32B-77B7-4281-82E2-83AF6AA8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1E6-C348-4A98-AC32-F221A9D6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A77-59AC-47E6-91B9-242C36B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1237-0C2E-4F65-895C-4FA60F82F08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audio" Target="../media/Ernesto%20Cortazar%20-%20Lara&apos;s%20Theme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5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hyperlink" Target="http://www.leticiathompson.net/" TargetMode="External"/><Relationship Id="rId15" Type="http://schemas.openxmlformats.org/officeDocument/2006/relationships/hyperlink" Target="mailto:bethnorling@globo.com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7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8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0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1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2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3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547640" y="3141720"/>
            <a:ext cx="6201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LHERES E FLORES </a:t>
            </a:r>
            <a:endParaRPr b="0" i="1" lang="en-US" sz="40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4437000"/>
            <a:ext cx="34671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5480" y="4437000"/>
            <a:ext cx="69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amizade, inteiras, anjos visíveis,  doutoras e profess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23840" y="400536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história do mundo, canal pelo qual o próprio Deus fez-se conh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51520" y="2198520"/>
            <a:ext cx="563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exto: Letícia Thompson – Mulheres e F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úsica: Ernesto Cortazar – Lara’s Th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5"/>
              </a:rPr>
              <a:t>bethnorling@globo.com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95480" y="3168720"/>
            <a:ext cx="70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uitos se enganam quando pensam que uma mulher é uma f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, não 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760" y="36450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Uma mulher é a terra que, fertiliz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az nascer todas as flo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a mãe de todas el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o campo que recebe o sol e a chuv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az florescer o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50760" y="3716280"/>
            <a:ext cx="715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uitivas, amam o adivinh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ra elas, importa menos o buquê de fl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 o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pensei em você”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que vem escondido atrás d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lus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23840" y="4292640"/>
            <a:ext cx="68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 acolhem assim a lembrança como se estivessem abraçando todas as flores e fossem delas a rainh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23840" y="414972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zem grandes as pequenas histórias e tornam menores as grandes 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23840" y="429264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 amor o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eu finjo que sou frágil e você finge que acredita” lhes cai muit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23840" y="4221000"/>
            <a:ext cx="70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rdem a cabeça e não querem perder o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66760" y="479736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maternidade, grand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1:36:12Z</dcterms:created>
  <dc:creator>Beth Norling</dc:creator>
  <dc:description/>
  <dc:language>en-US</dc:language>
  <cp:lastModifiedBy>Letícia Thompson</cp:lastModifiedBy>
  <dcterms:modified xsi:type="dcterms:W3CDTF">2007-03-08T15:06:09Z</dcterms:modified>
  <cp:revision>6</cp:revision>
  <dc:subject/>
  <dc:title>Slide 1</dc:title>
</cp:coreProperties>
</file>