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aulinho%20Nogueira%20-%20Com%20A%C3%A7ucar,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509-FC24-4217-AA95-AAC69660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207-FA6D-4189-B7C0-2E6EF04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828-5B65-4CAC-A36E-815063CF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99E-727C-4E9D-989F-253ECF3D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017-6068-4455-B2EA-C7ACE4F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61D-B389-48D2-94B8-10E3627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E96-8895-4C3B-8165-ED6EF079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4BE-D281-4135-9A47-090A644C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EF8-525D-46CD-8060-C99A0D4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AE9-4361-4B98-9D05-F07E5BC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95C-E444-4603-9B06-AF20E001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4AE-F0DE-4F7F-88AA-0DA4001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C585-55FF-4C74-BC60-0924991B1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ulinho%20Nogueira%20-%20Com%20A&#231;ucar,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maricarusocunha@pranos..com.br" TargetMode="External"/><Relationship Id="rId3" Type="http://schemas.openxmlformats.org/officeDocument/2006/relationships/hyperlink" Target="http://www.pranos.com.br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404640"/>
            <a:ext cx="799308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MO VAI VOCÊ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átima Irene P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recebe meus e-mails e fica quietinho sem que eu saiba se você leu ou deletou sem 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alvez esteja mais centrado em outras coisas e sem muito tempo para navegar, escrever ou respo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  <p:sndAc>
      <p:stSnd>
        <p:snd r:embed="rId2" name="Paulinho%20Nogueira%20-%20Com%20A%C3%A7ucar,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54936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estar viajando, que pode ter mudado de cidade, de país, que pode estar começando vida nova em algum lu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para se casar ou, quem sabe, saindo de uma união infeli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ter enviuvado de repente ou perdeu o amor que sempre q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35640" y="620640"/>
            <a:ext cx="352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, que eu não imagino se está triste ou contente, se está são ou se está do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pode estar cuidando de entes queridos aca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não se ajeitou com a vida de aposentado e anda nervoso e irr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20640"/>
            <a:ext cx="446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procurando a bula sobre como lidar com seu filho ou que pode estar mimando seu netinho que nasc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em sua vida muito mais no real e só vem no virtual algumas ve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ntrou tanto no virtual que a vida lá de fora ficou sem gra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50028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migrou para os sites de relacionamento e acha que foi a melhor coisa que podia lhe acont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tomou coragem e largou de fumar ou que se despediu do computador sem intenção de vol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cê que está no meu grupo há anos sem que eu nada saiba da su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1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360" y="476280"/>
            <a:ext cx="475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acha que estamos numa grande transição ou que tudo é pi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já se acostumou com a palavras corrupto e corrup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é ateu ou que tem Deus muito firme no seu c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Você que tem desenvolvido seus talentos ou que, ao contrário, os enterr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260280"/>
            <a:ext cx="4321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u passei para perguntar como vai você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 dê o ar da sua graça, meu amigo, minha amig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3.02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fatimairene.prosaevers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ww.fatimairen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4869000"/>
            <a:ext cx="3313080" cy="1525320"/>
          </a:xfrm>
          <a:prstGeom prst="rect">
            <a:avLst/>
          </a:prstGeom>
          <a:solidFill>
            <a:srgbClr val="ffff66">
              <a:alpha val="20000"/>
            </a:srgbClr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Música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Paulinho Nogueira - Com açucar, com af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99"/>
                </a:solidFill>
                <a:latin typeface="Arial"/>
              </a:rPr>
              <a:t>Formataçã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icarusocunha@pranos.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anos.com.b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5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6:35:04Z</dcterms:created>
  <dc:creator>Mari</dc:creator>
  <dc:description/>
  <dc:language>en-US</dc:language>
  <cp:lastModifiedBy>Mari</cp:lastModifiedBy>
  <dcterms:modified xsi:type="dcterms:W3CDTF">2012-02-24T18:15:03Z</dcterms:modified>
  <cp:revision>5</cp:revision>
  <dc:subject/>
  <dc:title>Slide 1</dc:title>
</cp:coreProperties>
</file>