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ulinho%20Nogueira%20-%20Com%20A%C3%A7ucar,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552-2730-4292-AA7F-AB945EE1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A33-124E-4656-9F79-9BCC2C0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248-87CC-48D8-9B0C-AA91281B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D61-FE37-4FD7-9BB3-03E1F49E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4BD-C0FB-49FD-8241-C7718A12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EEE-3D1F-4F1C-AC45-7C20603A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F49-0C0E-4F34-9BCD-2757A9F0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227-19D3-4226-B56C-7116A686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9EA-D787-474F-908A-5437189D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BEE-5428-416C-87F2-F4FEF1CE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D4D-CD01-421E-8EF2-D7698A8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765-C90B-42B2-B081-0066A44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49B6-5D42-405A-AFF7-F576F489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ulinho%20Nogueira%20-%20Com%20A&#231;ucar,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maricarusocunha@pranos..com.br" TargetMode="External"/><Relationship Id="rId3" Type="http://schemas.openxmlformats.org/officeDocument/2006/relationships/hyperlink" Target="http://www.pranos.com.br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404640"/>
            <a:ext cx="799308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MO VAI VOCÊ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átima Irene P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recebe meus e-mails e fica quietinho sem que eu saiba se você leu ou deletou sem 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talvez esteja mais centrado em outras coisas e sem muito tempo para navegar, escrever ou respo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zoom dir="out"/>
    <p:sndAc>
      <p:stSnd>
        <p:snd r:embed="rId2" name="Paulinho%20Nogueira%20-%20Com%20A%C3%A7ucar,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54936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pode estar viajando, que pode ter mudado de cidade, de país, que pode estar começando vida nova em algum 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stá para se casar ou, quem sabe, saindo de uma união infeli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pode ter enviuvado de repente ou perdeu o amor que sempre q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35640" y="620640"/>
            <a:ext cx="352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, que eu não imagino se está triste ou contente, se está são ou se está do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pode estar cuidando de entes queridos aca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não se ajeitou com a vida de aposentado e anda nervoso e irr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620640"/>
            <a:ext cx="446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stá procurando a bula sobre como lidar com seu filho ou que pode estar mimando seu netinho que nasc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tem sua vida muito mais no real e só vem no virtual algumas ve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ntrou tanto no virtual que a vida lá de fora ficou sem gra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50028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migrou para os sites de relacionamento e acha que foi a melhor coisa que podia lhe acont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tomou coragem e largou de fumar ou que se despediu do computador sem intenção de vol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stá no meu grupo há anos sem que eu nada saiba da sua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360" y="476280"/>
            <a:ext cx="475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acha que estamos numa grande transição ou que tudo é pi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já se acostumou com a palavras corrupto e corrup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é ateu ou que tem Deus muito firme no seu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tem desenvolvido seus talentos ou que, ao contrário, os enter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260280"/>
            <a:ext cx="4321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u passei para perguntar como vai você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 dê o ar da sua graça, meu amigo, minha amig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3.02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ww.fatimairene.prosaevers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ww.fatimairen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4869000"/>
            <a:ext cx="3313080" cy="1525320"/>
          </a:xfrm>
          <a:prstGeom prst="rect">
            <a:avLst/>
          </a:prstGeom>
          <a:solidFill>
            <a:srgbClr val="ffff66">
              <a:alpha val="20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Música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Paulinho Nogueira - Com açucar, com af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Formataçã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icarusocunha@pranos.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anos.com.b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6:35:04Z</dcterms:created>
  <dc:creator>Mari</dc:creator>
  <dc:description/>
  <dc:language>en-US</dc:language>
  <cp:lastModifiedBy>Mari</cp:lastModifiedBy>
  <dcterms:modified xsi:type="dcterms:W3CDTF">2012-02-24T18:15:03Z</dcterms:modified>
  <cp:revision>5</cp:revision>
  <dc:subject/>
  <dc:title>Slide 1</dc:title>
</cp:coreProperties>
</file>