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Almir%20Sater%20-%20Velhos%20Amigos%20cut1.wav" ContentType="audio/x-wav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F7D6-9893-4B01-AC3A-95ABC675D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3EAF-C974-4D4D-981F-1663DA6AF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F83F-1058-4D57-A0A8-23133FCB3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CF1A-7A2D-47F0-AC14-F7A565181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1840-1B2B-40A5-8294-296C93671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3968-B83B-4C28-8A28-1824BD17A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B11D-3CE8-4FEB-9973-BFC20D799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9772-B2A3-46E3-BD1C-053DB8B5F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A153-61A7-4A9B-AFE7-030090FC7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89D7-C454-4BA6-9165-04EAB8F97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A7EC-66F0-4C8D-A065-3DC98B9E4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ED5E-4864-47A9-BA7A-DB5B7A19E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D8FB3-21DC-4D92-BAE5-8BDA20A51DE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lmir%20Sater%20-%20Velhos%20Amigos%20cut1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ssoliver@terra.com.br" TargetMode="External"/><Relationship Id="rId2" Type="http://schemas.openxmlformats.org/officeDocument/2006/relationships/hyperlink" Target="http://www.leticiathompson.net/" TargetMode="External"/><Relationship Id="rId3" Type="http://schemas.openxmlformats.org/officeDocument/2006/relationships/hyperlink" Target="http://www.leticiathompson.net/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133720" y="22860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Pedaços de Amiz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1295280"/>
            <a:ext cx="8229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Amizades são feitas de pedacinhos. Pedacinhos de tempo que vivemos com cada pessoa. Não importa a quantidade de tempo que passamos com cada amigo, mas a qualidade do tempo que vivemos com cada um. Cinco minutos podem ter uma importância muito maior do que um dia inteiro. Assim, há amizades que são feitas de risos e dores compartilhados; outras de escola; outras de saídas, cinemas, diversões; há ainda aquelas que nascem a gente nem sabe de quê, mas que estão presen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2000">
    <p:randomBar dir="vert"/>
    <p:sndAc>
      <p:stSnd>
        <p:snd r:embed="rId2" name="Almir%20Sater%20-%20Velhos%20Amigos%20cut1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900"/>
                            </p:stCondLst>
                            <p:childTnLst>
                              <p:par>
                                <p:cTn id="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3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7200" y="525600"/>
            <a:ext cx="83059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Talvez essas sejam feitas de silêncios compreendidos, ou de simpatia mútua sem explicação. Hoje em dia, muitas amizades são feitas só de e-mails e essas não são menos importantes.  São as famosas "amizades virtuais." Diferentes até, mas não menos importantes. </a:t>
            </a:r>
            <a:br>
              <a:rPr sz="2800"/>
            </a:br>
            <a:r>
              <a:rPr b="1" i="1" lang="pt-BR" sz="2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Aprendemos a amar as pessoas sem que possamos julgá-las pela sua aparência ou modo de ser, sem que possamos (e fazemos isso inconscientemente ás vezes) etiquetá-las. Há amizades muito profundas que são criadas ass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3000">
    <p:randomBar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3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3520" y="685800"/>
            <a:ext cx="8153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Saint-Exupery disse: "Foi o tempo que perdestes com tua rosa que fez tua rosa tão importante." E eu digo que é o tempo que ganhamos com cada amigo, que faz cada amigo tão importante. Porque tempo gasto com amigos é tempo ganho, aproveitado, vivido. São lembranças para cinco minutos depois ou anos até. Um amigo se torna importante pra nós, e nós para ele, quando somos capazes, mesmo na sua ausência, de rir ou chorar, de sentir saudade e nesse instante, trazer o outro bem pertinho da g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3000">
    <p:randomBar dir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3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57200" y="380880"/>
            <a:ext cx="41148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Dessa forma, podemos ter vários melhores amigos  de diferentes maneiras.        O importante é saber aproveitar o máximo cada minuto vivido e ter depois no baú das recordações horas para passar com os amigos, mesmo quando estes estiverem longe dos nossos olh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54100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Letícia Thomp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5000">
    <p:randomBar dir="horz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3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3500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75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75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32"/>
            </a:gs>
            <a:gs pos="50000">
              <a:srgbClr val="ff99ff"/>
            </a:gs>
            <a:gs pos="100000">
              <a:srgbClr val="3200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590920" y="0"/>
            <a:ext cx="4038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00ff"/>
                </a:solidFill>
                <a:latin typeface="Times New Roman"/>
              </a:rPr>
              <a:t>Mús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00ff"/>
                </a:solidFill>
                <a:latin typeface="Times New Roman"/>
              </a:rPr>
              <a:t>Almir Sater - Velhos Amig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0" y="1523880"/>
            <a:ext cx="4876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ff"/>
                </a:solidFill>
                <a:latin typeface="Times New Roman"/>
              </a:rPr>
              <a:t>Digitação e Montag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ff"/>
                </a:solidFill>
                <a:latin typeface="Times New Roman"/>
              </a:rPr>
              <a:t>Sérgio S. Olivei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52480" y="3124080"/>
            <a:ext cx="586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ssoliver@terra.com.br</a:t>
            </a:r>
            <a:r>
              <a:rPr b="1" i="1" lang="pt-BR" sz="4800" spc="-1" strike="noStrike">
                <a:solidFill>
                  <a:srgbClr val="ff99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71600" y="4495680"/>
            <a:ext cx="6705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6600ff"/>
                </a:solidFill>
                <a:latin typeface="Times New Roman"/>
              </a:rPr>
              <a:t>Visite o Si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fr-BE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.leticiathompson.net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8000">
    <p:fade thruBlk="true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3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3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400"/>
                            </p:stCondLst>
                            <p:childTnLst>
                              <p:par>
                                <p:cTn id="4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" dur="75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100"/>
                            </p:stCondLst>
                            <p:childTnLst>
                              <p:par>
                                <p:cTn id="5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7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3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5T04:09:52Z</dcterms:created>
  <dc:creator>Sérgio S. Oliveira</dc:creator>
  <dc:description>Autoria do texto: Letícia Thompson
Música: Almir Sater - Velhos Amigos
www.leticiathompson.com </dc:description>
  <dc:language>en-US</dc:language>
  <cp:lastModifiedBy>Leticia Thompson</cp:lastModifiedBy>
  <dcterms:modified xsi:type="dcterms:W3CDTF">2004-10-28T18:03:32Z</dcterms:modified>
  <cp:revision>4</cp:revision>
  <dc:subject>Amizade</dc:subject>
  <dc:title>Pedaços de amizade</dc:title>
</cp:coreProperties>
</file>