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1E3-D37D-4195-A16B-1D9B925D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224-5469-4ECC-84E4-3F2A4F5F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6F6-9705-428A-A76B-65091F87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4FF-B241-4B58-9868-30C367AA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075-7884-406E-8381-F8B09005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326-B234-4E32-94B6-2834242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FC4-B374-46FC-9EC1-747AD39B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A51-A8F9-4655-AB83-AACBC89E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CC5-6E93-46C8-8314-2C5C6FA0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933-6B1C-4A8F-9170-2C282E1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C1F-1A66-449A-B9F1-8B3F31EE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5A9-120E-4255-A261-6CA8FBE0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2319-EF99-451C-8E4F-CB57B16E0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44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4382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95680" y="3352680"/>
              <a:ext cx="762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610160" y="1981080"/>
              <a:ext cx="266760" cy="351000"/>
              <a:chOff x="4610160" y="1981080"/>
              <a:chExt cx="266760" cy="351000"/>
            </a:xfrm>
          </p:grpSpPr>
          <p:sp>
            <p:nvSpPr>
              <p:cNvPr id="48" name=""/>
              <p:cNvSpPr/>
              <p:nvPr/>
            </p:nvSpPr>
            <p:spPr>
              <a:xfrm>
                <a:off x="4648320" y="19810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610160" y="2209680"/>
                <a:ext cx="266760" cy="122400"/>
              </a:xfrm>
              <a:custGeom>
                <a:avLst/>
                <a:gdLst/>
                <a:ahLst/>
                <a:rect l="l" t="t" r="r" b="b"/>
                <a:pathLst>
                  <a:path w="168" h="77">
                    <a:moveTo>
                      <a:pt x="0" y="45"/>
                    </a:moveTo>
                    <a:cubicBezTo>
                      <a:pt x="7" y="50"/>
                      <a:pt x="22" y="73"/>
                      <a:pt x="42" y="75"/>
                    </a:cubicBezTo>
                    <a:cubicBezTo>
                      <a:pt x="62" y="77"/>
                      <a:pt x="102" y="69"/>
                      <a:pt x="123" y="57"/>
                    </a:cubicBezTo>
                    <a:cubicBezTo>
                      <a:pt x="144" y="45"/>
                      <a:pt x="159" y="12"/>
                      <a:pt x="1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5029200" y="1981080"/>
              <a:ext cx="266760" cy="351000"/>
              <a:chOff x="5029200" y="1981080"/>
              <a:chExt cx="266760" cy="351000"/>
            </a:xfrm>
          </p:grpSpPr>
          <p:sp>
            <p:nvSpPr>
              <p:cNvPr id="51" name=""/>
              <p:cNvSpPr/>
              <p:nvPr/>
            </p:nvSpPr>
            <p:spPr>
              <a:xfrm>
                <a:off x="5067360" y="19810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29200" y="2209680"/>
                <a:ext cx="266760" cy="122400"/>
              </a:xfrm>
              <a:custGeom>
                <a:avLst/>
                <a:gdLst/>
                <a:ahLst/>
                <a:rect l="l" t="t" r="r" b="b"/>
                <a:pathLst>
                  <a:path w="168" h="77">
                    <a:moveTo>
                      <a:pt x="0" y="45"/>
                    </a:moveTo>
                    <a:cubicBezTo>
                      <a:pt x="7" y="50"/>
                      <a:pt x="22" y="73"/>
                      <a:pt x="42" y="75"/>
                    </a:cubicBezTo>
                    <a:cubicBezTo>
                      <a:pt x="62" y="77"/>
                      <a:pt x="102" y="69"/>
                      <a:pt x="123" y="57"/>
                    </a:cubicBezTo>
                    <a:cubicBezTo>
                      <a:pt x="144" y="45"/>
                      <a:pt x="159" y="12"/>
                      <a:pt x="1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 txBox="1"/>
          <p:nvPr/>
        </p:nvSpPr>
        <p:spPr>
          <a:xfrm>
            <a:off x="1981080" y="5448240"/>
            <a:ext cx="52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acontecer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438280" y="1143000"/>
            <a:ext cx="4044960" cy="2992320"/>
          </a:xfrm>
          <a:custGeom>
            <a:avLst/>
            <a:gdLst/>
            <a:ahLst/>
            <a:rect l="l" t="t" r="r" b="b"/>
            <a:pathLst>
              <a:path w="2548" h="1885">
                <a:moveTo>
                  <a:pt x="807" y="129"/>
                </a:moveTo>
                <a:cubicBezTo>
                  <a:pt x="605" y="136"/>
                  <a:pt x="584" y="107"/>
                  <a:pt x="460" y="169"/>
                </a:cubicBezTo>
                <a:cubicBezTo>
                  <a:pt x="423" y="280"/>
                  <a:pt x="470" y="192"/>
                  <a:pt x="380" y="248"/>
                </a:cubicBezTo>
                <a:cubicBezTo>
                  <a:pt x="346" y="269"/>
                  <a:pt x="340" y="342"/>
                  <a:pt x="331" y="377"/>
                </a:cubicBezTo>
                <a:cubicBezTo>
                  <a:pt x="328" y="417"/>
                  <a:pt x="340" y="462"/>
                  <a:pt x="321" y="497"/>
                </a:cubicBezTo>
                <a:cubicBezTo>
                  <a:pt x="311" y="515"/>
                  <a:pt x="279" y="498"/>
                  <a:pt x="261" y="507"/>
                </a:cubicBezTo>
                <a:cubicBezTo>
                  <a:pt x="205" y="535"/>
                  <a:pt x="189" y="617"/>
                  <a:pt x="152" y="665"/>
                </a:cubicBezTo>
                <a:cubicBezTo>
                  <a:pt x="122" y="760"/>
                  <a:pt x="0" y="846"/>
                  <a:pt x="3" y="983"/>
                </a:cubicBezTo>
                <a:cubicBezTo>
                  <a:pt x="6" y="1120"/>
                  <a:pt x="111" y="1396"/>
                  <a:pt x="172" y="1490"/>
                </a:cubicBezTo>
                <a:cubicBezTo>
                  <a:pt x="224" y="1525"/>
                  <a:pt x="310" y="1529"/>
                  <a:pt x="370" y="1549"/>
                </a:cubicBezTo>
                <a:cubicBezTo>
                  <a:pt x="406" y="1576"/>
                  <a:pt x="443" y="1594"/>
                  <a:pt x="480" y="1619"/>
                </a:cubicBezTo>
                <a:cubicBezTo>
                  <a:pt x="531" y="1772"/>
                  <a:pt x="726" y="1779"/>
                  <a:pt x="857" y="1788"/>
                </a:cubicBezTo>
                <a:cubicBezTo>
                  <a:pt x="884" y="1814"/>
                  <a:pt x="900" y="1865"/>
                  <a:pt x="937" y="1867"/>
                </a:cubicBezTo>
                <a:cubicBezTo>
                  <a:pt x="1248" y="1885"/>
                  <a:pt x="1261" y="1751"/>
                  <a:pt x="1572" y="1738"/>
                </a:cubicBezTo>
                <a:cubicBezTo>
                  <a:pt x="1609" y="1736"/>
                  <a:pt x="1923" y="1795"/>
                  <a:pt x="1950" y="1768"/>
                </a:cubicBezTo>
                <a:cubicBezTo>
                  <a:pt x="2001" y="1717"/>
                  <a:pt x="2054" y="1667"/>
                  <a:pt x="2108" y="1619"/>
                </a:cubicBezTo>
                <a:cubicBezTo>
                  <a:pt x="2161" y="1572"/>
                  <a:pt x="2267" y="1586"/>
                  <a:pt x="2337" y="1569"/>
                </a:cubicBezTo>
                <a:cubicBezTo>
                  <a:pt x="2344" y="1543"/>
                  <a:pt x="2350" y="1516"/>
                  <a:pt x="2357" y="1490"/>
                </a:cubicBezTo>
                <a:cubicBezTo>
                  <a:pt x="2360" y="1477"/>
                  <a:pt x="2367" y="1450"/>
                  <a:pt x="2367" y="1450"/>
                </a:cubicBezTo>
                <a:cubicBezTo>
                  <a:pt x="2372" y="1358"/>
                  <a:pt x="2344" y="1190"/>
                  <a:pt x="2446" y="1132"/>
                </a:cubicBezTo>
                <a:cubicBezTo>
                  <a:pt x="2470" y="1118"/>
                  <a:pt x="2499" y="1119"/>
                  <a:pt x="2526" y="1112"/>
                </a:cubicBezTo>
                <a:cubicBezTo>
                  <a:pt x="2548" y="917"/>
                  <a:pt x="2417" y="1130"/>
                  <a:pt x="2396" y="795"/>
                </a:cubicBezTo>
                <a:cubicBezTo>
                  <a:pt x="2395" y="774"/>
                  <a:pt x="2355" y="658"/>
                  <a:pt x="2337" y="646"/>
                </a:cubicBezTo>
                <a:cubicBezTo>
                  <a:pt x="2287" y="613"/>
                  <a:pt x="2347" y="541"/>
                  <a:pt x="2287" y="526"/>
                </a:cubicBezTo>
                <a:cubicBezTo>
                  <a:pt x="2220" y="442"/>
                  <a:pt x="2110" y="457"/>
                  <a:pt x="2029" y="387"/>
                </a:cubicBezTo>
                <a:cubicBezTo>
                  <a:pt x="1946" y="315"/>
                  <a:pt x="1983" y="300"/>
                  <a:pt x="1910" y="209"/>
                </a:cubicBezTo>
                <a:cubicBezTo>
                  <a:pt x="1880" y="172"/>
                  <a:pt x="1811" y="186"/>
                  <a:pt x="1781" y="149"/>
                </a:cubicBezTo>
                <a:cubicBezTo>
                  <a:pt x="1703" y="52"/>
                  <a:pt x="1760" y="106"/>
                  <a:pt x="1671" y="30"/>
                </a:cubicBezTo>
                <a:cubicBezTo>
                  <a:pt x="1650" y="12"/>
                  <a:pt x="1576" y="34"/>
                  <a:pt x="1552" y="20"/>
                </a:cubicBezTo>
                <a:cubicBezTo>
                  <a:pt x="1519" y="1"/>
                  <a:pt x="1489" y="12"/>
                  <a:pt x="1453" y="0"/>
                </a:cubicBezTo>
                <a:cubicBezTo>
                  <a:pt x="1259" y="7"/>
                  <a:pt x="1337" y="71"/>
                  <a:pt x="1145" y="80"/>
                </a:cubicBezTo>
                <a:cubicBezTo>
                  <a:pt x="1135" y="156"/>
                  <a:pt x="946" y="9"/>
                  <a:pt x="917" y="80"/>
                </a:cubicBezTo>
                <a:cubicBezTo>
                  <a:pt x="909" y="99"/>
                  <a:pt x="877" y="91"/>
                  <a:pt x="857" y="99"/>
                </a:cubicBezTo>
                <a:cubicBezTo>
                  <a:pt x="842" y="105"/>
                  <a:pt x="801" y="126"/>
                  <a:pt x="788" y="139"/>
                </a:cubicBezTo>
                <a:cubicBezTo>
                  <a:pt x="783" y="144"/>
                  <a:pt x="801" y="132"/>
                  <a:pt x="807" y="129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drogar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3013200" y="2170080"/>
            <a:ext cx="2555640" cy="1487520"/>
          </a:xfrm>
          <a:custGeom>
            <a:avLst/>
            <a:gdLst/>
            <a:ahLst/>
            <a:rect l="l" t="t" r="r" b="b"/>
            <a:pathLst>
              <a:path w="1610" h="937">
                <a:moveTo>
                  <a:pt x="0" y="767"/>
                </a:moveTo>
                <a:cubicBezTo>
                  <a:pt x="40" y="780"/>
                  <a:pt x="100" y="845"/>
                  <a:pt x="141" y="852"/>
                </a:cubicBezTo>
                <a:cubicBezTo>
                  <a:pt x="216" y="877"/>
                  <a:pt x="129" y="850"/>
                  <a:pt x="341" y="862"/>
                </a:cubicBezTo>
                <a:cubicBezTo>
                  <a:pt x="365" y="863"/>
                  <a:pt x="387" y="870"/>
                  <a:pt x="411" y="872"/>
                </a:cubicBezTo>
                <a:cubicBezTo>
                  <a:pt x="459" y="875"/>
                  <a:pt x="498" y="935"/>
                  <a:pt x="546" y="937"/>
                </a:cubicBezTo>
                <a:cubicBezTo>
                  <a:pt x="640" y="933"/>
                  <a:pt x="744" y="876"/>
                  <a:pt x="837" y="862"/>
                </a:cubicBezTo>
                <a:cubicBezTo>
                  <a:pt x="885" y="855"/>
                  <a:pt x="861" y="843"/>
                  <a:pt x="907" y="832"/>
                </a:cubicBezTo>
                <a:cubicBezTo>
                  <a:pt x="943" y="823"/>
                  <a:pt x="970" y="774"/>
                  <a:pt x="1007" y="772"/>
                </a:cubicBezTo>
                <a:cubicBezTo>
                  <a:pt x="1059" y="763"/>
                  <a:pt x="1104" y="786"/>
                  <a:pt x="1112" y="706"/>
                </a:cubicBezTo>
                <a:cubicBezTo>
                  <a:pt x="1119" y="638"/>
                  <a:pt x="1141" y="671"/>
                  <a:pt x="1162" y="606"/>
                </a:cubicBezTo>
                <a:cubicBezTo>
                  <a:pt x="1166" y="593"/>
                  <a:pt x="1174" y="533"/>
                  <a:pt x="1187" y="531"/>
                </a:cubicBezTo>
                <a:cubicBezTo>
                  <a:pt x="1221" y="514"/>
                  <a:pt x="1262" y="508"/>
                  <a:pt x="1298" y="496"/>
                </a:cubicBezTo>
                <a:cubicBezTo>
                  <a:pt x="1308" y="493"/>
                  <a:pt x="1328" y="486"/>
                  <a:pt x="1328" y="486"/>
                </a:cubicBezTo>
                <a:cubicBezTo>
                  <a:pt x="1358" y="446"/>
                  <a:pt x="1324" y="483"/>
                  <a:pt x="1383" y="456"/>
                </a:cubicBezTo>
                <a:cubicBezTo>
                  <a:pt x="1397" y="450"/>
                  <a:pt x="1404" y="433"/>
                  <a:pt x="1418" y="426"/>
                </a:cubicBezTo>
                <a:cubicBezTo>
                  <a:pt x="1449" y="410"/>
                  <a:pt x="1485" y="397"/>
                  <a:pt x="1518" y="386"/>
                </a:cubicBezTo>
                <a:cubicBezTo>
                  <a:pt x="1610" y="317"/>
                  <a:pt x="1568" y="50"/>
                  <a:pt x="156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0482200">
            <a:off x="3200400" y="2437920"/>
            <a:ext cx="1103400" cy="668520"/>
          </a:xfrm>
          <a:custGeom>
            <a:avLst/>
            <a:gdLst/>
            <a:ahLst/>
            <a:rect l="l" t="t" r="r" b="b"/>
            <a:pathLst>
              <a:path w="695" h="421">
                <a:moveTo>
                  <a:pt x="114" y="61"/>
                </a:moveTo>
                <a:cubicBezTo>
                  <a:pt x="104" y="66"/>
                  <a:pt x="94" y="123"/>
                  <a:pt x="83" y="126"/>
                </a:cubicBezTo>
                <a:cubicBezTo>
                  <a:pt x="67" y="131"/>
                  <a:pt x="29" y="159"/>
                  <a:pt x="13" y="166"/>
                </a:cubicBezTo>
                <a:cubicBezTo>
                  <a:pt x="0" y="171"/>
                  <a:pt x="16" y="221"/>
                  <a:pt x="13" y="231"/>
                </a:cubicBezTo>
                <a:cubicBezTo>
                  <a:pt x="15" y="247"/>
                  <a:pt x="38" y="325"/>
                  <a:pt x="63" y="331"/>
                </a:cubicBezTo>
                <a:cubicBezTo>
                  <a:pt x="101" y="340"/>
                  <a:pt x="204" y="381"/>
                  <a:pt x="234" y="366"/>
                </a:cubicBezTo>
                <a:cubicBezTo>
                  <a:pt x="244" y="421"/>
                  <a:pt x="394" y="393"/>
                  <a:pt x="404" y="391"/>
                </a:cubicBezTo>
                <a:cubicBezTo>
                  <a:pt x="508" y="373"/>
                  <a:pt x="432" y="319"/>
                  <a:pt x="534" y="321"/>
                </a:cubicBezTo>
                <a:cubicBezTo>
                  <a:pt x="526" y="323"/>
                  <a:pt x="695" y="356"/>
                  <a:pt x="589" y="251"/>
                </a:cubicBezTo>
                <a:cubicBezTo>
                  <a:pt x="669" y="281"/>
                  <a:pt x="543" y="273"/>
                  <a:pt x="549" y="171"/>
                </a:cubicBezTo>
                <a:cubicBezTo>
                  <a:pt x="540" y="38"/>
                  <a:pt x="558" y="149"/>
                  <a:pt x="514" y="41"/>
                </a:cubicBezTo>
                <a:cubicBezTo>
                  <a:pt x="510" y="31"/>
                  <a:pt x="492" y="17"/>
                  <a:pt x="484" y="10"/>
                </a:cubicBezTo>
                <a:cubicBezTo>
                  <a:pt x="474" y="1"/>
                  <a:pt x="427" y="3"/>
                  <a:pt x="414" y="0"/>
                </a:cubicBezTo>
                <a:cubicBezTo>
                  <a:pt x="408" y="0"/>
                  <a:pt x="319" y="4"/>
                  <a:pt x="284" y="10"/>
                </a:cubicBezTo>
                <a:cubicBezTo>
                  <a:pt x="255" y="15"/>
                  <a:pt x="238" y="30"/>
                  <a:pt x="209" y="35"/>
                </a:cubicBezTo>
                <a:cubicBezTo>
                  <a:pt x="193" y="47"/>
                  <a:pt x="175" y="49"/>
                  <a:pt x="159" y="61"/>
                </a:cubicBezTo>
                <a:cubicBezTo>
                  <a:pt x="141" y="74"/>
                  <a:pt x="151" y="59"/>
                  <a:pt x="129" y="66"/>
                </a:cubicBezTo>
                <a:cubicBezTo>
                  <a:pt x="118" y="82"/>
                  <a:pt x="103" y="61"/>
                  <a:pt x="114" y="6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133720"/>
            <a:ext cx="374760" cy="276120"/>
          </a:xfrm>
          <a:custGeom>
            <a:avLst/>
            <a:gdLst/>
            <a:ahLst/>
            <a:rect l="l" t="t" r="r" b="b"/>
            <a:pathLst>
              <a:path w="236" h="174">
                <a:moveTo>
                  <a:pt x="0" y="174"/>
                </a:moveTo>
                <a:cubicBezTo>
                  <a:pt x="10" y="145"/>
                  <a:pt x="20" y="118"/>
                  <a:pt x="30" y="88"/>
                </a:cubicBezTo>
                <a:cubicBezTo>
                  <a:pt x="35" y="72"/>
                  <a:pt x="63" y="85"/>
                  <a:pt x="80" y="83"/>
                </a:cubicBezTo>
                <a:cubicBezTo>
                  <a:pt x="87" y="62"/>
                  <a:pt x="102" y="55"/>
                  <a:pt x="120" y="43"/>
                </a:cubicBezTo>
                <a:cubicBezTo>
                  <a:pt x="134" y="0"/>
                  <a:pt x="203" y="23"/>
                  <a:pt x="236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06800">
            <a:off x="3505320" y="1905120"/>
            <a:ext cx="457200" cy="223560"/>
          </a:xfrm>
          <a:custGeom>
            <a:avLst/>
            <a:gdLst/>
            <a:ahLst/>
            <a:rect l="l" t="t" r="r" b="b"/>
            <a:pathLst>
              <a:path w="394" h="141">
                <a:moveTo>
                  <a:pt x="0" y="141"/>
                </a:moveTo>
                <a:cubicBezTo>
                  <a:pt x="78" y="131"/>
                  <a:pt x="63" y="113"/>
                  <a:pt x="105" y="66"/>
                </a:cubicBezTo>
                <a:cubicBezTo>
                  <a:pt x="117" y="53"/>
                  <a:pt x="181" y="45"/>
                  <a:pt x="181" y="45"/>
                </a:cubicBezTo>
                <a:cubicBezTo>
                  <a:pt x="216" y="37"/>
                  <a:pt x="228" y="42"/>
                  <a:pt x="250" y="41"/>
                </a:cubicBezTo>
                <a:cubicBezTo>
                  <a:pt x="272" y="40"/>
                  <a:pt x="295" y="48"/>
                  <a:pt x="316" y="41"/>
                </a:cubicBezTo>
                <a:cubicBezTo>
                  <a:pt x="380" y="46"/>
                  <a:pt x="394" y="0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6280" y="2735280"/>
            <a:ext cx="1649880" cy="1794600"/>
            <a:chOff x="566280" y="2735280"/>
            <a:chExt cx="1649880" cy="1794600"/>
          </a:xfrm>
        </p:grpSpPr>
        <p:sp>
          <p:nvSpPr>
            <p:cNvPr id="241" name=""/>
            <p:cNvSpPr/>
            <p:nvPr/>
          </p:nvSpPr>
          <p:spPr>
            <a:xfrm rot="2535600">
              <a:off x="1115640" y="3283560"/>
              <a:ext cx="304920" cy="99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88640" y="397620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91240" y="386352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3840" y="375048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6080" y="363780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535600">
              <a:off x="1627560" y="3147120"/>
              <a:ext cx="152280" cy="30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806120" y="2735280"/>
              <a:ext cx="410040" cy="45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78960" y="4145400"/>
              <a:ext cx="255960" cy="281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6280" y="4324680"/>
              <a:ext cx="225720" cy="205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98680" y="352512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19320" y="685800"/>
            <a:ext cx="632448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NÃO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371600" y="47242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s mesmo que você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95280" y="5448240"/>
            <a:ext cx="670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Fique triste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255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52960" y="1981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9899600">
              <a:off x="4038480" y="1905120"/>
              <a:ext cx="214560" cy="31680"/>
            </a:xfrm>
            <a:custGeom>
              <a:avLst/>
              <a:gdLst/>
              <a:ahLst/>
              <a:rect l="l" t="t" r="r" b="b"/>
              <a:pathLst>
                <a:path w="135" h="20">
                  <a:moveTo>
                    <a:pt x="0" y="3"/>
                  </a:moveTo>
                  <a:cubicBezTo>
                    <a:pt x="6" y="5"/>
                    <a:pt x="21" y="16"/>
                    <a:pt x="36" y="18"/>
                  </a:cubicBezTo>
                  <a:cubicBezTo>
                    <a:pt x="51" y="20"/>
                    <a:pt x="77" y="18"/>
                    <a:pt x="93" y="15"/>
                  </a:cubicBezTo>
                  <a:cubicBezTo>
                    <a:pt x="109" y="12"/>
                    <a:pt x="126" y="3"/>
                    <a:pt x="1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533840" y="199404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269000">
              <a:off x="4570920" y="1904760"/>
              <a:ext cx="214200" cy="31680"/>
            </a:xfrm>
            <a:custGeom>
              <a:avLst/>
              <a:gdLst/>
              <a:ahLst/>
              <a:rect l="l" t="t" r="r" b="b"/>
              <a:pathLst>
                <a:path w="135" h="20">
                  <a:moveTo>
                    <a:pt x="0" y="3"/>
                  </a:moveTo>
                  <a:cubicBezTo>
                    <a:pt x="6" y="5"/>
                    <a:pt x="21" y="16"/>
                    <a:pt x="36" y="18"/>
                  </a:cubicBezTo>
                  <a:cubicBezTo>
                    <a:pt x="51" y="20"/>
                    <a:pt x="77" y="18"/>
                    <a:pt x="93" y="15"/>
                  </a:cubicBezTo>
                  <a:cubicBezTo>
                    <a:pt x="109" y="12"/>
                    <a:pt x="126" y="3"/>
                    <a:pt x="1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342900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48"/>
                  </a:moveTo>
                  <a:cubicBezTo>
                    <a:pt x="60" y="24"/>
                    <a:pt x="120" y="0"/>
                    <a:pt x="192" y="0"/>
                  </a:cubicBezTo>
                  <a:cubicBezTo>
                    <a:pt x="264" y="0"/>
                    <a:pt x="368" y="16"/>
                    <a:pt x="432" y="48"/>
                  </a:cubicBezTo>
                  <a:cubicBezTo>
                    <a:pt x="496" y="80"/>
                    <a:pt x="536" y="136"/>
                    <a:pt x="576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Com cara de bob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264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24382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2819520" y="1905120"/>
              <a:ext cx="228600" cy="407880"/>
              <a:chOff x="2819520" y="1905120"/>
              <a:chExt cx="228600" cy="407880"/>
            </a:xfrm>
          </p:grpSpPr>
          <p:sp>
            <p:nvSpPr>
              <p:cNvPr id="267" name=""/>
              <p:cNvSpPr/>
              <p:nvPr/>
            </p:nvSpPr>
            <p:spPr>
              <a:xfrm>
                <a:off x="2895480" y="19051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19520" y="1927080"/>
                <a:ext cx="115920" cy="3859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200040" y="1905120"/>
              <a:ext cx="228600" cy="429840"/>
              <a:chOff x="3200040" y="1905120"/>
              <a:chExt cx="228600" cy="429840"/>
            </a:xfrm>
          </p:grpSpPr>
          <p:sp>
            <p:nvSpPr>
              <p:cNvPr id="270" name=""/>
              <p:cNvSpPr/>
              <p:nvPr/>
            </p:nvSpPr>
            <p:spPr>
              <a:xfrm flipH="1" flipV="1">
                <a:off x="3200040" y="2174400"/>
                <a:ext cx="152640" cy="16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3312720" y="1905120"/>
                <a:ext cx="115920" cy="40680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819520" y="3200400"/>
              <a:ext cx="2173320" cy="765000"/>
              <a:chOff x="2819520" y="3200400"/>
              <a:chExt cx="2173320" cy="765000"/>
            </a:xfrm>
          </p:grpSpPr>
          <p:sp>
            <p:nvSpPr>
              <p:cNvPr id="273" name=""/>
              <p:cNvSpPr/>
              <p:nvPr/>
            </p:nvSpPr>
            <p:spPr>
              <a:xfrm>
                <a:off x="2819520" y="327672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19520" y="3200400"/>
                <a:ext cx="2173320" cy="609480"/>
              </a:xfrm>
              <a:custGeom>
                <a:avLst/>
                <a:gdLst/>
                <a:ahLst/>
                <a:rect l="l" t="t" r="r" b="b"/>
                <a:pathLst>
                  <a:path w="1369" h="384">
                    <a:moveTo>
                      <a:pt x="46" y="0"/>
                    </a:moveTo>
                    <a:cubicBezTo>
                      <a:pt x="38" y="13"/>
                      <a:pt x="27" y="46"/>
                      <a:pt x="27" y="46"/>
                    </a:cubicBezTo>
                    <a:cubicBezTo>
                      <a:pt x="21" y="61"/>
                      <a:pt x="15" y="72"/>
                      <a:pt x="13" y="101"/>
                    </a:cubicBezTo>
                    <a:cubicBezTo>
                      <a:pt x="11" y="133"/>
                      <a:pt x="0" y="169"/>
                      <a:pt x="32" y="187"/>
                    </a:cubicBezTo>
                    <a:cubicBezTo>
                      <a:pt x="66" y="186"/>
                      <a:pt x="72" y="196"/>
                      <a:pt x="106" y="195"/>
                    </a:cubicBezTo>
                    <a:cubicBezTo>
                      <a:pt x="136" y="194"/>
                      <a:pt x="162" y="195"/>
                      <a:pt x="188" y="180"/>
                    </a:cubicBezTo>
                    <a:cubicBezTo>
                      <a:pt x="203" y="171"/>
                      <a:pt x="213" y="149"/>
                      <a:pt x="217" y="132"/>
                    </a:cubicBezTo>
                    <a:cubicBezTo>
                      <a:pt x="221" y="114"/>
                      <a:pt x="230" y="97"/>
                      <a:pt x="236" y="79"/>
                    </a:cubicBezTo>
                    <a:cubicBezTo>
                      <a:pt x="238" y="63"/>
                      <a:pt x="240" y="47"/>
                      <a:pt x="241" y="31"/>
                    </a:cubicBezTo>
                    <a:cubicBezTo>
                      <a:pt x="242" y="23"/>
                      <a:pt x="239" y="47"/>
                      <a:pt x="238" y="55"/>
                    </a:cubicBezTo>
                    <a:cubicBezTo>
                      <a:pt x="237" y="68"/>
                      <a:pt x="237" y="81"/>
                      <a:pt x="236" y="94"/>
                    </a:cubicBezTo>
                    <a:cubicBezTo>
                      <a:pt x="232" y="139"/>
                      <a:pt x="213" y="136"/>
                      <a:pt x="206" y="180"/>
                    </a:cubicBezTo>
                    <a:cubicBezTo>
                      <a:pt x="223" y="233"/>
                      <a:pt x="250" y="219"/>
                      <a:pt x="339" y="238"/>
                    </a:cubicBezTo>
                    <a:cubicBezTo>
                      <a:pt x="365" y="238"/>
                      <a:pt x="405" y="218"/>
                      <a:pt x="411" y="216"/>
                    </a:cubicBezTo>
                    <a:cubicBezTo>
                      <a:pt x="439" y="188"/>
                      <a:pt x="440" y="197"/>
                      <a:pt x="469" y="168"/>
                    </a:cubicBezTo>
                    <a:cubicBezTo>
                      <a:pt x="489" y="148"/>
                      <a:pt x="547" y="124"/>
                      <a:pt x="567" y="125"/>
                    </a:cubicBezTo>
                    <a:cubicBezTo>
                      <a:pt x="629" y="115"/>
                      <a:pt x="744" y="139"/>
                      <a:pt x="742" y="151"/>
                    </a:cubicBezTo>
                    <a:cubicBezTo>
                      <a:pt x="936" y="152"/>
                      <a:pt x="939" y="79"/>
                      <a:pt x="1138" y="115"/>
                    </a:cubicBezTo>
                    <a:cubicBezTo>
                      <a:pt x="1144" y="116"/>
                      <a:pt x="1369" y="235"/>
                      <a:pt x="1088" y="154"/>
                    </a:cubicBezTo>
                    <a:cubicBezTo>
                      <a:pt x="1013" y="139"/>
                      <a:pt x="890" y="143"/>
                      <a:pt x="889" y="156"/>
                    </a:cubicBezTo>
                    <a:cubicBezTo>
                      <a:pt x="841" y="168"/>
                      <a:pt x="857" y="179"/>
                      <a:pt x="893" y="207"/>
                    </a:cubicBezTo>
                    <a:cubicBezTo>
                      <a:pt x="946" y="240"/>
                      <a:pt x="920" y="231"/>
                      <a:pt x="953" y="250"/>
                    </a:cubicBezTo>
                    <a:cubicBezTo>
                      <a:pt x="970" y="271"/>
                      <a:pt x="977" y="262"/>
                      <a:pt x="994" y="303"/>
                    </a:cubicBezTo>
                    <a:cubicBezTo>
                      <a:pt x="1011" y="324"/>
                      <a:pt x="1021" y="384"/>
                      <a:pt x="1021" y="36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9520" y="3505320"/>
                <a:ext cx="530280" cy="460080"/>
              </a:xfrm>
              <a:custGeom>
                <a:avLst/>
                <a:gdLst/>
                <a:ahLst/>
                <a:rect l="l" t="t" r="r" b="b"/>
                <a:pathLst>
                  <a:path w="334" h="290">
                    <a:moveTo>
                      <a:pt x="48" y="0"/>
                    </a:moveTo>
                    <a:lnTo>
                      <a:pt x="0" y="240"/>
                    </a:lnTo>
                    <a:lnTo>
                      <a:pt x="108" y="271"/>
                    </a:lnTo>
                    <a:cubicBezTo>
                      <a:pt x="124" y="255"/>
                      <a:pt x="148" y="113"/>
                      <a:pt x="168" y="103"/>
                    </a:cubicBezTo>
                    <a:cubicBezTo>
                      <a:pt x="175" y="100"/>
                      <a:pt x="152" y="261"/>
                      <a:pt x="158" y="266"/>
                    </a:cubicBezTo>
                    <a:cubicBezTo>
                      <a:pt x="166" y="272"/>
                      <a:pt x="181" y="265"/>
                      <a:pt x="192" y="266"/>
                    </a:cubicBezTo>
                    <a:cubicBezTo>
                      <a:pt x="194" y="261"/>
                      <a:pt x="257" y="270"/>
                      <a:pt x="262" y="269"/>
                    </a:cubicBezTo>
                    <a:cubicBezTo>
                      <a:pt x="334" y="290"/>
                      <a:pt x="301" y="253"/>
                      <a:pt x="305" y="216"/>
                    </a:cubicBezTo>
                    <a:lnTo>
                      <a:pt x="288" y="38"/>
                    </a:lnTo>
                    <a:lnTo>
                      <a:pt x="238" y="12"/>
                    </a:lnTo>
                    <a:lnTo>
                      <a:pt x="154" y="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55920" y="3384720"/>
                <a:ext cx="465480" cy="74520"/>
              </a:xfrm>
              <a:custGeom>
                <a:avLst/>
                <a:gdLst/>
                <a:ahLst/>
                <a:rect l="l" t="t" r="r" b="b"/>
                <a:pathLst>
                  <a:path w="293" h="47">
                    <a:moveTo>
                      <a:pt x="0" y="23"/>
                    </a:moveTo>
                    <a:cubicBezTo>
                      <a:pt x="20" y="20"/>
                      <a:pt x="71" y="0"/>
                      <a:pt x="120" y="4"/>
                    </a:cubicBezTo>
                    <a:cubicBezTo>
                      <a:pt x="169" y="8"/>
                      <a:pt x="257" y="38"/>
                      <a:pt x="293" y="47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Sinta-se culpad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279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297180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800600" y="2514600"/>
              <a:ext cx="304920" cy="317520"/>
              <a:chOff x="4800600" y="2514600"/>
              <a:chExt cx="304920" cy="317520"/>
            </a:xfrm>
          </p:grpSpPr>
          <p:sp>
            <p:nvSpPr>
              <p:cNvPr id="282" name=""/>
              <p:cNvSpPr/>
              <p:nvPr/>
            </p:nvSpPr>
            <p:spPr>
              <a:xfrm>
                <a:off x="4800600" y="274320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48"/>
                    </a:moveTo>
                    <a:cubicBezTo>
                      <a:pt x="32" y="52"/>
                      <a:pt x="64" y="56"/>
                      <a:pt x="96" y="48"/>
                    </a:cubicBezTo>
                    <a:cubicBezTo>
                      <a:pt x="128" y="40"/>
                      <a:pt x="176" y="8"/>
                      <a:pt x="192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4952880" y="2514600"/>
                <a:ext cx="15264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257440" y="2514600"/>
              <a:ext cx="304920" cy="317520"/>
              <a:chOff x="5257440" y="2514600"/>
              <a:chExt cx="304920" cy="317520"/>
            </a:xfrm>
          </p:grpSpPr>
          <p:sp>
            <p:nvSpPr>
              <p:cNvPr id="285" name=""/>
              <p:cNvSpPr/>
              <p:nvPr/>
            </p:nvSpPr>
            <p:spPr>
              <a:xfrm flipH="1">
                <a:off x="5257080" y="274320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48"/>
                    </a:moveTo>
                    <a:cubicBezTo>
                      <a:pt x="32" y="52"/>
                      <a:pt x="64" y="56"/>
                      <a:pt x="96" y="48"/>
                    </a:cubicBezTo>
                    <a:cubicBezTo>
                      <a:pt x="128" y="40"/>
                      <a:pt x="176" y="8"/>
                      <a:pt x="192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57440" y="2514600"/>
                <a:ext cx="15264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4191120" y="3657600"/>
              <a:ext cx="914400" cy="177840"/>
            </a:xfrm>
            <a:custGeom>
              <a:avLst/>
              <a:gdLst/>
              <a:ahLst/>
              <a:rect l="l" t="t" r="r" b="b"/>
              <a:pathLst>
                <a:path w="576" h="112">
                  <a:moveTo>
                    <a:pt x="576" y="96"/>
                  </a:moveTo>
                  <a:cubicBezTo>
                    <a:pt x="520" y="48"/>
                    <a:pt x="464" y="0"/>
                    <a:pt x="384" y="0"/>
                  </a:cubicBezTo>
                  <a:cubicBezTo>
                    <a:pt x="304" y="0"/>
                    <a:pt x="160" y="80"/>
                    <a:pt x="96" y="96"/>
                  </a:cubicBezTo>
                  <a:cubicBezTo>
                    <a:pt x="32" y="112"/>
                    <a:pt x="16" y="104"/>
                    <a:pt x="0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Com med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290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52680" y="3276720"/>
              <a:ext cx="2210040" cy="228600"/>
            </a:xfrm>
            <a:custGeom>
              <a:avLst/>
              <a:gdLst/>
              <a:ahLst/>
              <a:rect l="l" t="t" r="r" b="b"/>
              <a:pathLst>
                <a:path w="1392" h="144">
                  <a:moveTo>
                    <a:pt x="0" y="96"/>
                  </a:moveTo>
                  <a:cubicBezTo>
                    <a:pt x="24" y="72"/>
                    <a:pt x="48" y="48"/>
                    <a:pt x="96" y="48"/>
                  </a:cubicBezTo>
                  <a:cubicBezTo>
                    <a:pt x="144" y="48"/>
                    <a:pt x="232" y="96"/>
                    <a:pt x="288" y="96"/>
                  </a:cubicBezTo>
                  <a:cubicBezTo>
                    <a:pt x="344" y="96"/>
                    <a:pt x="368" y="48"/>
                    <a:pt x="432" y="48"/>
                  </a:cubicBezTo>
                  <a:cubicBezTo>
                    <a:pt x="496" y="48"/>
                    <a:pt x="600" y="104"/>
                    <a:pt x="672" y="96"/>
                  </a:cubicBezTo>
                  <a:cubicBezTo>
                    <a:pt x="744" y="88"/>
                    <a:pt x="800" y="0"/>
                    <a:pt x="864" y="0"/>
                  </a:cubicBezTo>
                  <a:cubicBezTo>
                    <a:pt x="928" y="0"/>
                    <a:pt x="1000" y="88"/>
                    <a:pt x="1056" y="96"/>
                  </a:cubicBezTo>
                  <a:cubicBezTo>
                    <a:pt x="1112" y="104"/>
                    <a:pt x="1144" y="40"/>
                    <a:pt x="1200" y="48"/>
                  </a:cubicBezTo>
                  <a:cubicBezTo>
                    <a:pt x="1256" y="56"/>
                    <a:pt x="1324" y="100"/>
                    <a:pt x="1392" y="1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1981080"/>
              <a:ext cx="228600" cy="2286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33920" y="1828800"/>
              <a:ext cx="609480" cy="5335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1981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48320" y="2057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Ou inferior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191120" y="2743200"/>
            <a:ext cx="685800" cy="457200"/>
            <a:chOff x="4191120" y="2743200"/>
            <a:chExt cx="685800" cy="457200"/>
          </a:xfrm>
        </p:grpSpPr>
        <p:sp>
          <p:nvSpPr>
            <p:cNvPr id="299" name=""/>
            <p:cNvSpPr/>
            <p:nvPr/>
          </p:nvSpPr>
          <p:spPr>
            <a:xfrm>
              <a:off x="4191120" y="2743200"/>
              <a:ext cx="685800" cy="457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41040" y="2940840"/>
              <a:ext cx="181800" cy="111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1040" y="3089160"/>
              <a:ext cx="14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61920" y="2866680"/>
              <a:ext cx="48960" cy="56880"/>
              <a:chOff x="4561920" y="2866680"/>
              <a:chExt cx="48960" cy="56880"/>
            </a:xfrm>
          </p:grpSpPr>
          <p:sp>
            <p:nvSpPr>
              <p:cNvPr id="303" name=""/>
              <p:cNvSpPr/>
              <p:nvPr/>
            </p:nvSpPr>
            <p:spPr>
              <a:xfrm>
                <a:off x="4568760" y="2866680"/>
                <a:ext cx="28080" cy="37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61920" y="2903760"/>
                <a:ext cx="48960" cy="19800"/>
              </a:xfrm>
              <a:custGeom>
                <a:avLst/>
                <a:gdLst/>
                <a:ahLst/>
                <a:rect l="l" t="t" r="r" b="b"/>
                <a:pathLst>
                  <a:path w="168" h="77">
                    <a:moveTo>
                      <a:pt x="0" y="45"/>
                    </a:moveTo>
                    <a:cubicBezTo>
                      <a:pt x="7" y="50"/>
                      <a:pt x="22" y="73"/>
                      <a:pt x="42" y="75"/>
                    </a:cubicBezTo>
                    <a:cubicBezTo>
                      <a:pt x="62" y="77"/>
                      <a:pt x="102" y="69"/>
                      <a:pt x="123" y="57"/>
                    </a:cubicBezTo>
                    <a:cubicBezTo>
                      <a:pt x="144" y="45"/>
                      <a:pt x="159" y="12"/>
                      <a:pt x="1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638960" y="2866680"/>
              <a:ext cx="48960" cy="56880"/>
              <a:chOff x="4638960" y="2866680"/>
              <a:chExt cx="48960" cy="56880"/>
            </a:xfrm>
          </p:grpSpPr>
          <p:sp>
            <p:nvSpPr>
              <p:cNvPr id="306" name=""/>
              <p:cNvSpPr/>
              <p:nvPr/>
            </p:nvSpPr>
            <p:spPr>
              <a:xfrm>
                <a:off x="4645800" y="2866680"/>
                <a:ext cx="28080" cy="37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38960" y="2903760"/>
                <a:ext cx="48960" cy="19800"/>
              </a:xfrm>
              <a:custGeom>
                <a:avLst/>
                <a:gdLst/>
                <a:ahLst/>
                <a:rect l="l" t="t" r="r" b="b"/>
                <a:pathLst>
                  <a:path w="168" h="77">
                    <a:moveTo>
                      <a:pt x="0" y="45"/>
                    </a:moveTo>
                    <a:cubicBezTo>
                      <a:pt x="7" y="50"/>
                      <a:pt x="22" y="73"/>
                      <a:pt x="42" y="75"/>
                    </a:cubicBezTo>
                    <a:cubicBezTo>
                      <a:pt x="62" y="77"/>
                      <a:pt x="102" y="69"/>
                      <a:pt x="123" y="57"/>
                    </a:cubicBezTo>
                    <a:cubicBezTo>
                      <a:pt x="144" y="45"/>
                      <a:pt x="159" y="12"/>
                      <a:pt x="1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ente se lembrar 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310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6880" y="24382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819520" y="1905120"/>
              <a:ext cx="228600" cy="407880"/>
              <a:chOff x="2819520" y="1905120"/>
              <a:chExt cx="228600" cy="407880"/>
            </a:xfrm>
          </p:grpSpPr>
          <p:sp>
            <p:nvSpPr>
              <p:cNvPr id="313" name=""/>
              <p:cNvSpPr/>
              <p:nvPr/>
            </p:nvSpPr>
            <p:spPr>
              <a:xfrm>
                <a:off x="2895480" y="19051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19520" y="1927080"/>
                <a:ext cx="115920" cy="3859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200400" y="1905120"/>
              <a:ext cx="228600" cy="407880"/>
              <a:chOff x="3200400" y="1905120"/>
              <a:chExt cx="228600" cy="407880"/>
            </a:xfrm>
          </p:grpSpPr>
          <p:sp>
            <p:nvSpPr>
              <p:cNvPr id="316" name=""/>
              <p:cNvSpPr/>
              <p:nvPr/>
            </p:nvSpPr>
            <p:spPr>
              <a:xfrm>
                <a:off x="3276360" y="19051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0400" y="1927080"/>
                <a:ext cx="115920" cy="3859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124080" y="3340080"/>
              <a:ext cx="990720" cy="177840"/>
            </a:xfrm>
            <a:custGeom>
              <a:avLst/>
              <a:gdLst/>
              <a:ahLst/>
              <a:rect l="l" t="t" r="r" b="b"/>
              <a:pathLst>
                <a:path w="624" h="112">
                  <a:moveTo>
                    <a:pt x="0" y="56"/>
                  </a:moveTo>
                  <a:cubicBezTo>
                    <a:pt x="20" y="28"/>
                    <a:pt x="40" y="0"/>
                    <a:pt x="96" y="8"/>
                  </a:cubicBezTo>
                  <a:cubicBezTo>
                    <a:pt x="152" y="16"/>
                    <a:pt x="248" y="96"/>
                    <a:pt x="336" y="104"/>
                  </a:cubicBezTo>
                  <a:cubicBezTo>
                    <a:pt x="424" y="112"/>
                    <a:pt x="524" y="84"/>
                    <a:pt x="624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Que tem alguém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321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4481640" y="2120400"/>
              <a:ext cx="361800" cy="406440"/>
              <a:chOff x="4481640" y="2120400"/>
              <a:chExt cx="361800" cy="406440"/>
            </a:xfrm>
          </p:grpSpPr>
          <p:sp>
            <p:nvSpPr>
              <p:cNvPr id="324" name=""/>
              <p:cNvSpPr/>
              <p:nvPr/>
            </p:nvSpPr>
            <p:spPr>
              <a:xfrm rot="18309000">
                <a:off x="4533840" y="2152440"/>
                <a:ext cx="152640" cy="1422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8309000">
                <a:off x="4604400" y="2194920"/>
                <a:ext cx="115920" cy="3607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059720" y="2127240"/>
              <a:ext cx="372960" cy="381240"/>
              <a:chOff x="4059720" y="2127240"/>
              <a:chExt cx="372960" cy="381240"/>
            </a:xfrm>
          </p:grpSpPr>
          <p:sp>
            <p:nvSpPr>
              <p:cNvPr id="327" name=""/>
              <p:cNvSpPr/>
              <p:nvPr/>
            </p:nvSpPr>
            <p:spPr>
              <a:xfrm flipV="1" rot="14521200">
                <a:off x="4240080" y="2156760"/>
                <a:ext cx="152640" cy="1422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 rot="14521200">
                <a:off x="4188240" y="2191680"/>
                <a:ext cx="115920" cy="3607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809880" y="3505320"/>
              <a:ext cx="1371600" cy="88920"/>
            </a:xfrm>
            <a:custGeom>
              <a:avLst/>
              <a:gdLst/>
              <a:ahLst/>
              <a:rect l="l" t="t" r="r" b="b"/>
              <a:pathLst>
                <a:path w="864" h="56">
                  <a:moveTo>
                    <a:pt x="0" y="0"/>
                  </a:moveTo>
                  <a:cubicBezTo>
                    <a:pt x="40" y="20"/>
                    <a:pt x="80" y="40"/>
                    <a:pt x="192" y="48"/>
                  </a:cubicBezTo>
                  <a:cubicBezTo>
                    <a:pt x="304" y="56"/>
                    <a:pt x="560" y="56"/>
                    <a:pt x="672" y="48"/>
                  </a:cubicBezTo>
                  <a:cubicBezTo>
                    <a:pt x="784" y="40"/>
                    <a:pt x="824" y="20"/>
                    <a:pt x="86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Que acha você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332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148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720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3124080"/>
              <a:ext cx="2286000" cy="460440"/>
            </a:xfrm>
            <a:custGeom>
              <a:avLst/>
              <a:gdLst/>
              <a:ahLst/>
              <a:rect l="l" t="t" r="r" b="b"/>
              <a:pathLst>
                <a:path w="1440" h="290">
                  <a:moveTo>
                    <a:pt x="0" y="0"/>
                  </a:moveTo>
                  <a:cubicBezTo>
                    <a:pt x="40" y="52"/>
                    <a:pt x="80" y="104"/>
                    <a:pt x="144" y="144"/>
                  </a:cubicBezTo>
                  <a:cubicBezTo>
                    <a:pt x="208" y="184"/>
                    <a:pt x="288" y="216"/>
                    <a:pt x="384" y="240"/>
                  </a:cubicBezTo>
                  <a:cubicBezTo>
                    <a:pt x="480" y="264"/>
                    <a:pt x="599" y="290"/>
                    <a:pt x="720" y="288"/>
                  </a:cubicBezTo>
                  <a:cubicBezTo>
                    <a:pt x="841" y="286"/>
                    <a:pt x="1008" y="260"/>
                    <a:pt x="1110" y="231"/>
                  </a:cubicBezTo>
                  <a:cubicBezTo>
                    <a:pt x="1212" y="202"/>
                    <a:pt x="1277" y="152"/>
                    <a:pt x="1332" y="114"/>
                  </a:cubicBezTo>
                  <a:cubicBezTo>
                    <a:pt x="1387" y="76"/>
                    <a:pt x="1418" y="24"/>
                    <a:pt x="144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De repente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56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38480" y="24382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8480" y="3274920"/>
              <a:ext cx="990720" cy="1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114800" y="1739880"/>
              <a:ext cx="762120" cy="590400"/>
              <a:chOff x="4114800" y="1739880"/>
              <a:chExt cx="762120" cy="590400"/>
            </a:xfrm>
          </p:grpSpPr>
          <p:sp>
            <p:nvSpPr>
              <p:cNvPr id="60" name=""/>
              <p:cNvSpPr/>
              <p:nvPr/>
            </p:nvSpPr>
            <p:spPr>
              <a:xfrm>
                <a:off x="4229280" y="19810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14800" y="2286000"/>
                <a:ext cx="214200" cy="31680"/>
              </a:xfrm>
              <a:custGeom>
                <a:avLst/>
                <a:gdLst/>
                <a:ahLst/>
                <a:rect l="l" t="t" r="r" b="b"/>
                <a:pathLst>
                  <a:path w="135" h="20">
                    <a:moveTo>
                      <a:pt x="0" y="3"/>
                    </a:moveTo>
                    <a:cubicBezTo>
                      <a:pt x="6" y="5"/>
                      <a:pt x="21" y="16"/>
                      <a:pt x="36" y="18"/>
                    </a:cubicBezTo>
                    <a:cubicBezTo>
                      <a:pt x="51" y="20"/>
                      <a:pt x="77" y="18"/>
                      <a:pt x="93" y="15"/>
                    </a:cubicBezTo>
                    <a:cubicBezTo>
                      <a:pt x="109" y="12"/>
                      <a:pt x="126" y="3"/>
                      <a:pt x="135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14800" y="173988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56"/>
                    </a:moveTo>
                    <a:cubicBezTo>
                      <a:pt x="16" y="36"/>
                      <a:pt x="25" y="16"/>
                      <a:pt x="48" y="8"/>
                    </a:cubicBezTo>
                    <a:cubicBezTo>
                      <a:pt x="71" y="0"/>
                      <a:pt x="117" y="0"/>
                      <a:pt x="141" y="8"/>
                    </a:cubicBezTo>
                    <a:cubicBezTo>
                      <a:pt x="165" y="16"/>
                      <a:pt x="181" y="46"/>
                      <a:pt x="192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4609440" y="199404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662360" y="2298600"/>
                <a:ext cx="214560" cy="31680"/>
              </a:xfrm>
              <a:custGeom>
                <a:avLst/>
                <a:gdLst/>
                <a:ahLst/>
                <a:rect l="l" t="t" r="r" b="b"/>
                <a:pathLst>
                  <a:path w="135" h="20">
                    <a:moveTo>
                      <a:pt x="0" y="3"/>
                    </a:moveTo>
                    <a:cubicBezTo>
                      <a:pt x="6" y="5"/>
                      <a:pt x="21" y="16"/>
                      <a:pt x="36" y="18"/>
                    </a:cubicBezTo>
                    <a:cubicBezTo>
                      <a:pt x="51" y="20"/>
                      <a:pt x="77" y="18"/>
                      <a:pt x="93" y="15"/>
                    </a:cubicBezTo>
                    <a:cubicBezTo>
                      <a:pt x="109" y="12"/>
                      <a:pt x="126" y="3"/>
                      <a:pt x="135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4571280" y="175248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56"/>
                    </a:moveTo>
                    <a:cubicBezTo>
                      <a:pt x="16" y="36"/>
                      <a:pt x="25" y="16"/>
                      <a:pt x="48" y="8"/>
                    </a:cubicBezTo>
                    <a:cubicBezTo>
                      <a:pt x="71" y="0"/>
                      <a:pt x="117" y="0"/>
                      <a:pt x="141" y="8"/>
                    </a:cubicBezTo>
                    <a:cubicBezTo>
                      <a:pt x="165" y="16"/>
                      <a:pt x="181" y="46"/>
                      <a:pt x="192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... BRILHANTE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339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48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720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0400" y="2892600"/>
              <a:ext cx="2514600" cy="841320"/>
            </a:xfrm>
            <a:custGeom>
              <a:avLst/>
              <a:gdLst/>
              <a:ahLst/>
              <a:rect l="l" t="t" r="r" b="b"/>
              <a:pathLst>
                <a:path w="1440" h="290">
                  <a:moveTo>
                    <a:pt x="0" y="0"/>
                  </a:moveTo>
                  <a:cubicBezTo>
                    <a:pt x="40" y="52"/>
                    <a:pt x="80" y="104"/>
                    <a:pt x="144" y="144"/>
                  </a:cubicBezTo>
                  <a:cubicBezTo>
                    <a:pt x="208" y="184"/>
                    <a:pt x="288" y="216"/>
                    <a:pt x="384" y="240"/>
                  </a:cubicBezTo>
                  <a:cubicBezTo>
                    <a:pt x="480" y="264"/>
                    <a:pt x="599" y="290"/>
                    <a:pt x="720" y="288"/>
                  </a:cubicBezTo>
                  <a:cubicBezTo>
                    <a:pt x="841" y="286"/>
                    <a:pt x="1008" y="260"/>
                    <a:pt x="1110" y="231"/>
                  </a:cubicBezTo>
                  <a:cubicBezTo>
                    <a:pt x="1212" y="202"/>
                    <a:pt x="1277" y="152"/>
                    <a:pt x="1332" y="114"/>
                  </a:cubicBezTo>
                  <a:cubicBezTo>
                    <a:pt x="1387" y="76"/>
                    <a:pt x="1418" y="24"/>
                    <a:pt x="144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990720" y="1295280"/>
            <a:ext cx="761760" cy="1067040"/>
            <a:chOff x="990720" y="1295280"/>
            <a:chExt cx="761760" cy="1067040"/>
          </a:xfrm>
        </p:grpSpPr>
        <p:sp>
          <p:nvSpPr>
            <p:cNvPr id="345" name=""/>
            <p:cNvSpPr/>
            <p:nvPr/>
          </p:nvSpPr>
          <p:spPr>
            <a:xfrm>
              <a:off x="1371600" y="1295280"/>
              <a:ext cx="0" cy="10670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0720" y="1600200"/>
              <a:ext cx="76176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19320" y="1447920"/>
              <a:ext cx="380880" cy="304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143000" y="1447920"/>
              <a:ext cx="380880" cy="304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133720" y="3886200"/>
            <a:ext cx="304560" cy="533520"/>
            <a:chOff x="2133720" y="3886200"/>
            <a:chExt cx="304560" cy="533520"/>
          </a:xfrm>
        </p:grpSpPr>
        <p:sp>
          <p:nvSpPr>
            <p:cNvPr id="350" name=""/>
            <p:cNvSpPr/>
            <p:nvPr/>
          </p:nvSpPr>
          <p:spPr>
            <a:xfrm>
              <a:off x="2286000" y="3886200"/>
              <a:ext cx="0" cy="53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3720" y="4191120"/>
              <a:ext cx="30456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09680" y="4114800"/>
              <a:ext cx="22824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133720" y="4114800"/>
              <a:ext cx="22824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324120" y="914400"/>
            <a:ext cx="305280" cy="990720"/>
            <a:chOff x="6324120" y="914400"/>
            <a:chExt cx="305280" cy="990720"/>
          </a:xfrm>
        </p:grpSpPr>
        <p:sp>
          <p:nvSpPr>
            <p:cNvPr id="355" name=""/>
            <p:cNvSpPr/>
            <p:nvPr/>
          </p:nvSpPr>
          <p:spPr>
            <a:xfrm>
              <a:off x="6477120" y="914400"/>
              <a:ext cx="0" cy="9907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4480" y="160020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00800" y="1447920"/>
              <a:ext cx="228600" cy="38088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324120" y="1371600"/>
              <a:ext cx="304920" cy="38088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238520" y="4419720"/>
            <a:ext cx="305280" cy="533160"/>
            <a:chOff x="7238520" y="4419720"/>
            <a:chExt cx="305280" cy="533160"/>
          </a:xfrm>
        </p:grpSpPr>
        <p:sp>
          <p:nvSpPr>
            <p:cNvPr id="360" name=""/>
            <p:cNvSpPr/>
            <p:nvPr/>
          </p:nvSpPr>
          <p:spPr>
            <a:xfrm>
              <a:off x="7391520" y="4419720"/>
              <a:ext cx="0" cy="5331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38880" y="472428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15200" y="4647960"/>
              <a:ext cx="228600" cy="2282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238520" y="4647960"/>
              <a:ext cx="228600" cy="2282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038120" y="228600"/>
            <a:ext cx="305280" cy="533520"/>
            <a:chOff x="4038120" y="228600"/>
            <a:chExt cx="305280" cy="533520"/>
          </a:xfrm>
        </p:grpSpPr>
        <p:sp>
          <p:nvSpPr>
            <p:cNvPr id="365" name=""/>
            <p:cNvSpPr/>
            <p:nvPr/>
          </p:nvSpPr>
          <p:spPr>
            <a:xfrm>
              <a:off x="4191120" y="228600"/>
              <a:ext cx="0" cy="53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38480" y="53352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4800" y="457200"/>
              <a:ext cx="22860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038120" y="457200"/>
              <a:ext cx="22860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467120" y="2209680"/>
            <a:ext cx="305280" cy="533520"/>
            <a:chOff x="7467120" y="2209680"/>
            <a:chExt cx="305280" cy="533520"/>
          </a:xfrm>
        </p:grpSpPr>
        <p:sp>
          <p:nvSpPr>
            <p:cNvPr id="370" name=""/>
            <p:cNvSpPr/>
            <p:nvPr/>
          </p:nvSpPr>
          <p:spPr>
            <a:xfrm>
              <a:off x="7620120" y="2209680"/>
              <a:ext cx="0" cy="53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67480" y="251460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3800" y="2438280"/>
              <a:ext cx="22860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467120" y="2438280"/>
              <a:ext cx="22860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400800" y="2972160"/>
            <a:ext cx="761760" cy="1294920"/>
            <a:chOff x="6400800" y="2972160"/>
            <a:chExt cx="761760" cy="1294920"/>
          </a:xfrm>
        </p:grpSpPr>
        <p:sp>
          <p:nvSpPr>
            <p:cNvPr id="375" name=""/>
            <p:cNvSpPr/>
            <p:nvPr/>
          </p:nvSpPr>
          <p:spPr>
            <a:xfrm flipV="1">
              <a:off x="6781680" y="2972160"/>
              <a:ext cx="0" cy="1294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00800" y="3897000"/>
              <a:ext cx="76176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629400" y="3712680"/>
              <a:ext cx="380880" cy="3693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6553080" y="3712680"/>
              <a:ext cx="380880" cy="3693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371240" y="3047760"/>
            <a:ext cx="305280" cy="685800"/>
            <a:chOff x="1371240" y="3047760"/>
            <a:chExt cx="305280" cy="685800"/>
          </a:xfrm>
        </p:grpSpPr>
        <p:sp>
          <p:nvSpPr>
            <p:cNvPr id="380" name=""/>
            <p:cNvSpPr/>
            <p:nvPr/>
          </p:nvSpPr>
          <p:spPr>
            <a:xfrm flipV="1">
              <a:off x="1524240" y="3047760"/>
              <a:ext cx="0" cy="685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71600" y="325908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447920" y="3100680"/>
              <a:ext cx="228600" cy="26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1371240" y="3153600"/>
              <a:ext cx="304920" cy="26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514240" y="685800"/>
            <a:ext cx="305280" cy="609120"/>
            <a:chOff x="2514240" y="685800"/>
            <a:chExt cx="305280" cy="609120"/>
          </a:xfrm>
        </p:grpSpPr>
        <p:sp>
          <p:nvSpPr>
            <p:cNvPr id="385" name=""/>
            <p:cNvSpPr/>
            <p:nvPr/>
          </p:nvSpPr>
          <p:spPr>
            <a:xfrm flipV="1">
              <a:off x="2666520" y="685800"/>
              <a:ext cx="0" cy="6091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514240" y="94680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2514240" y="772920"/>
              <a:ext cx="228600" cy="2610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590920" y="772920"/>
              <a:ext cx="228600" cy="2610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49568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57200" y="76320"/>
            <a:ext cx="8077320" cy="5943600"/>
            <a:chOff x="457200" y="76320"/>
            <a:chExt cx="8077320" cy="5943600"/>
          </a:xfrm>
        </p:grpSpPr>
        <p:grpSp>
          <p:nvGrpSpPr>
            <p:cNvPr id="391" name=""/>
            <p:cNvGrpSpPr/>
            <p:nvPr/>
          </p:nvGrpSpPr>
          <p:grpSpPr>
            <a:xfrm>
              <a:off x="457200" y="228600"/>
              <a:ext cx="8077320" cy="5791320"/>
              <a:chOff x="457200" y="228600"/>
              <a:chExt cx="8077320" cy="5791320"/>
            </a:xfrm>
          </p:grpSpPr>
          <p:sp>
            <p:nvSpPr>
              <p:cNvPr id="392" name=""/>
              <p:cNvSpPr/>
              <p:nvPr/>
            </p:nvSpPr>
            <p:spPr>
              <a:xfrm>
                <a:off x="838080" y="304920"/>
                <a:ext cx="7239240" cy="57150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7200" y="228600"/>
                <a:ext cx="8077320" cy="31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200400" y="1600200"/>
              <a:ext cx="2590920" cy="1676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05320" y="76320"/>
              <a:ext cx="457200" cy="129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52880" y="76320"/>
              <a:ext cx="457200" cy="129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9723800">
              <a:off x="547560" y="3177720"/>
              <a:ext cx="576360" cy="212760"/>
            </a:xfrm>
            <a:custGeom>
              <a:avLst/>
              <a:gdLst/>
              <a:ahLst/>
              <a:rect l="l" t="t" r="r" b="b"/>
              <a:pathLst>
                <a:path w="363" h="134">
                  <a:moveTo>
                    <a:pt x="0" y="134"/>
                  </a:moveTo>
                  <a:cubicBezTo>
                    <a:pt x="6" y="122"/>
                    <a:pt x="19" y="82"/>
                    <a:pt x="39" y="62"/>
                  </a:cubicBezTo>
                  <a:cubicBezTo>
                    <a:pt x="59" y="42"/>
                    <a:pt x="91" y="20"/>
                    <a:pt x="123" y="11"/>
                  </a:cubicBezTo>
                  <a:cubicBezTo>
                    <a:pt x="155" y="2"/>
                    <a:pt x="200" y="0"/>
                    <a:pt x="231" y="5"/>
                  </a:cubicBezTo>
                  <a:cubicBezTo>
                    <a:pt x="262" y="10"/>
                    <a:pt x="287" y="24"/>
                    <a:pt x="309" y="41"/>
                  </a:cubicBezTo>
                  <a:cubicBezTo>
                    <a:pt x="331" y="58"/>
                    <a:pt x="352" y="93"/>
                    <a:pt x="363" y="10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467200">
              <a:off x="7805520" y="3200400"/>
              <a:ext cx="576000" cy="212760"/>
            </a:xfrm>
            <a:custGeom>
              <a:avLst/>
              <a:gdLst/>
              <a:ahLst/>
              <a:rect l="l" t="t" r="r" b="b"/>
              <a:pathLst>
                <a:path w="363" h="134">
                  <a:moveTo>
                    <a:pt x="0" y="134"/>
                  </a:moveTo>
                  <a:cubicBezTo>
                    <a:pt x="6" y="122"/>
                    <a:pt x="19" y="82"/>
                    <a:pt x="39" y="62"/>
                  </a:cubicBezTo>
                  <a:cubicBezTo>
                    <a:pt x="59" y="42"/>
                    <a:pt x="91" y="20"/>
                    <a:pt x="123" y="11"/>
                  </a:cubicBezTo>
                  <a:cubicBezTo>
                    <a:pt x="155" y="2"/>
                    <a:pt x="200" y="0"/>
                    <a:pt x="231" y="5"/>
                  </a:cubicBezTo>
                  <a:cubicBezTo>
                    <a:pt x="262" y="10"/>
                    <a:pt x="287" y="24"/>
                    <a:pt x="309" y="41"/>
                  </a:cubicBezTo>
                  <a:cubicBezTo>
                    <a:pt x="331" y="58"/>
                    <a:pt x="352" y="93"/>
                    <a:pt x="363" y="10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 txBox="1"/>
          <p:nvPr/>
        </p:nvSpPr>
        <p:spPr>
          <a:xfrm>
            <a:off x="762120" y="4495680"/>
            <a:ext cx="7619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GRANDE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E que te adora 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57200" y="304920"/>
            <a:ext cx="8305920" cy="4572000"/>
            <a:chOff x="457200" y="304920"/>
            <a:chExt cx="8305920" cy="4572000"/>
          </a:xfrm>
        </p:grpSpPr>
        <p:grpSp>
          <p:nvGrpSpPr>
            <p:cNvPr id="402" name=""/>
            <p:cNvGrpSpPr/>
            <p:nvPr/>
          </p:nvGrpSpPr>
          <p:grpSpPr>
            <a:xfrm>
              <a:off x="2590920" y="1219320"/>
              <a:ext cx="3733560" cy="2819160"/>
              <a:chOff x="2590920" y="1219320"/>
              <a:chExt cx="3733560" cy="2819160"/>
            </a:xfrm>
          </p:grpSpPr>
          <p:sp>
            <p:nvSpPr>
              <p:cNvPr id="403" name=""/>
              <p:cNvSpPr/>
              <p:nvPr/>
            </p:nvSpPr>
            <p:spPr>
              <a:xfrm>
                <a:off x="2590920" y="1219320"/>
                <a:ext cx="3733560" cy="28191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809880" y="2209680"/>
                <a:ext cx="685800" cy="380880"/>
                <a:chOff x="3809880" y="2209680"/>
                <a:chExt cx="685800" cy="3808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3886200" y="2209680"/>
                  <a:ext cx="457200" cy="3045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809880" y="228564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4495680" y="2209680"/>
                <a:ext cx="685800" cy="380880"/>
                <a:chOff x="4495680" y="2209680"/>
                <a:chExt cx="685800" cy="3808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572000" y="2209680"/>
                  <a:ext cx="457200" cy="3045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95680" y="228564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2892600"/>
                <a:ext cx="2514600" cy="841320"/>
              </a:xfrm>
              <a:custGeom>
                <a:avLst/>
                <a:gdLst/>
                <a:ahLst/>
                <a:rect l="l" t="t" r="r" b="b"/>
                <a:pathLst>
                  <a:path w="1440" h="290">
                    <a:moveTo>
                      <a:pt x="0" y="0"/>
                    </a:moveTo>
                    <a:cubicBezTo>
                      <a:pt x="40" y="52"/>
                      <a:pt x="80" y="104"/>
                      <a:pt x="144" y="144"/>
                    </a:cubicBezTo>
                    <a:cubicBezTo>
                      <a:pt x="208" y="184"/>
                      <a:pt x="288" y="216"/>
                      <a:pt x="384" y="240"/>
                    </a:cubicBezTo>
                    <a:cubicBezTo>
                      <a:pt x="480" y="264"/>
                      <a:pt x="599" y="290"/>
                      <a:pt x="720" y="288"/>
                    </a:cubicBezTo>
                    <a:cubicBezTo>
                      <a:pt x="841" y="286"/>
                      <a:pt x="1008" y="260"/>
                      <a:pt x="1110" y="231"/>
                    </a:cubicBezTo>
                    <a:cubicBezTo>
                      <a:pt x="1212" y="202"/>
                      <a:pt x="1277" y="152"/>
                      <a:pt x="1332" y="114"/>
                    </a:cubicBezTo>
                    <a:cubicBezTo>
                      <a:pt x="1387" y="76"/>
                      <a:pt x="1418" y="24"/>
                      <a:pt x="144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2520" y="2438280"/>
                <a:ext cx="990360" cy="6858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2209680" y="411480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90720" y="2666880"/>
              <a:ext cx="914400" cy="914400"/>
            </a:xfrm>
            <a:custGeom>
              <a:avLst/>
              <a:gdLst>
                <a:gd name="textAreaLeft" fmla="*/ 214920 w 914400"/>
                <a:gd name="textAreaRight" fmla="*/ 699120 w 914400"/>
                <a:gd name="textAreaTop" fmla="*/ 107280 h 914400"/>
                <a:gd name="textAreaBottom" fmla="*/ 573480 h 914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90720" y="1143000"/>
              <a:ext cx="533160" cy="380880"/>
            </a:xfrm>
            <a:custGeom>
              <a:avLst/>
              <a:gdLst>
                <a:gd name="textAreaLeft" fmla="*/ 125280 w 533160"/>
                <a:gd name="textAreaRight" fmla="*/ 407520 w 533160"/>
                <a:gd name="textAreaTop" fmla="*/ 44640 h 380880"/>
                <a:gd name="textAreaBottom" fmla="*/ 239040 h 38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19920" y="4191120"/>
              <a:ext cx="761760" cy="685800"/>
            </a:xfrm>
            <a:custGeom>
              <a:avLst/>
              <a:gdLst>
                <a:gd name="textAreaLeft" fmla="*/ 178920 w 761760"/>
                <a:gd name="textAreaRight" fmla="*/ 582120 w 76176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9400" y="403848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77120" y="762120"/>
              <a:ext cx="1218960" cy="990360"/>
            </a:xfrm>
            <a:custGeom>
              <a:avLst/>
              <a:gdLst>
                <a:gd name="textAreaLeft" fmla="*/ 286560 w 1218960"/>
                <a:gd name="textAreaRight" fmla="*/ 931680 w 1218960"/>
                <a:gd name="textAreaTop" fmla="*/ 116280 h 990360"/>
                <a:gd name="textAreaBottom" fmla="*/ 621360 h 9903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15200" y="2895480"/>
              <a:ext cx="457200" cy="457200"/>
            </a:xfrm>
            <a:custGeom>
              <a:avLst/>
              <a:gdLst>
                <a:gd name="textAreaLeft" fmla="*/ 107280 w 457200"/>
                <a:gd name="textAreaRight" fmla="*/ 349560 w 457200"/>
                <a:gd name="textAreaTop" fmla="*/ 53640 h 457200"/>
                <a:gd name="textAreaBottom" fmla="*/ 286920 h 457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86200" y="838080"/>
              <a:ext cx="457200" cy="304920"/>
            </a:xfrm>
            <a:custGeom>
              <a:avLst/>
              <a:gdLst>
                <a:gd name="textAreaLeft" fmla="*/ 107280 w 457200"/>
                <a:gd name="textAreaRight" fmla="*/ 349560 w 45720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05520" y="609480"/>
              <a:ext cx="457200" cy="304920"/>
            </a:xfrm>
            <a:custGeom>
              <a:avLst/>
              <a:gdLst>
                <a:gd name="textAreaLeft" fmla="*/ 107280 w 457200"/>
                <a:gd name="textAreaRight" fmla="*/ 349560 w 45720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14600" y="30492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" y="76212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01000" y="167652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podes desabafar e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426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48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52680" y="3124080"/>
              <a:ext cx="2286000" cy="460440"/>
            </a:xfrm>
            <a:custGeom>
              <a:avLst/>
              <a:gdLst/>
              <a:ahLst/>
              <a:rect l="l" t="t" r="r" b="b"/>
              <a:pathLst>
                <a:path w="1440" h="290">
                  <a:moveTo>
                    <a:pt x="0" y="0"/>
                  </a:moveTo>
                  <a:cubicBezTo>
                    <a:pt x="40" y="52"/>
                    <a:pt x="80" y="104"/>
                    <a:pt x="144" y="144"/>
                  </a:cubicBezTo>
                  <a:cubicBezTo>
                    <a:pt x="208" y="184"/>
                    <a:pt x="288" y="216"/>
                    <a:pt x="384" y="240"/>
                  </a:cubicBezTo>
                  <a:cubicBezTo>
                    <a:pt x="480" y="264"/>
                    <a:pt x="599" y="290"/>
                    <a:pt x="720" y="288"/>
                  </a:cubicBezTo>
                  <a:cubicBezTo>
                    <a:pt x="841" y="286"/>
                    <a:pt x="1008" y="260"/>
                    <a:pt x="1110" y="231"/>
                  </a:cubicBezTo>
                  <a:cubicBezTo>
                    <a:pt x="1212" y="202"/>
                    <a:pt x="1277" y="152"/>
                    <a:pt x="1332" y="114"/>
                  </a:cubicBezTo>
                  <a:cubicBezTo>
                    <a:pt x="1387" y="76"/>
                    <a:pt x="1418" y="24"/>
                    <a:pt x="144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79280" y="1413000"/>
            <a:ext cx="867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contar sempre com essa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essoa !!!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 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unca guardes as coisas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ó pra ti!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is a Amizade serve para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s Bons e Maus Momentos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s Nossas Vidas!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50920" y="1557360"/>
            <a:ext cx="8675640" cy="352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anda este mail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todos os amigos q tu gostas,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ra eles saberem q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dem contar contigo!!!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2700360" y="981000"/>
            <a:ext cx="3733560" cy="2819160"/>
            <a:chOff x="2700360" y="981000"/>
            <a:chExt cx="3733560" cy="2819160"/>
          </a:xfrm>
        </p:grpSpPr>
        <p:sp>
          <p:nvSpPr>
            <p:cNvPr id="434" name=""/>
            <p:cNvSpPr/>
            <p:nvPr/>
          </p:nvSpPr>
          <p:spPr>
            <a:xfrm>
              <a:off x="2700360" y="98100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71960" y="219996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24240" y="1895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1440" y="1895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62120" y="2885760"/>
              <a:ext cx="2286000" cy="460440"/>
            </a:xfrm>
            <a:custGeom>
              <a:avLst/>
              <a:gdLst/>
              <a:ahLst/>
              <a:rect l="l" t="t" r="r" b="b"/>
              <a:pathLst>
                <a:path w="1440" h="290">
                  <a:moveTo>
                    <a:pt x="0" y="0"/>
                  </a:moveTo>
                  <a:cubicBezTo>
                    <a:pt x="40" y="52"/>
                    <a:pt x="80" y="104"/>
                    <a:pt x="144" y="144"/>
                  </a:cubicBezTo>
                  <a:cubicBezTo>
                    <a:pt x="208" y="184"/>
                    <a:pt x="288" y="216"/>
                    <a:pt x="384" y="240"/>
                  </a:cubicBezTo>
                  <a:cubicBezTo>
                    <a:pt x="480" y="264"/>
                    <a:pt x="599" y="290"/>
                    <a:pt x="720" y="288"/>
                  </a:cubicBezTo>
                  <a:cubicBezTo>
                    <a:pt x="841" y="286"/>
                    <a:pt x="1008" y="260"/>
                    <a:pt x="1110" y="231"/>
                  </a:cubicBezTo>
                  <a:cubicBezTo>
                    <a:pt x="1212" y="202"/>
                    <a:pt x="1277" y="152"/>
                    <a:pt x="1332" y="114"/>
                  </a:cubicBezTo>
                  <a:cubicBezTo>
                    <a:pt x="1387" y="76"/>
                    <a:pt x="1418" y="24"/>
                    <a:pt x="144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 txBox="1"/>
          <p:nvPr/>
        </p:nvSpPr>
        <p:spPr>
          <a:xfrm>
            <a:off x="684360" y="4581360"/>
            <a:ext cx="8064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 se o voltares a receber de volta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é pq tu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b podes contar com Eles!!! :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7467480" y="609480"/>
            <a:ext cx="1370880" cy="1523880"/>
            <a:chOff x="7467480" y="609480"/>
            <a:chExt cx="1370880" cy="1523880"/>
          </a:xfrm>
        </p:grpSpPr>
        <p:sp>
          <p:nvSpPr>
            <p:cNvPr id="67" name=""/>
            <p:cNvSpPr/>
            <p:nvPr/>
          </p:nvSpPr>
          <p:spPr>
            <a:xfrm>
              <a:off x="7525080" y="158400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67640" y="144468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0920" y="130536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53480" y="116640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96400" y="102672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39320" y="88776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2240" y="74844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25160" y="60948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67480" y="1723320"/>
              <a:ext cx="200160" cy="410040"/>
            </a:xfrm>
            <a:custGeom>
              <a:avLst/>
              <a:gdLst/>
              <a:ahLst/>
              <a:rect l="l" t="t" r="r" b="b"/>
              <a:pathLst>
                <a:path w="101" h="212">
                  <a:moveTo>
                    <a:pt x="101" y="0"/>
                  </a:moveTo>
                  <a:cubicBezTo>
                    <a:pt x="85" y="16"/>
                    <a:pt x="69" y="29"/>
                    <a:pt x="53" y="48"/>
                  </a:cubicBezTo>
                  <a:cubicBezTo>
                    <a:pt x="37" y="67"/>
                    <a:pt x="10" y="85"/>
                    <a:pt x="5" y="112"/>
                  </a:cubicBezTo>
                  <a:cubicBezTo>
                    <a:pt x="0" y="139"/>
                    <a:pt x="18" y="191"/>
                    <a:pt x="21" y="212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68080" y="609480"/>
              <a:ext cx="170280" cy="425160"/>
            </a:xfrm>
            <a:custGeom>
              <a:avLst/>
              <a:gdLst/>
              <a:ahLst/>
              <a:rect l="l" t="t" r="r" b="b"/>
              <a:pathLst>
                <a:path w="86" h="220">
                  <a:moveTo>
                    <a:pt x="0" y="220"/>
                  </a:moveTo>
                  <a:cubicBezTo>
                    <a:pt x="12" y="207"/>
                    <a:pt x="58" y="169"/>
                    <a:pt x="72" y="144"/>
                  </a:cubicBezTo>
                  <a:cubicBezTo>
                    <a:pt x="86" y="119"/>
                    <a:pt x="84" y="92"/>
                    <a:pt x="84" y="68"/>
                  </a:cubicBezTo>
                  <a:cubicBezTo>
                    <a:pt x="84" y="44"/>
                    <a:pt x="74" y="14"/>
                    <a:pt x="72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 rot="20416200">
            <a:off x="2590560" y="1218960"/>
            <a:ext cx="3733560" cy="2819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0421600">
            <a:off x="3276720" y="2971440"/>
            <a:ext cx="99036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43000" y="5448240"/>
            <a:ext cx="6934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Você se sentir enforcad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014640" y="2766600"/>
            <a:ext cx="358920" cy="354600"/>
            <a:chOff x="3014640" y="2766600"/>
            <a:chExt cx="358920" cy="354600"/>
          </a:xfrm>
        </p:grpSpPr>
        <p:sp>
          <p:nvSpPr>
            <p:cNvPr id="81" name=""/>
            <p:cNvSpPr/>
            <p:nvPr/>
          </p:nvSpPr>
          <p:spPr>
            <a:xfrm rot="20903400">
              <a:off x="3214440" y="2979000"/>
              <a:ext cx="147600" cy="12852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0" y="81"/>
                  </a:moveTo>
                  <a:cubicBezTo>
                    <a:pt x="5" y="78"/>
                    <a:pt x="19" y="69"/>
                    <a:pt x="30" y="60"/>
                  </a:cubicBezTo>
                  <a:cubicBezTo>
                    <a:pt x="41" y="51"/>
                    <a:pt x="58" y="37"/>
                    <a:pt x="69" y="27"/>
                  </a:cubicBezTo>
                  <a:cubicBezTo>
                    <a:pt x="80" y="17"/>
                    <a:pt x="88" y="6"/>
                    <a:pt x="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903400">
              <a:off x="3034800" y="2794680"/>
              <a:ext cx="304920" cy="2318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9" y="133"/>
                    <a:pt x="68" y="110"/>
                    <a:pt x="76" y="96"/>
                  </a:cubicBezTo>
                  <a:cubicBezTo>
                    <a:pt x="108" y="74"/>
                    <a:pt x="98" y="82"/>
                    <a:pt x="118" y="62"/>
                  </a:cubicBezTo>
                  <a:cubicBezTo>
                    <a:pt x="132" y="48"/>
                    <a:pt x="144" y="49"/>
                    <a:pt x="148" y="32"/>
                  </a:cubicBezTo>
                  <a:cubicBezTo>
                    <a:pt x="148" y="25"/>
                    <a:pt x="192" y="0"/>
                    <a:pt x="136" y="16"/>
                  </a:cubicBezTo>
                  <a:cubicBezTo>
                    <a:pt x="137" y="25"/>
                    <a:pt x="107" y="63"/>
                    <a:pt x="107" y="6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430440" y="2455200"/>
            <a:ext cx="377640" cy="443880"/>
            <a:chOff x="3430440" y="2455200"/>
            <a:chExt cx="377640" cy="443880"/>
          </a:xfrm>
        </p:grpSpPr>
        <p:sp>
          <p:nvSpPr>
            <p:cNvPr id="84" name=""/>
            <p:cNvSpPr/>
            <p:nvPr/>
          </p:nvSpPr>
          <p:spPr>
            <a:xfrm flipH="1" rot="18693600">
              <a:off x="3608280" y="2736360"/>
              <a:ext cx="148680" cy="12852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0" y="81"/>
                  </a:moveTo>
                  <a:cubicBezTo>
                    <a:pt x="5" y="78"/>
                    <a:pt x="19" y="69"/>
                    <a:pt x="30" y="60"/>
                  </a:cubicBezTo>
                  <a:cubicBezTo>
                    <a:pt x="41" y="51"/>
                    <a:pt x="58" y="37"/>
                    <a:pt x="69" y="27"/>
                  </a:cubicBezTo>
                  <a:cubicBezTo>
                    <a:pt x="80" y="17"/>
                    <a:pt x="88" y="6"/>
                    <a:pt x="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18693600">
              <a:off x="3465000" y="2531160"/>
              <a:ext cx="307440" cy="2318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9" y="133"/>
                    <a:pt x="68" y="110"/>
                    <a:pt x="76" y="96"/>
                  </a:cubicBezTo>
                  <a:cubicBezTo>
                    <a:pt x="108" y="74"/>
                    <a:pt x="98" y="82"/>
                    <a:pt x="118" y="62"/>
                  </a:cubicBezTo>
                  <a:cubicBezTo>
                    <a:pt x="132" y="48"/>
                    <a:pt x="144" y="49"/>
                    <a:pt x="148" y="32"/>
                  </a:cubicBezTo>
                  <a:cubicBezTo>
                    <a:pt x="148" y="25"/>
                    <a:pt x="192" y="0"/>
                    <a:pt x="136" y="16"/>
                  </a:cubicBezTo>
                  <a:cubicBezTo>
                    <a:pt x="137" y="25"/>
                    <a:pt x="107" y="63"/>
                    <a:pt x="107" y="6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038480" y="3581280"/>
            <a:ext cx="1398600" cy="1270080"/>
            <a:chOff x="4038480" y="3581280"/>
            <a:chExt cx="1398600" cy="1270080"/>
          </a:xfrm>
        </p:grpSpPr>
        <p:sp>
          <p:nvSpPr>
            <p:cNvPr id="87" name=""/>
            <p:cNvSpPr/>
            <p:nvPr/>
          </p:nvSpPr>
          <p:spPr>
            <a:xfrm>
              <a:off x="4038480" y="3581280"/>
              <a:ext cx="1067040" cy="30492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0" y="192"/>
                  </a:moveTo>
                  <a:cubicBezTo>
                    <a:pt x="28" y="156"/>
                    <a:pt x="56" y="120"/>
                    <a:pt x="96" y="96"/>
                  </a:cubicBezTo>
                  <a:cubicBezTo>
                    <a:pt x="136" y="72"/>
                    <a:pt x="192" y="56"/>
                    <a:pt x="240" y="48"/>
                  </a:cubicBezTo>
                  <a:cubicBezTo>
                    <a:pt x="288" y="40"/>
                    <a:pt x="336" y="48"/>
                    <a:pt x="384" y="48"/>
                  </a:cubicBezTo>
                  <a:cubicBezTo>
                    <a:pt x="432" y="48"/>
                    <a:pt x="480" y="56"/>
                    <a:pt x="528" y="48"/>
                  </a:cubicBezTo>
                  <a:cubicBezTo>
                    <a:pt x="576" y="40"/>
                    <a:pt x="648" y="8"/>
                    <a:pt x="672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3657600"/>
              <a:ext cx="941400" cy="1193760"/>
              <a:chOff x="4495680" y="3657600"/>
              <a:chExt cx="941400" cy="1193760"/>
            </a:xfrm>
          </p:grpSpPr>
          <p:sp>
            <p:nvSpPr>
              <p:cNvPr id="89" name=""/>
              <p:cNvSpPr/>
              <p:nvPr/>
            </p:nvSpPr>
            <p:spPr>
              <a:xfrm>
                <a:off x="4495680" y="3657600"/>
                <a:ext cx="941400" cy="1193760"/>
              </a:xfrm>
              <a:custGeom>
                <a:avLst/>
                <a:gdLst/>
                <a:ahLst/>
                <a:rect l="l" t="t" r="r" b="b"/>
                <a:pathLst>
                  <a:path w="593" h="752">
                    <a:moveTo>
                      <a:pt x="0" y="0"/>
                    </a:moveTo>
                    <a:cubicBezTo>
                      <a:pt x="72" y="76"/>
                      <a:pt x="147" y="159"/>
                      <a:pt x="192" y="240"/>
                    </a:cubicBezTo>
                    <a:cubicBezTo>
                      <a:pt x="237" y="321"/>
                      <a:pt x="253" y="415"/>
                      <a:pt x="272" y="484"/>
                    </a:cubicBezTo>
                    <a:cubicBezTo>
                      <a:pt x="291" y="553"/>
                      <a:pt x="289" y="609"/>
                      <a:pt x="308" y="652"/>
                    </a:cubicBezTo>
                    <a:cubicBezTo>
                      <a:pt x="327" y="695"/>
                      <a:pt x="358" y="728"/>
                      <a:pt x="388" y="740"/>
                    </a:cubicBezTo>
                    <a:cubicBezTo>
                      <a:pt x="418" y="752"/>
                      <a:pt x="461" y="737"/>
                      <a:pt x="488" y="724"/>
                    </a:cubicBezTo>
                    <a:cubicBezTo>
                      <a:pt x="515" y="711"/>
                      <a:pt x="537" y="693"/>
                      <a:pt x="552" y="660"/>
                    </a:cubicBezTo>
                    <a:cubicBezTo>
                      <a:pt x="567" y="627"/>
                      <a:pt x="593" y="600"/>
                      <a:pt x="576" y="528"/>
                    </a:cubicBezTo>
                    <a:cubicBezTo>
                      <a:pt x="559" y="456"/>
                      <a:pt x="512" y="316"/>
                      <a:pt x="448" y="228"/>
                    </a:cubicBezTo>
                    <a:cubicBezTo>
                      <a:pt x="384" y="140"/>
                      <a:pt x="245" y="47"/>
                      <a:pt x="19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3657600"/>
                <a:ext cx="312840" cy="7920"/>
              </a:xfrm>
              <a:custGeom>
                <a:avLst/>
                <a:gdLst/>
                <a:ahLst/>
                <a:rect l="l" t="t" r="r" b="b"/>
                <a:pathLst>
                  <a:path w="197" h="5">
                    <a:moveTo>
                      <a:pt x="0" y="0"/>
                    </a:moveTo>
                    <a:cubicBezTo>
                      <a:pt x="33" y="1"/>
                      <a:pt x="156" y="4"/>
                      <a:pt x="197" y="5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978440" y="4013280"/>
              <a:ext cx="165240" cy="342720"/>
            </a:xfrm>
            <a:custGeom>
              <a:avLst/>
              <a:gdLst/>
              <a:ahLst/>
              <a:rect l="l" t="t" r="r" b="b"/>
              <a:pathLst>
                <a:path w="104" h="216">
                  <a:moveTo>
                    <a:pt x="0" y="0"/>
                  </a:moveTo>
                  <a:cubicBezTo>
                    <a:pt x="11" y="18"/>
                    <a:pt x="51" y="72"/>
                    <a:pt x="68" y="108"/>
                  </a:cubicBezTo>
                  <a:cubicBezTo>
                    <a:pt x="85" y="144"/>
                    <a:pt x="97" y="194"/>
                    <a:pt x="104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410080" y="2666880"/>
            <a:ext cx="1370880" cy="1523880"/>
            <a:chOff x="5410080" y="2666880"/>
            <a:chExt cx="1370880" cy="1523880"/>
          </a:xfrm>
        </p:grpSpPr>
        <p:sp>
          <p:nvSpPr>
            <p:cNvPr id="93" name=""/>
            <p:cNvSpPr/>
            <p:nvPr/>
          </p:nvSpPr>
          <p:spPr>
            <a:xfrm>
              <a:off x="5467680" y="364140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0240" y="350208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53520" y="336276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96080" y="322380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39000" y="308412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1920" y="294516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4840" y="280584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67760" y="266688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10080" y="3780720"/>
              <a:ext cx="200160" cy="410040"/>
            </a:xfrm>
            <a:custGeom>
              <a:avLst/>
              <a:gdLst/>
              <a:ahLst/>
              <a:rect l="l" t="t" r="r" b="b"/>
              <a:pathLst>
                <a:path w="101" h="212">
                  <a:moveTo>
                    <a:pt x="101" y="0"/>
                  </a:moveTo>
                  <a:cubicBezTo>
                    <a:pt x="85" y="16"/>
                    <a:pt x="69" y="29"/>
                    <a:pt x="53" y="48"/>
                  </a:cubicBezTo>
                  <a:cubicBezTo>
                    <a:pt x="37" y="67"/>
                    <a:pt x="10" y="85"/>
                    <a:pt x="5" y="112"/>
                  </a:cubicBezTo>
                  <a:cubicBezTo>
                    <a:pt x="0" y="139"/>
                    <a:pt x="18" y="191"/>
                    <a:pt x="21" y="212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10680" y="2666880"/>
              <a:ext cx="170280" cy="425160"/>
            </a:xfrm>
            <a:custGeom>
              <a:avLst/>
              <a:gdLst/>
              <a:ahLst/>
              <a:rect l="l" t="t" r="r" b="b"/>
              <a:pathLst>
                <a:path w="86" h="220">
                  <a:moveTo>
                    <a:pt x="0" y="220"/>
                  </a:moveTo>
                  <a:cubicBezTo>
                    <a:pt x="12" y="207"/>
                    <a:pt x="58" y="169"/>
                    <a:pt x="72" y="144"/>
                  </a:cubicBezTo>
                  <a:cubicBezTo>
                    <a:pt x="86" y="119"/>
                    <a:pt x="84" y="92"/>
                    <a:pt x="84" y="68"/>
                  </a:cubicBezTo>
                  <a:cubicBezTo>
                    <a:pt x="84" y="44"/>
                    <a:pt x="74" y="14"/>
                    <a:pt x="72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20220600">
            <a:off x="6705360" y="251424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0220600">
            <a:off x="6857640" y="236196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0220600">
            <a:off x="7009920" y="220932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220600">
            <a:off x="7162560" y="205704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220600">
            <a:off x="7314840" y="190476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00200" y="5448240"/>
            <a:ext cx="6095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Em uma prisã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110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28954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266720" y="2514600"/>
              <a:ext cx="153000" cy="228240"/>
              <a:chOff x="4266720" y="2514600"/>
              <a:chExt cx="153000" cy="228240"/>
            </a:xfrm>
          </p:grpSpPr>
          <p:sp>
            <p:nvSpPr>
              <p:cNvPr id="113" name=""/>
              <p:cNvSpPr/>
              <p:nvPr/>
            </p:nvSpPr>
            <p:spPr>
              <a:xfrm>
                <a:off x="4297680" y="2514600"/>
                <a:ext cx="12204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4266720" y="2685960"/>
                <a:ext cx="122040" cy="5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572000" y="2514600"/>
              <a:ext cx="151920" cy="228240"/>
              <a:chOff x="4572000" y="2514600"/>
              <a:chExt cx="151920" cy="22824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572000" y="2514600"/>
                <a:ext cx="12168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02240" y="2685960"/>
                <a:ext cx="121680" cy="5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343400" y="3733920"/>
              <a:ext cx="380880" cy="75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4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600200" y="5448240"/>
            <a:ext cx="6095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Ou deprimid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76520" y="1752480"/>
            <a:ext cx="3763800" cy="2308320"/>
            <a:chOff x="2576520" y="1752480"/>
            <a:chExt cx="3763800" cy="2308320"/>
          </a:xfrm>
        </p:grpSpPr>
        <p:sp>
          <p:nvSpPr>
            <p:cNvPr id="150" name=""/>
            <p:cNvSpPr/>
            <p:nvPr/>
          </p:nvSpPr>
          <p:spPr>
            <a:xfrm>
              <a:off x="2576520" y="2111400"/>
              <a:ext cx="3763800" cy="1949400"/>
            </a:xfrm>
            <a:custGeom>
              <a:avLst/>
              <a:gdLst/>
              <a:ahLst/>
              <a:rect l="l" t="t" r="r" b="b"/>
              <a:pathLst>
                <a:path w="2371" h="1228">
                  <a:moveTo>
                    <a:pt x="81" y="8"/>
                  </a:moveTo>
                  <a:cubicBezTo>
                    <a:pt x="70" y="40"/>
                    <a:pt x="26" y="131"/>
                    <a:pt x="15" y="203"/>
                  </a:cubicBezTo>
                  <a:cubicBezTo>
                    <a:pt x="4" y="275"/>
                    <a:pt x="0" y="363"/>
                    <a:pt x="15" y="443"/>
                  </a:cubicBezTo>
                  <a:cubicBezTo>
                    <a:pt x="30" y="523"/>
                    <a:pt x="58" y="607"/>
                    <a:pt x="105" y="686"/>
                  </a:cubicBezTo>
                  <a:cubicBezTo>
                    <a:pt x="152" y="765"/>
                    <a:pt x="225" y="850"/>
                    <a:pt x="297" y="914"/>
                  </a:cubicBezTo>
                  <a:cubicBezTo>
                    <a:pt x="369" y="978"/>
                    <a:pt x="457" y="1028"/>
                    <a:pt x="537" y="1070"/>
                  </a:cubicBezTo>
                  <a:cubicBezTo>
                    <a:pt x="617" y="1112"/>
                    <a:pt x="689" y="1142"/>
                    <a:pt x="777" y="1166"/>
                  </a:cubicBezTo>
                  <a:cubicBezTo>
                    <a:pt x="865" y="1190"/>
                    <a:pt x="969" y="1206"/>
                    <a:pt x="1065" y="1214"/>
                  </a:cubicBezTo>
                  <a:cubicBezTo>
                    <a:pt x="1161" y="1222"/>
                    <a:pt x="1250" y="1228"/>
                    <a:pt x="1353" y="1214"/>
                  </a:cubicBezTo>
                  <a:cubicBezTo>
                    <a:pt x="1456" y="1200"/>
                    <a:pt x="1590" y="1160"/>
                    <a:pt x="1686" y="1127"/>
                  </a:cubicBezTo>
                  <a:cubicBezTo>
                    <a:pt x="1782" y="1094"/>
                    <a:pt x="1858" y="1055"/>
                    <a:pt x="1929" y="1013"/>
                  </a:cubicBezTo>
                  <a:cubicBezTo>
                    <a:pt x="2000" y="971"/>
                    <a:pt x="2057" y="933"/>
                    <a:pt x="2115" y="872"/>
                  </a:cubicBezTo>
                  <a:cubicBezTo>
                    <a:pt x="2173" y="811"/>
                    <a:pt x="2236" y="726"/>
                    <a:pt x="2277" y="647"/>
                  </a:cubicBezTo>
                  <a:cubicBezTo>
                    <a:pt x="2318" y="568"/>
                    <a:pt x="2351" y="479"/>
                    <a:pt x="2361" y="398"/>
                  </a:cubicBezTo>
                  <a:cubicBezTo>
                    <a:pt x="2371" y="317"/>
                    <a:pt x="2356" y="226"/>
                    <a:pt x="2340" y="161"/>
                  </a:cubicBezTo>
                  <a:cubicBezTo>
                    <a:pt x="2324" y="96"/>
                    <a:pt x="2296" y="16"/>
                    <a:pt x="2265" y="8"/>
                  </a:cubicBezTo>
                  <a:cubicBezTo>
                    <a:pt x="2234" y="0"/>
                    <a:pt x="2194" y="77"/>
                    <a:pt x="2154" y="110"/>
                  </a:cubicBezTo>
                  <a:cubicBezTo>
                    <a:pt x="2114" y="143"/>
                    <a:pt x="2075" y="177"/>
                    <a:pt x="2025" y="206"/>
                  </a:cubicBezTo>
                  <a:cubicBezTo>
                    <a:pt x="1975" y="235"/>
                    <a:pt x="1919" y="262"/>
                    <a:pt x="1851" y="287"/>
                  </a:cubicBezTo>
                  <a:cubicBezTo>
                    <a:pt x="1783" y="312"/>
                    <a:pt x="1703" y="338"/>
                    <a:pt x="1620" y="356"/>
                  </a:cubicBezTo>
                  <a:cubicBezTo>
                    <a:pt x="1537" y="374"/>
                    <a:pt x="1444" y="392"/>
                    <a:pt x="1353" y="398"/>
                  </a:cubicBezTo>
                  <a:cubicBezTo>
                    <a:pt x="1262" y="404"/>
                    <a:pt x="1169" y="399"/>
                    <a:pt x="1074" y="392"/>
                  </a:cubicBezTo>
                  <a:cubicBezTo>
                    <a:pt x="979" y="385"/>
                    <a:pt x="868" y="372"/>
                    <a:pt x="780" y="356"/>
                  </a:cubicBezTo>
                  <a:cubicBezTo>
                    <a:pt x="692" y="340"/>
                    <a:pt x="623" y="324"/>
                    <a:pt x="543" y="296"/>
                  </a:cubicBezTo>
                  <a:cubicBezTo>
                    <a:pt x="463" y="268"/>
                    <a:pt x="377" y="236"/>
                    <a:pt x="300" y="188"/>
                  </a:cubicBezTo>
                  <a:cubicBezTo>
                    <a:pt x="223" y="140"/>
                    <a:pt x="127" y="45"/>
                    <a:pt x="81" y="8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28954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191120" y="3657600"/>
              <a:ext cx="609480" cy="304920"/>
              <a:chOff x="4191120" y="3657600"/>
              <a:chExt cx="609480" cy="304920"/>
            </a:xfrm>
          </p:grpSpPr>
          <p:sp>
            <p:nvSpPr>
              <p:cNvPr id="153" name=""/>
              <p:cNvSpPr/>
              <p:nvPr/>
            </p:nvSpPr>
            <p:spPr>
              <a:xfrm>
                <a:off x="4191120" y="3657600"/>
                <a:ext cx="609480" cy="304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1120" y="3733920"/>
                <a:ext cx="609480" cy="228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86200" y="2819520"/>
              <a:ext cx="380880" cy="8892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0" y="48"/>
                  </a:moveTo>
                  <a:cubicBezTo>
                    <a:pt x="28" y="52"/>
                    <a:pt x="56" y="56"/>
                    <a:pt x="96" y="48"/>
                  </a:cubicBezTo>
                  <a:cubicBezTo>
                    <a:pt x="136" y="40"/>
                    <a:pt x="188" y="20"/>
                    <a:pt x="24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494960" y="2819520"/>
              <a:ext cx="381240" cy="7596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0" y="48"/>
                  </a:moveTo>
                  <a:cubicBezTo>
                    <a:pt x="28" y="52"/>
                    <a:pt x="56" y="56"/>
                    <a:pt x="96" y="48"/>
                  </a:cubicBezTo>
                  <a:cubicBezTo>
                    <a:pt x="136" y="40"/>
                    <a:pt x="188" y="20"/>
                    <a:pt x="24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8120" y="1981080"/>
              <a:ext cx="2819160" cy="470160"/>
            </a:xfrm>
            <a:custGeom>
              <a:avLst/>
              <a:gdLst/>
              <a:ahLst/>
              <a:rect l="l" t="t" r="r" b="b"/>
              <a:pathLst>
                <a:path w="1776" h="296">
                  <a:moveTo>
                    <a:pt x="0" y="48"/>
                  </a:moveTo>
                  <a:cubicBezTo>
                    <a:pt x="116" y="124"/>
                    <a:pt x="232" y="200"/>
                    <a:pt x="384" y="240"/>
                  </a:cubicBezTo>
                  <a:cubicBezTo>
                    <a:pt x="536" y="280"/>
                    <a:pt x="736" y="296"/>
                    <a:pt x="912" y="288"/>
                  </a:cubicBezTo>
                  <a:cubicBezTo>
                    <a:pt x="1088" y="280"/>
                    <a:pt x="1296" y="240"/>
                    <a:pt x="1440" y="192"/>
                  </a:cubicBezTo>
                  <a:cubicBezTo>
                    <a:pt x="1584" y="144"/>
                    <a:pt x="1720" y="32"/>
                    <a:pt x="17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1892160"/>
              <a:ext cx="1981080" cy="317520"/>
            </a:xfrm>
            <a:custGeom>
              <a:avLst/>
              <a:gdLst/>
              <a:ahLst/>
              <a:rect l="l" t="t" r="r" b="b"/>
              <a:pathLst>
                <a:path w="1776" h="296">
                  <a:moveTo>
                    <a:pt x="0" y="48"/>
                  </a:moveTo>
                  <a:cubicBezTo>
                    <a:pt x="116" y="124"/>
                    <a:pt x="232" y="200"/>
                    <a:pt x="384" y="240"/>
                  </a:cubicBezTo>
                  <a:cubicBezTo>
                    <a:pt x="536" y="280"/>
                    <a:pt x="736" y="296"/>
                    <a:pt x="912" y="288"/>
                  </a:cubicBezTo>
                  <a:cubicBezTo>
                    <a:pt x="1088" y="280"/>
                    <a:pt x="1296" y="240"/>
                    <a:pt x="1440" y="192"/>
                  </a:cubicBezTo>
                  <a:cubicBezTo>
                    <a:pt x="1584" y="144"/>
                    <a:pt x="1720" y="32"/>
                    <a:pt x="17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9880" y="1752480"/>
              <a:ext cx="1143000" cy="241560"/>
            </a:xfrm>
            <a:custGeom>
              <a:avLst/>
              <a:gdLst/>
              <a:ahLst/>
              <a:rect l="l" t="t" r="r" b="b"/>
              <a:pathLst>
                <a:path w="1776" h="296">
                  <a:moveTo>
                    <a:pt x="0" y="48"/>
                  </a:moveTo>
                  <a:cubicBezTo>
                    <a:pt x="116" y="124"/>
                    <a:pt x="232" y="200"/>
                    <a:pt x="384" y="240"/>
                  </a:cubicBezTo>
                  <a:cubicBezTo>
                    <a:pt x="536" y="280"/>
                    <a:pt x="736" y="296"/>
                    <a:pt x="912" y="288"/>
                  </a:cubicBezTo>
                  <a:cubicBezTo>
                    <a:pt x="1088" y="280"/>
                    <a:pt x="1296" y="240"/>
                    <a:pt x="1440" y="192"/>
                  </a:cubicBezTo>
                  <a:cubicBezTo>
                    <a:pt x="1584" y="144"/>
                    <a:pt x="1720" y="32"/>
                    <a:pt x="17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O que fazer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162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34290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52960" y="1981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38480" y="2286000"/>
              <a:ext cx="214560" cy="31680"/>
            </a:xfrm>
            <a:custGeom>
              <a:avLst/>
              <a:gdLst/>
              <a:ahLst/>
              <a:rect l="l" t="t" r="r" b="b"/>
              <a:pathLst>
                <a:path w="135" h="20">
                  <a:moveTo>
                    <a:pt x="0" y="3"/>
                  </a:moveTo>
                  <a:cubicBezTo>
                    <a:pt x="6" y="5"/>
                    <a:pt x="21" y="16"/>
                    <a:pt x="36" y="18"/>
                  </a:cubicBezTo>
                  <a:cubicBezTo>
                    <a:pt x="51" y="20"/>
                    <a:pt x="77" y="18"/>
                    <a:pt x="93" y="15"/>
                  </a:cubicBezTo>
                  <a:cubicBezTo>
                    <a:pt x="109" y="12"/>
                    <a:pt x="126" y="3"/>
                    <a:pt x="1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33840" y="199404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5680" y="2298600"/>
              <a:ext cx="214200" cy="31680"/>
            </a:xfrm>
            <a:custGeom>
              <a:avLst/>
              <a:gdLst/>
              <a:ahLst/>
              <a:rect l="l" t="t" r="r" b="b"/>
              <a:pathLst>
                <a:path w="135" h="20">
                  <a:moveTo>
                    <a:pt x="0" y="3"/>
                  </a:moveTo>
                  <a:cubicBezTo>
                    <a:pt x="6" y="5"/>
                    <a:pt x="21" y="16"/>
                    <a:pt x="36" y="18"/>
                  </a:cubicBezTo>
                  <a:cubicBezTo>
                    <a:pt x="51" y="20"/>
                    <a:pt x="77" y="18"/>
                    <a:pt x="93" y="15"/>
                  </a:cubicBezTo>
                  <a:cubicBezTo>
                    <a:pt x="109" y="12"/>
                    <a:pt x="126" y="3"/>
                    <a:pt x="1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orar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34880" y="107280"/>
            <a:ext cx="6392520" cy="3931200"/>
            <a:chOff x="1334880" y="107280"/>
            <a:chExt cx="6392520" cy="3931200"/>
          </a:xfrm>
        </p:grpSpPr>
        <p:sp>
          <p:nvSpPr>
            <p:cNvPr id="171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962520" y="1371600"/>
              <a:ext cx="990360" cy="838080"/>
              <a:chOff x="3962520" y="1371600"/>
              <a:chExt cx="990360" cy="838080"/>
            </a:xfrm>
          </p:grpSpPr>
          <p:sp>
            <p:nvSpPr>
              <p:cNvPr id="173" name=""/>
              <p:cNvSpPr/>
              <p:nvPr/>
            </p:nvSpPr>
            <p:spPr>
              <a:xfrm>
                <a:off x="3962520" y="1523880"/>
                <a:ext cx="990360" cy="6858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038480" y="137160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56"/>
                    </a:moveTo>
                    <a:cubicBezTo>
                      <a:pt x="16" y="36"/>
                      <a:pt x="25" y="16"/>
                      <a:pt x="48" y="8"/>
                    </a:cubicBezTo>
                    <a:cubicBezTo>
                      <a:pt x="71" y="0"/>
                      <a:pt x="117" y="0"/>
                      <a:pt x="141" y="8"/>
                    </a:cubicBezTo>
                    <a:cubicBezTo>
                      <a:pt x="165" y="16"/>
                      <a:pt x="181" y="46"/>
                      <a:pt x="192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4494960" y="138420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56"/>
                    </a:moveTo>
                    <a:cubicBezTo>
                      <a:pt x="16" y="36"/>
                      <a:pt x="25" y="16"/>
                      <a:pt x="48" y="8"/>
                    </a:cubicBezTo>
                    <a:cubicBezTo>
                      <a:pt x="71" y="0"/>
                      <a:pt x="117" y="0"/>
                      <a:pt x="141" y="8"/>
                    </a:cubicBezTo>
                    <a:cubicBezTo>
                      <a:pt x="165" y="16"/>
                      <a:pt x="181" y="46"/>
                      <a:pt x="192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581280" y="2362320"/>
              <a:ext cx="1752840" cy="1447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525560" y="107280"/>
              <a:ext cx="3201840" cy="1828800"/>
              <a:chOff x="4525560" y="107280"/>
              <a:chExt cx="3201840" cy="1828800"/>
            </a:xfrm>
          </p:grpSpPr>
          <p:sp>
            <p:nvSpPr>
              <p:cNvPr id="178" name=""/>
              <p:cNvSpPr/>
              <p:nvPr/>
            </p:nvSpPr>
            <p:spPr>
              <a:xfrm>
                <a:off x="5105520" y="762120"/>
                <a:ext cx="43164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66600">
                <a:off x="6477120" y="380880"/>
                <a:ext cx="431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804600">
                <a:off x="5790960" y="228600"/>
                <a:ext cx="431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91600">
                <a:off x="6781320" y="837720"/>
                <a:ext cx="432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734800">
                <a:off x="7251120" y="215640"/>
                <a:ext cx="432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57200">
                <a:off x="6095520" y="1218960"/>
                <a:ext cx="43200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650200">
                <a:off x="6629040" y="1523520"/>
                <a:ext cx="431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91320" y="762120"/>
                <a:ext cx="43164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3715800">
                <a:off x="7251120" y="1359000"/>
                <a:ext cx="432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9902000">
                <a:off x="4572000" y="685800"/>
                <a:ext cx="431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334880" y="189000"/>
              <a:ext cx="2979000" cy="1857960"/>
              <a:chOff x="1334880" y="189000"/>
              <a:chExt cx="2979000" cy="185796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3429000" y="914400"/>
                <a:ext cx="378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20933400">
                <a:off x="2222280" y="380880"/>
                <a:ext cx="377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20795400">
                <a:off x="3123720" y="228600"/>
                <a:ext cx="37800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18908400">
                <a:off x="1954800" y="838080"/>
                <a:ext cx="377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18865200">
                <a:off x="1365120" y="615600"/>
                <a:ext cx="431640" cy="2667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9942800">
                <a:off x="2555280" y="1218960"/>
                <a:ext cx="37728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16954200">
                <a:off x="2133360" y="1676520"/>
                <a:ext cx="378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971800" y="685800"/>
                <a:ext cx="378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7884200">
                <a:off x="1516320" y="1377720"/>
                <a:ext cx="432000" cy="2667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1698000">
                <a:off x="3885120" y="456840"/>
                <a:ext cx="37836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71600" y="5105520"/>
            <a:ext cx="6858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brar Tudo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rar monstro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1219320"/>
            <a:ext cx="3733560" cy="2819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0781000">
            <a:off x="3276360" y="2285640"/>
            <a:ext cx="99036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7483400">
            <a:off x="4419360" y="2590200"/>
            <a:ext cx="1066680" cy="13716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660600" cy="139680"/>
          </a:xfrm>
          <a:custGeom>
            <a:avLst/>
            <a:gdLst/>
            <a:ahLst/>
            <a:rect l="l" t="t" r="r" b="b"/>
            <a:pathLst>
              <a:path w="416" h="88">
                <a:moveTo>
                  <a:pt x="24" y="88"/>
                </a:moveTo>
                <a:cubicBezTo>
                  <a:pt x="0" y="32"/>
                  <a:pt x="17" y="7"/>
                  <a:pt x="46" y="2"/>
                </a:cubicBezTo>
                <a:cubicBezTo>
                  <a:pt x="65" y="3"/>
                  <a:pt x="80" y="0"/>
                  <a:pt x="110" y="10"/>
                </a:cubicBezTo>
                <a:cubicBezTo>
                  <a:pt x="112" y="10"/>
                  <a:pt x="104" y="9"/>
                  <a:pt x="106" y="10"/>
                </a:cubicBezTo>
                <a:cubicBezTo>
                  <a:pt x="113" y="14"/>
                  <a:pt x="123" y="12"/>
                  <a:pt x="130" y="16"/>
                </a:cubicBezTo>
                <a:cubicBezTo>
                  <a:pt x="148" y="25"/>
                  <a:pt x="166" y="36"/>
                  <a:pt x="184" y="44"/>
                </a:cubicBezTo>
                <a:cubicBezTo>
                  <a:pt x="211" y="56"/>
                  <a:pt x="251" y="53"/>
                  <a:pt x="280" y="56"/>
                </a:cubicBezTo>
                <a:cubicBezTo>
                  <a:pt x="313" y="55"/>
                  <a:pt x="318" y="55"/>
                  <a:pt x="346" y="50"/>
                </a:cubicBezTo>
                <a:cubicBezTo>
                  <a:pt x="347" y="47"/>
                  <a:pt x="416" y="34"/>
                  <a:pt x="388" y="3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rot="19782600">
            <a:off x="3429000" y="1752120"/>
            <a:ext cx="711360" cy="139680"/>
          </a:xfrm>
          <a:custGeom>
            <a:avLst/>
            <a:gdLst/>
            <a:ahLst/>
            <a:rect l="l" t="t" r="r" b="b"/>
            <a:pathLst>
              <a:path w="416" h="88">
                <a:moveTo>
                  <a:pt x="24" y="88"/>
                </a:moveTo>
                <a:cubicBezTo>
                  <a:pt x="0" y="32"/>
                  <a:pt x="17" y="7"/>
                  <a:pt x="46" y="2"/>
                </a:cubicBezTo>
                <a:cubicBezTo>
                  <a:pt x="65" y="3"/>
                  <a:pt x="80" y="0"/>
                  <a:pt x="110" y="10"/>
                </a:cubicBezTo>
                <a:cubicBezTo>
                  <a:pt x="112" y="10"/>
                  <a:pt x="104" y="9"/>
                  <a:pt x="106" y="10"/>
                </a:cubicBezTo>
                <a:cubicBezTo>
                  <a:pt x="113" y="14"/>
                  <a:pt x="123" y="12"/>
                  <a:pt x="130" y="16"/>
                </a:cubicBezTo>
                <a:cubicBezTo>
                  <a:pt x="148" y="25"/>
                  <a:pt x="166" y="36"/>
                  <a:pt x="184" y="44"/>
                </a:cubicBezTo>
                <a:cubicBezTo>
                  <a:pt x="211" y="56"/>
                  <a:pt x="251" y="53"/>
                  <a:pt x="280" y="56"/>
                </a:cubicBezTo>
                <a:cubicBezTo>
                  <a:pt x="313" y="55"/>
                  <a:pt x="318" y="55"/>
                  <a:pt x="346" y="50"/>
                </a:cubicBezTo>
                <a:cubicBezTo>
                  <a:pt x="347" y="47"/>
                  <a:pt x="416" y="34"/>
                  <a:pt x="388" y="3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2209680"/>
            <a:ext cx="22860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095800">
            <a:off x="3581280" y="2057040"/>
            <a:ext cx="22860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embebedar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95280" y="609480"/>
            <a:ext cx="5029200" cy="3429000"/>
            <a:chOff x="1295280" y="609480"/>
            <a:chExt cx="5029200" cy="3429000"/>
          </a:xfrm>
        </p:grpSpPr>
        <p:sp>
          <p:nvSpPr>
            <p:cNvPr id="209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048120" y="2057400"/>
              <a:ext cx="990360" cy="1066680"/>
              <a:chOff x="3048120" y="2057400"/>
              <a:chExt cx="990360" cy="1066680"/>
            </a:xfrm>
          </p:grpSpPr>
          <p:sp>
            <p:nvSpPr>
              <p:cNvPr id="211" name=""/>
              <p:cNvSpPr/>
              <p:nvPr/>
            </p:nvSpPr>
            <p:spPr>
              <a:xfrm>
                <a:off x="3048120" y="2438280"/>
                <a:ext cx="990360" cy="6858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76720" y="20574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81280" y="20574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0040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2514600"/>
                <a:ext cx="1526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0532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81280" y="2514600"/>
                <a:ext cx="1526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52680" y="2819520"/>
                <a:ext cx="76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24080" y="2743200"/>
                <a:ext cx="76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33920" y="2666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581280" y="3276720"/>
              <a:ext cx="88920" cy="22860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0"/>
                  </a:moveTo>
                  <a:cubicBezTo>
                    <a:pt x="4" y="12"/>
                    <a:pt x="0" y="24"/>
                    <a:pt x="8" y="48"/>
                  </a:cubicBezTo>
                  <a:cubicBezTo>
                    <a:pt x="16" y="72"/>
                    <a:pt x="48" y="128"/>
                    <a:pt x="56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6720" y="3340080"/>
              <a:ext cx="1600200" cy="343080"/>
            </a:xfrm>
            <a:custGeom>
              <a:avLst/>
              <a:gdLst/>
              <a:ahLst/>
              <a:rect l="l" t="t" r="r" b="b"/>
              <a:pathLst>
                <a:path w="1008" h="216">
                  <a:moveTo>
                    <a:pt x="0" y="104"/>
                  </a:moveTo>
                  <a:cubicBezTo>
                    <a:pt x="44" y="144"/>
                    <a:pt x="88" y="184"/>
                    <a:pt x="144" y="200"/>
                  </a:cubicBezTo>
                  <a:cubicBezTo>
                    <a:pt x="200" y="216"/>
                    <a:pt x="280" y="216"/>
                    <a:pt x="336" y="200"/>
                  </a:cubicBezTo>
                  <a:cubicBezTo>
                    <a:pt x="392" y="184"/>
                    <a:pt x="424" y="136"/>
                    <a:pt x="480" y="104"/>
                  </a:cubicBezTo>
                  <a:cubicBezTo>
                    <a:pt x="536" y="72"/>
                    <a:pt x="608" y="16"/>
                    <a:pt x="672" y="8"/>
                  </a:cubicBezTo>
                  <a:cubicBezTo>
                    <a:pt x="736" y="0"/>
                    <a:pt x="808" y="24"/>
                    <a:pt x="864" y="56"/>
                  </a:cubicBezTo>
                  <a:cubicBezTo>
                    <a:pt x="920" y="88"/>
                    <a:pt x="964" y="144"/>
                    <a:pt x="1008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95280" y="609480"/>
              <a:ext cx="2286000" cy="1905120"/>
              <a:chOff x="1295280" y="609480"/>
              <a:chExt cx="2286000" cy="1905120"/>
            </a:xfrm>
          </p:grpSpPr>
          <p:sp>
            <p:nvSpPr>
              <p:cNvPr id="224" name=""/>
              <p:cNvSpPr/>
              <p:nvPr/>
            </p:nvSpPr>
            <p:spPr>
              <a:xfrm>
                <a:off x="2362320" y="16765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62320" y="22096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28800" y="167652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86000" y="1219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76520" y="914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95480" y="12193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920" y="6858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5280" y="23623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29000" y="7621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6094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9:27:44Z</dcterms:created>
  <dc:creator>Carlos A Pires</dc:creator>
  <dc:description/>
  <dc:language>en-US</dc:language>
  <cp:lastModifiedBy>Ana Fernandes</cp:lastModifiedBy>
  <dcterms:modified xsi:type="dcterms:W3CDTF">2003-10-18T23:40:26Z</dcterms:modified>
  <cp:revision>28</cp:revision>
  <dc:subject/>
  <dc:title>Apresentação do PowerPoint</dc:title>
</cp:coreProperties>
</file>