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Robert%20Holmes%20-%20HOW%20DEEP%20IS%20YOUR%20LOVE.wav" ContentType="audio/x-wav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E97-DC87-4974-A24E-9BE646BB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3C5-F90E-4158-9482-B5632E6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C6E-E4C4-45AF-BC75-9EEEDE1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447-E18E-4C47-8047-4EFD592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0F9-0017-428B-8CD4-DDD6DAE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B95-0E6B-422D-A923-F7A73BC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9B7-283E-4D40-8057-2A97AA19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08E-2B3E-4FF8-827A-5A035B8F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F9F-DD35-4250-96CB-F7D23C2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EC3-573E-4138-8A0F-38890D0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489-FF3B-4077-AAAC-F0217CF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408-4E3E-4E30-AFD2-FBD9C9F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D987-393F-4D91-B1F9-45E9ADBB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3.gif"/><Relationship Id="rId52" Type="http://schemas.openxmlformats.org/officeDocument/2006/relationships/image" Target="../media/image3.gif"/><Relationship Id="rId53" Type="http://schemas.openxmlformats.org/officeDocument/2006/relationships/image" Target="../media/image3.gif"/><Relationship Id="rId54" Type="http://schemas.openxmlformats.org/officeDocument/2006/relationships/image" Target="../media/image3.gif"/><Relationship Id="rId55" Type="http://schemas.openxmlformats.org/officeDocument/2006/relationships/image" Target="../media/image3.gif"/><Relationship Id="rId56" Type="http://schemas.openxmlformats.org/officeDocument/2006/relationships/image" Target="../media/image3.gif"/><Relationship Id="rId57" Type="http://schemas.openxmlformats.org/officeDocument/2006/relationships/audio" Target="../media/Robert%20Holmes%20-%20HOW%20DEEP%20IS%20YOUR%20LOVE.wav"/><Relationship Id="rId5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hyperlink" Target="http://www.leticiathompson.net/" TargetMode="External"/><Relationship Id="rId52" Type="http://schemas.openxmlformats.org/officeDocument/2006/relationships/hyperlink" Target="mailto:bethnorling@globo.com" TargetMode="External"/><Relationship Id="rId5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7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413000"/>
            <a:ext cx="6912000" cy="410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484280"/>
            <a:ext cx="6769440" cy="396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1116000" y="1413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1116000" y="4437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6948360" y="1413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948360" y="443700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19280" y="2205000"/>
            <a:ext cx="58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QUE OS VERDADEIROS</a:t>
            </a:r>
            <a:endParaRPr b="0" lang="en-US" sz="2800" spc="1" strike="noStrike">
              <a:ln w="0">
                <a:noFill/>
              </a:ln>
              <a:blipFill rotWithShape="0">
                <a:blip r:embed="rId5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MIGOS NOS FAZEM CHORAR</a:t>
            </a:r>
            <a:endParaRPr b="0" lang="en-US" sz="2800" spc="1" strike="noStrike">
              <a:ln w="0">
                <a:noFill/>
              </a:ln>
              <a:blipFill rotWithShape="0">
                <a:blip r:embed="rId5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48000" y="465300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5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116000" y="4797360"/>
            <a:ext cx="6912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Lágrimas que nascem assim são benditas. São parte da nossa oração de agradecimento a Deus por ter transformado em amigos esses anjos que vêm iluminar nossa exist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1413000"/>
            <a:ext cx="6912000" cy="410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87280" y="1484280"/>
            <a:ext cx="6769440" cy="396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9"/>
          <a:stretch/>
        </p:blipFill>
        <p:spPr>
          <a:xfrm>
            <a:off x="1116000" y="1413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0"/>
          <a:stretch/>
        </p:blipFill>
        <p:spPr>
          <a:xfrm>
            <a:off x="1116000" y="4437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1"/>
          <a:stretch/>
        </p:blipFill>
        <p:spPr>
          <a:xfrm>
            <a:off x="6948360" y="1413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2"/>
          <a:stretch/>
        </p:blipFill>
        <p:spPr>
          <a:xfrm>
            <a:off x="6948360" y="443700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403280" y="2276640"/>
            <a:ext cx="63374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Créd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Texto: Letícia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ea8f"/>
                </a:solidFill>
                <a:uFillTx/>
                <a:latin typeface="Verdana"/>
                <a:hlinkClick r:id="rId51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Música: Robert Holmes - </a:t>
            </a:r>
            <a:r>
              <a:rPr b="1" lang="en-US" sz="1800" spc="-1" strike="noStrike">
                <a:solidFill>
                  <a:srgbClr val="ffea8f"/>
                </a:solidFill>
                <a:latin typeface="Verdana"/>
              </a:rPr>
              <a:t>How deep is your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E-mail: </a:t>
            </a:r>
            <a:r>
              <a:rPr b="0" lang="pt-BR" sz="1800" spc="-1" strike="noStrike" u="sng">
                <a:solidFill>
                  <a:srgbClr val="ffea8f"/>
                </a:solidFill>
                <a:uFillTx/>
                <a:latin typeface="Verdana"/>
                <a:hlinkClick r:id="rId52"/>
              </a:rPr>
              <a:t>bethnorling@globo.com</a:t>
            </a: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467352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Antes eu pensava que os verdadeiros amigos jamais deveriam nos fazer chor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Sim, deveria ser proibido. Até porque, ver um amigo chorar, nos faz chorar também e a vida é feita pra ser vivida com aleg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66760" y="4600440"/>
            <a:ext cx="68612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Mas vou aprendendo no dia-a-dia que ainda tenho um longo caminho de aprendizado pela frente. E então vou descobrindo devagarinho, tal qual a madrugada vai descobrindo o dia, porque os verdadeiros amigos 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causam lágr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166760" y="4456080"/>
            <a:ext cx="6934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Eles são, nessa forma de amor universal e múltipla, as pessoas que conseguem entrar dentro do nosso coração e tocá-lo. E tocam assim, com tanta sutilidade e fineza, que é nossa alma que atingem, é nossa sensibilidade que vem recebê-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16000" y="4869000"/>
            <a:ext cx="6934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Daí as lágrimas... porque tudo o que é grande, inestimável e incompreensível no mundo arranca de nós esse sentimento de espa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16000" y="4581360"/>
            <a:ext cx="7005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Ah, sim... eles nos fazem chorar quando a saudade é tão grande que não encontramos palavras para explicá-la. Ou ainda, quando queremos imensamente estar na sua presença e tudo o que encontramos são as lembranças do pass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42920" y="4869000"/>
            <a:ext cx="7005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Ou quando nos arrancam bruscamente risos e lágrimas ao mesmo tempo lembrando do tempo bom e do que a vida carreg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042920" y="5084640"/>
            <a:ext cx="7077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Os verdadeiros amigos distanciam-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mudam-se, casam-se, mas continuam insistentemente e maravilhosamente, diria eu, a habitar nosso co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16000" y="4797360"/>
            <a:ext cx="7077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E as lágrimas que nos invadem como chuvas repentinas não são de tristeza, elas são a forma como nosso coração se expressa para mostrar o quanto o outro ainda está vivo e eternamente apegado à nossa al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7:09:13Z</dcterms:created>
  <dc:creator>Beth Norling</dc:creator>
  <dc:description/>
  <dc:language>en-US</dc:language>
  <cp:lastModifiedBy>Beth Norling</cp:lastModifiedBy>
  <dcterms:modified xsi:type="dcterms:W3CDTF">2008-07-08T18:27:02Z</dcterms:modified>
  <cp:revision>56</cp:revision>
  <dc:subject/>
  <dc:title>Porque_os_verdadeiros_amigos_nos_fazem_chorar</dc:title>
</cp:coreProperties>
</file>