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Andre_Rieu_-_Romantic_Moments_1.29_cut.wav" ContentType="audio/x-wav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710-6504-46EB-92DE-D042D4CD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576-3F44-4BD5-8220-36CFFCAB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5E0-04A6-4F86-B457-4A44AD0D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AED-5B30-4577-848A-26E45506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093-93B2-4C45-8461-218BBB7D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1D0-953E-4C76-A61F-3A1466A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EAE-B7C8-431A-9FBB-F20583D0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BE6-9351-496B-B5F5-FCE021BC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26C-BB8E-4E3C-9B67-5D26488A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4AE-F123-42A3-891E-6EBF464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2CD-F561-4DB0-AF13-379DC61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B01-36BB-49A3-97ED-619E2C5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1690-5204-4000-A6B4-DD32B5C9F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audio" Target="../media/Andre_Rieu_-_Romantic_Moments_1.29_cut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7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8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9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0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1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2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hyperlink" Target="http://www.leticiathompson.net/" TargetMode="External"/><Relationship Id="rId12" Type="http://schemas.openxmlformats.org/officeDocument/2006/relationships/hyperlink" Target="mailto:bethnorling@globo.com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908000" y="2349360"/>
            <a:ext cx="54007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QUEM AMA A ROSA</a:t>
            </a:r>
            <a:endParaRPr b="0" i="1" lang="en-US" sz="40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59280" y="3860640"/>
            <a:ext cx="29620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8200" y="83664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a rosa, ama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48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a rosa, a ama inteiramente e não somente pelo colorido das suas pétalas, a beleza da sua forma ou a suavidade do seu perf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5120" y="4869000"/>
            <a:ext cx="758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a rosa, não ignora os espinhos e não precisa suportá-los, pois amor não exige sacrifício, ele exige acei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5120" y="765000"/>
            <a:ext cx="758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Não existem pessoas perfei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e mesmo para aquelas que mais se assemelham ao nosso ideal de beleza física e interior, o tempo passa e a vida vai deixando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08200" y="479736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e amamos somente a beleza, amamos somente o efêmero e efêmeros são nossos sent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08200" y="3645000"/>
            <a:ext cx="750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Quem ama hoje, deve se preparar para amar ainda quando a pessoa amada tiver perdido o viço ou mesmo a saúde, pois uma rosa nasce e morre rosa e aos olhos amorosos muda a forma, nunca a ess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79480" y="4159080"/>
            <a:ext cx="72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Quem realmente ama a rosa, ama a vida t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rot="1058400">
            <a:off x="3240" y="0"/>
            <a:ext cx="1239840" cy="126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 rot="17354400">
            <a:off x="7830720" y="5387760"/>
            <a:ext cx="1204920" cy="125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 rot="18995400">
            <a:off x="8244000" y="6092640"/>
            <a:ext cx="633240" cy="483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 rot="2659800">
            <a:off x="0" y="620640"/>
            <a:ext cx="633240" cy="484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23840" y="1690560"/>
            <a:ext cx="70772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Texto: Letícia Thompson – Quem ama 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28f"/>
                </a:solidFill>
                <a:uFillTx/>
                <a:latin typeface="Verdana"/>
                <a:hlinkClick r:id="rId11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Música: André Rieu – Romantic Mom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28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e28f"/>
                </a:solidFill>
                <a:uFillTx/>
                <a:latin typeface="Verdana"/>
                <a:hlinkClick r:id="rId12"/>
              </a:rPr>
              <a:t>bethnorling@glob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46:23Z</dcterms:created>
  <dc:creator>Beth Norling</dc:creator>
  <dc:description/>
  <dc:language>en-US</dc:language>
  <cp:lastModifiedBy>Beth Norling</cp:lastModifiedBy>
  <dcterms:modified xsi:type="dcterms:W3CDTF">2007-06-01T19:44:05Z</dcterms:modified>
  <cp:revision>6</cp:revision>
  <dc:subject/>
  <dc:title>Quem_ama_a_rosa</dc:title>
</cp:coreProperties>
</file>