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Andre_Rieu_-_Romantic_Moments_1.29_cut.wav" ContentType="audio/x-wav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75D-B433-4887-9D93-ACFF85C1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B76-A759-44AF-A778-BB5726C0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663-F2E7-4088-B2A1-1E6AE47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2E2-ABD2-4E43-B6AC-5E97D4A0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B2B-9004-4250-9CEB-6F1B8B7B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4BD-72E5-474F-AB53-89DBEEF9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032-A060-4F0E-8EAF-631A7B2B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D18-4981-4F64-95BA-A004ACEE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7DE-0E48-4627-9726-D950633C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AFB-0782-4E60-8120-2CA4FA9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7AE-C7A2-48E7-9B26-D39D071E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461-3283-4925-97B3-B02E2BD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A38D-033D-4372-A0D4-DE93BAF7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audio" Target="../media/Andre_Rieu_-_Romantic_Moments_1.29_cut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7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8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9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0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1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2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hyperlink" Target="http://www.leticiathompson.net/" TargetMode="External"/><Relationship Id="rId12" Type="http://schemas.openxmlformats.org/officeDocument/2006/relationships/hyperlink" Target="mailto:bethnorling@globo.com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908000" y="2349360"/>
            <a:ext cx="5400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QUEM AMA A ROSA</a:t>
            </a:r>
            <a:endParaRPr b="0" i="1" lang="en-US" sz="40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59280" y="3860640"/>
            <a:ext cx="29620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8200" y="83664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a rosa, ama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48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a rosa, a ama inteiramente e não somente pelo colorido das suas pétalas, a beleza da sua forma ou a suavidade do seu perf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5120" y="486900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a rosa, não ignora os espinhos e não precisa suportá-los, pois amor não exige sacrifício, ele exige acei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5120" y="765000"/>
            <a:ext cx="758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Não existem pessoas perfe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e mesmo para aquelas que mais se assemelham ao nosso ideal de beleza física e interior, o tempo passa e a vida vai deixando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08200" y="479736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e amamos somente a beleza, amamos somente o efêmero e efêmeros são nossos sent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08200" y="3645000"/>
            <a:ext cx="750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hoje, deve se preparar para amar ainda quando a pessoa amada tiver perdido o viço ou mesmo a saúde, pois uma rosa nasce e morre rosa e aos olhos amorosos muda a forma, nunca a ess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9480" y="4159080"/>
            <a:ext cx="72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Quem realmente ama a rosa, ama a vida t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23840" y="1690560"/>
            <a:ext cx="70772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Texto: Letícia Thompson – Quem ama 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28f"/>
                </a:solidFill>
                <a:uFillTx/>
                <a:latin typeface="Verdana"/>
                <a:hlinkClick r:id="rId11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Música: André Rieu – Romantic Mom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28f"/>
                </a:solidFill>
                <a:uFillTx/>
                <a:latin typeface="Verdana"/>
                <a:hlinkClick r:id="rId12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46:23Z</dcterms:created>
  <dc:creator>Beth Norling</dc:creator>
  <dc:description/>
  <dc:language>en-US</dc:language>
  <cp:lastModifiedBy>Beth Norling</cp:lastModifiedBy>
  <dcterms:modified xsi:type="dcterms:W3CDTF">2007-06-01T19:44:05Z</dcterms:modified>
  <cp:revision>6</cp:revision>
  <dc:subject/>
  <dc:title>Quem_ama_a_rosa</dc:title>
</cp:coreProperties>
</file>