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Jim%20Brickman%20-%20The%20Promise.cut8.wav" ContentType="audio/x-wav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A36-B1E9-490C-B394-CCE80390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AF2-45B6-405C-A646-6BA5903B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D82-1D28-464B-8E8C-1EB93983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647-CC30-454A-A8AE-1DFD91F2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66D-FFA0-4CF1-B219-B910A340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3ED-2DDF-4F39-8A23-E5E6E5D4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284-B1DA-43CC-B222-087911C4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097-48A4-4BAE-872C-CB08BC7C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6CB-70AB-48AE-931F-E28E632A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D7B-7D84-4A62-81BA-2F1DD37F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903-BCCA-4BC4-98FF-5CD333AD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FEE-6792-41E5-9F8B-1C768F11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6DA2-D8DF-48F8-ABA0-9BE4422544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Jim%20Brickman%20-%20The%20Promise.cut8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6d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76520" y="685800"/>
            <a:ext cx="5352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O amor que</a:t>
            </a:r>
            <a:endParaRPr b="1" i="1" lang="en-US" sz="80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acabou </a:t>
            </a:r>
            <a:endParaRPr b="1" i="1" lang="en-US" sz="80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38280" y="5181480"/>
            <a:ext cx="36291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Letícia Thompson</a:t>
            </a:r>
            <a:endParaRPr b="1" i="1" lang="en-US" sz="24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2000">
    <p:randomBar dir="vert"/>
    <p:sndAc>
      <p:stSnd>
        <p:snd r:embed="rId3" name="Jim%20Brickman%20-%20The%20Promise.cut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4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533520"/>
            <a:ext cx="716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bc84"/>
                </a:solidFill>
                <a:latin typeface="Copperplate Gothic Light"/>
              </a:rPr>
              <a:t>Quando foi que o amor acabou e o príncipe virou sapo e a princesa desencantou? Provavelmente depois de tantos beijos não dados, de tantos momentos deixados pro lado, de tanto monólogo de ambas as partes. Em geral o amor assiste à própria morte e resta silencioso. Ou ele grita por socorro e as pessoas se fazem de surdas. O mais difícil no fim de um relacionamento é admitir que tudo acab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2d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6400"/>
                            </p:stCondLst>
                            <p:childTnLst>
                              <p:par>
                                <p:cTn id="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88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609480"/>
            <a:ext cx="769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Há pessoas que insistem simplesmente porque não querem admitir o fim. E caminham vagarosamente na vida, vivendo o dia-a-dia como se não houvesse o depois. Mas a vida não acaba quando morre um amor. Ela simplesmente passa por uma transição que, como todas, é freqüentemente dolorida. Tememos as mudanças porque tememos o desconhecido. Mas o que é o desconheci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8d8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34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88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76212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Mesmo o dia de amanhã, não podemos tocá-lo até que ele chegue a nós, não podemos sabê-lo até que chegue o momento em que, mergulhados, precisamos vivê-lo. Aceitar a morte, qualquer que seja, é reconhecer nossa vulnerabilidade diante da vida. E somos seres orgulhosos por demais para querer reconhecer nossa fragilidade ante o que não podemos controlar. E a vida não se contr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bd9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9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2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33520"/>
            <a:ext cx="754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Ela se abate sobre nossas cabeças e tudo o que podemos fazer é vivê-la o mais intensamente possível com todos os riscos e perigos que ela nos impõe, com todas as surpresas, que ela nos reserva. Precisamos é tirar o melhor partido do que está nas nossas mãos e reconhecer que pra todo fim há sempre um recomeço. Uma perda é quase sempre um ganho, é muitas vezes a válvula propulsora para uma nova vida, uma nova história, um novo amanhã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ed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7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9bc8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808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bc84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bc84"/>
                </a:solidFill>
                <a:latin typeface="Times New Roman"/>
              </a:rPr>
              <a:t>Jim Brickman - The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44792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c84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c84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7432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89bc84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bc84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bc84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4d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3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8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3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2:54:47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6:28:08Z</dcterms:modified>
  <cp:revision>3</cp:revision>
  <dc:subject>PPS</dc:subject>
  <dc:title>O amor que acabou</dc:title>
</cp:coreProperties>
</file>