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Jim%20Brickman%20-%20The%20Promise.cut8.wav" ContentType="audio/x-wav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998-F85E-4045-8E51-EA70AB0A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DB7-D714-46BB-BE2E-CAB62E06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233-1E47-4110-B45F-17596CD9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05C-937C-4DA9-B629-0F969EF0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0EF-4F58-4A56-80EC-479AF56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89F-566D-445F-BEEF-8198BEB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2DB-20BA-4F6C-90F5-4579CC10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873-DF33-495B-A882-72EFFC3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81D-CAA6-4D36-808E-E949AC6D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E4D-13AE-4E53-B225-8ABDFAF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F41-A1BA-4D61-A1EF-8A8B68D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6B2-36B6-4899-8E0D-C4C3498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8B25-10A8-4B8D-BDA5-CA3F50D44B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Jim%20Brickman%20-%20The%20Promise.cut8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6d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685800"/>
            <a:ext cx="5352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O amor que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acabou 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518148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2000">
    <p:randomBar dir="vert"/>
    <p:sndAc>
      <p:stSnd>
        <p:snd r:embed="rId3" name="Jim%20Brickman%20-%20The%20Promise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4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53352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</a:rPr>
              <a:t>Quando foi que o amor acabou e o príncipe virou sapo e a princesa desencantou? Provavelmente depois de tantos beijos não dados, de tantos momentos deixados pro lado, de tanto monólogo de ambas as partes. Em geral o amor assiste à própria morte e resta silencioso. Ou ele grita por socorro e as pessoas se fazem de surdas. O mais difícil no fim de um relacionamento é admitir que tudo acab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2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4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4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Há pessoas que insistem simplesmente porque não querem admitir o fim. E caminham vagarosamente na vida, vivendo o dia-a-dia como se não houvesse o depois. Mas a vida não acaba quando morre um amor. Ela simplesmente passa por uma transição que, como todas, é freqüentemente dolorida. Tememos as mudanças porque tememos o desconhecido. Mas o que é o desconheci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8d8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34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21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Mesmo o dia de amanhã, não podemos tocá-lo até que ele chegue a nós, não podemos sabê-lo até que chegue o momento em que, mergulhados, precisamos vivê-lo. Aceitar a morte, qualquer que seja, é reconhecer nossa vulnerabilidade diante da vida. E somos seres orgulhosos por demais para querer reconhecer nossa fragilidade ante o que não podemos controlar. E a vida não se contr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bd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9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3352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Ela se abate sobre nossas cabeças e tudo o que podemos fazer é vivê-la o mais intensamente possível com todos os riscos e perigos que ela nos impõe, com todas as surpresas, que ela nos reserva. Precisamos é tirar o melhor partido do que está nas nossas mãos e reconhecer que pra todo fim há sempre um recomeço. Uma perda é quase sempre um ganho, é muitas vezes a válvula propulsora para uma nova vida, uma nova história, um novo amanhã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ed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7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9bc8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80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Jim Brickman - The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4479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9bc84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bc84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bc84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4d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54:47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6:28:08Z</dcterms:modified>
  <cp:revision>3</cp:revision>
  <dc:subject>PPS</dc:subject>
  <dc:title>O amor que acabou</dc:title>
</cp:coreProperties>
</file>