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Ana%20Carolina%20-%20Nada%20para%20Mim.cut8bits.wav" ContentType="audio/x-wav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5A8-FC6A-49C7-BC85-9FF56DA5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DE6-5235-4F0C-AD1C-AB11AC3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0C5-2200-43F1-8AAE-1C2C5AF8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F3A-88C3-41F5-984F-F88F8838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C67-1E64-4CDE-85F8-64024D2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68E-B7E4-4462-84E5-BD2585FE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896-8B31-460E-B33F-CDF7224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5F8-1907-4FFF-B78B-E8096D9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2C7-C80E-431C-A4DD-E0AB29E7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FD2-BED0-401A-9A5C-CB7B992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A85-1690-48A7-BB2B-D0E65AB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D9E-9552-4C03-92A2-5B510D4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3F6-6349-4861-BDC4-21020DFB3F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audio" Target="../media/Ana%20Carolina%20-%20Nada%20para%20Mim.cut8bit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usonho.trix.net/pps/sergio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762120"/>
            <a:ext cx="654372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rorrogando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a</a:t>
            </a:r>
            <a:endParaRPr b="1" lang="en-US" sz="6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dor</a:t>
            </a:r>
            <a:endParaRPr b="1" lang="en-US" sz="6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800600"/>
            <a:ext cx="4000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Copperplate Gothic Bold"/>
              </a:rPr>
              <a:t>Letícia Thompson</a:t>
            </a:r>
            <a:endParaRPr b="1" lang="en-US" sz="32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10" name="Ana%20Carolina%20-%20Nada%20para%20Mim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48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a09e"/>
                </a:solidFill>
                <a:latin typeface="Copperplate Gothic Light"/>
              </a:rPr>
              <a:t>Por que será que nos agarramos a situações para as quais conhecemos perfeitamente o desfecho? Sabemos de antemão o que fazer, mas somos tomados pela angústia de ter que assumir uma decisão que vai nos fazer sofrer. Colocamos à frente um passo que poderia ter sido tomado agora. Nos enganamos conscientemente. Prorrogamos a decisão para que a dor seja prorrogada. É possível que dentro de nós achamos que a dor esticada vai ser mais su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4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7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5a78f"/>
                </a:solidFill>
                <a:latin typeface="Copperplate Gothic Light"/>
                <a:ea typeface="Arial"/>
              </a:rPr>
              <a:t>Se não podemos evitá-la, pelo menos vamos vivê-la a prestações, sem muita consciência que os juros podem ser muito altos no fim. Dar um passo errado não nos custa tanto quanto ter que assumí-lo. E ter que conviver com ele ou as conseqüências dele. Uma vez que reconhecemos o caminho errado, o normal seria voltar. Mas o que fazemos? Olhamos pra trás, medimos o caminho percorrido, nos perdemos no tempo sem sair do lugar, mesmo se a vida se apressa ao nosso r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05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0948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Conhecemos o abismo que se apresenta diante da situação, mas nos recusamos a admití-lo, embora saibamos que não queremos cair nele. Caminhamos a passos lentos, guiados pela esperança que nunca nos abandona, mesmo sabendo que uma hora ou outra teremos que pôr o ponto final. Fim da história. Fim de nós de uma certa maneira, ou daquilo que vivemos e sonh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09480"/>
            <a:ext cx="7467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Acreditamos num pequeno lapso de tempo que nunca mais outra oportunidade virá a nós, como se a vida fosse limitada. Nos entregamos à dor como nos entregamos ao amor. Inteiramente. E somos invadidos por uma sombra que nos isola de tudo. Mas que maravilhoso remédio é o tempo! Um dia acordamos e tudo parece mais ameno. Abrimos os olhos. Começamos a notar coisas para as quais estávamos ce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4a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61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68580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O dia seguinte será ainda melhor e virá um outro e um outro. Quão grandioso é esse Maestro do universo! Com um simples sopro ressuscita o sol a cada manhã e nos eleva com ele. Somos dessa maneira não uma pessoa nova, mas uma pessoa renovada. Mais vivida. Carregados de experiências que nos serviram de lição, que nos enriqueceram e nos tornaram uma pessoa, quem sabe,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25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1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eb58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33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Ana Carolina - Nada para M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75248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19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eb58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80060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586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81280" y="4724280"/>
            <a:ext cx="2057400" cy="838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400800" y="480060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eb586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05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08:19:13Z</dcterms:created>
  <dc:creator>ssoliver@terra.com.br</dc:creator>
  <dc:description/>
  <dc:language>en-US</dc:language>
  <cp:lastModifiedBy>Leticia Thompson</cp:lastModifiedBy>
  <dcterms:modified xsi:type="dcterms:W3CDTF">2004-10-28T18:10:08Z</dcterms:modified>
  <cp:revision>9</cp:revision>
  <dc:subject>PPS</dc:subject>
  <dc:title>Prorrogando a dor</dc:title>
</cp:coreProperties>
</file>