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Ana%20Carolina%20-%20Nada%20para%20Mim.cut8bits.wav" ContentType="audio/x-wav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7F5-F18E-4818-BD7C-FB40B490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A66-5C6F-4912-8311-DD771B1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D36-E040-48AC-83AC-8F3BE3A6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A83-5099-4FD4-9903-228EC34F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CB8-653D-4AD8-9B6B-9200877C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DBE-B6BD-45AB-94B4-597B16A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08E-006F-4A65-BE5F-615B59D4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286-1568-40D8-98DB-62AA252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BFB-1E1D-470F-803F-E5530B6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918-6441-4B47-A3D8-1E96B1F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B6B-C36B-4E50-A7D0-5BB5F40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225-F0CA-4F11-B080-502A6B2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6EE-C087-4195-A4AC-638A4BABF2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audio" Target="../media/Ana%20Carolina%20-%20Nada%20para%20Mim.cut8bit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usonho.trix.net/pps/sergio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762120"/>
            <a:ext cx="6543720" cy="28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Prorrogando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a</a:t>
            </a:r>
            <a:endParaRPr b="1" lang="en-US" sz="6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dor</a:t>
            </a:r>
            <a:endParaRPr b="1" lang="en-US" sz="6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800600"/>
            <a:ext cx="4000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Copperplate Gothic Bold"/>
              </a:rPr>
              <a:t>Letícia Thompson</a:t>
            </a:r>
            <a:endParaRPr b="1" lang="en-US" sz="32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10" name="Ana%20Carolina%20-%20Nada%20para%20Mim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a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48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ea09e"/>
                </a:solidFill>
                <a:latin typeface="Copperplate Gothic Light"/>
              </a:rPr>
              <a:t>Por que será que nos agarramos a situações para as quais conhecemos perfeitamente o desfecho? Sabemos de antemão o que fazer, mas somos tomados pela angústia de ter que assumir uma decisão que vai nos fazer sofrer. Colocamos à frente um passo que poderia ter sido tomado agora. Nos enganamos conscientemente. Prorrogamos a decisão para que a dor seja prorrogada. É possível que dentro de nós achamos que a dor esticada vai ser mais su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43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76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7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7621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5a78f"/>
                </a:solidFill>
                <a:latin typeface="Copperplate Gothic Light"/>
                <a:ea typeface="Arial"/>
              </a:rPr>
              <a:t>Se não podemos evitá-la, pelo menos vamos vivê-la a prestações, sem muita consciência que os juros podem ser muito altos no fim. Dar um passo errado não nos custa tanto quanto ter que assumí-lo. E ter que conviver com ele ou as conseqüências dele. Uma vez que reconhecemos o caminho errado, o normal seria voltar. Mas o que fazemos? Olhamos pra trás, medimos o caminho percorrido, nos perdemos no tempo sem sair do lugar, mesmo se a vida se apressa ao nosso r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05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09480"/>
            <a:ext cx="685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Conhecemos o abismo que se apresenta diante da situação, mas nos recusamos a admití-lo, embora saibamos que não queremos cair nele. Caminhamos a passos lentos, guiados pela esperança que nunca nos abandona, mesmo sabendo que uma hora ou outra teremos que pôr o ponto final. Fim da história. Fim de nós de uma certa maneira, ou daquilo que vivemos e sonh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09480"/>
            <a:ext cx="7467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Acreditamos num pequeno lapso de tempo que nunca mais outra oportunidade virá a nós, como se a vida fosse limitada. Nos entregamos à dor como nos entregamos ao amor. Inteiramente. E somos invadidos por uma sombra que nos isola de tudo. Mas que maravilhoso remédio é o tempo! Um dia acordamos e tudo parece mais ameno. Abrimos os olhos. Começamos a notar coisas para as quais estávamos ce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4a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61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9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68580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a99a"/>
                </a:solidFill>
                <a:latin typeface="Copperplate Gothic Light"/>
                <a:ea typeface="Arial"/>
              </a:rPr>
              <a:t>O dia seguinte será ainda melhor e virá um outro e um outro. Quão grandioso é esse Maestro do universo! Com um simples sopro ressuscita o sol a cada manhã e nos eleva com ele. Somos dessa maneira não uma pessoa nova, mas uma pessoa renovada. Mais vivida. Carregados de experiências que nos serviram de lição, que nos enriqueceram e nos tornaram uma pessoa, quem sabe, melh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25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1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eb58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335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Ana Carolina - Nada para M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75248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586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819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eb586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80060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586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81280" y="4724280"/>
            <a:ext cx="2057400" cy="838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400800" y="480060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eb586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05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08:19:13Z</dcterms:created>
  <dc:creator>ssoliver@terra.com.br</dc:creator>
  <dc:description/>
  <dc:language>en-US</dc:language>
  <cp:lastModifiedBy>Leticia Thompson</cp:lastModifiedBy>
  <dcterms:modified xsi:type="dcterms:W3CDTF">2004-10-28T18:10:08Z</dcterms:modified>
  <cp:revision>9</cp:revision>
  <dc:subject>PPS</dc:subject>
  <dc:title>Prorrogando a dor</dc:title>
</cp:coreProperties>
</file>