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4.jpeg" ContentType="image/jpeg"/>
  <Override PartName="/ppt/media/image5.gif" ContentType="image/gif"/>
  <Override PartName="/ppt/media/Giovanni%20-%20The%20impossible%20dream.wav" ContentType="audio/x-wav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18C-596B-4E29-8F55-2E2A772E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A44E-6ACE-46A3-9731-D31E054A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289-A3C4-481B-A675-62810F8D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A3C-249B-42DA-AA2D-54C93E59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702-4EEF-4EB5-A7F1-9F88C82E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531B-6F59-4926-9EE0-DBDE15BE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8F64-FB3C-4432-80E7-7A1EB3F0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2D1-D4E6-428F-9267-0433B40E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E814-27B2-460D-8073-F355485C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83F-B7A3-4AE9-8A5D-16D08FC7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A33-D1D1-45CB-82FF-195A2042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5D98-493F-4FF3-96F0-6B2805E5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4C61-6BFD-4219-8FE5-B340CB178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audio" Target="../media/Giovanni%20-%20The%20impossible%20dream.wav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4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5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6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hyperlink" Target="http://www.leticiathompson.net/" TargetMode="External"/><Relationship Id="rId23" Type="http://schemas.openxmlformats.org/officeDocument/2006/relationships/hyperlink" Target="mailto:bethnorling@globo.com" TargetMode="External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6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7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8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9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0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1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2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2.jpeg"/><Relationship Id="rId11" Type="http://schemas.openxmlformats.org/officeDocument/2006/relationships/image" Target="../media/image13.jpeg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484360" y="2565360"/>
            <a:ext cx="417204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2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333399">
                      <a:alpha val="80000"/>
                    </a:srgbClr>
                  </a:outerShdw>
                </a:effectLst>
                <a:latin typeface="Verdana"/>
              </a:rPr>
              <a:t>PARA SER FELIZ</a:t>
            </a:r>
            <a:endParaRPr b="1" lang="en-US" sz="1800" spc="1" strike="noStrike">
              <a:ln w="0">
                <a:noFill/>
              </a:ln>
              <a:blipFill rotWithShape="0">
                <a:blip r:embed="rId23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333399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48000" y="3933720"/>
            <a:ext cx="25336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24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333399">
                      <a:alpha val="80000"/>
                    </a:srgbClr>
                  </a:outerShdw>
                </a:effectLst>
                <a:latin typeface="Verdana"/>
              </a:rPr>
              <a:t>Letícia Thompson</a:t>
            </a:r>
            <a:endParaRPr b="1" lang="en-US" sz="2000" spc="1" strike="noStrike">
              <a:ln w="0">
                <a:noFill/>
              </a:ln>
              <a:blipFill rotWithShape="0">
                <a:blip r:embed="rId25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333399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116000" y="1341360"/>
            <a:ext cx="316872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ero abraçar o hoje com o que ele me oferece e amanhã será um outro dia onde poderei também extrair meu pedaço de felicidade. Porque felicidade é iss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daços aqui e acolá que vão enchendo nosso co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cover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166760" y="2584440"/>
            <a:ext cx="678996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us cuida de nós como cuida dos pássaros e das crianças. Os pássaros cantam em todas as ocasiões e as crianças riem do nada. Eles sabem, da maneira deles, aproveitar o momento presente e extrair de cada instante a felicidade.  São felizes com a simplicidade que Deus pede ao nosso coração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187280" y="4724280"/>
            <a:ext cx="68612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ara ser feliz, viva seu agora. Torne-se criança no coração e na alma. Cante como os pássaros e seu rosto terá aos olhos de todos a beleza dos lírios dos camp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cover dir="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311120" y="2266920"/>
            <a:ext cx="657396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3399"/>
                </a:solidFill>
                <a:uFillTx/>
                <a:latin typeface="Verdana"/>
                <a:hlinkClick r:id="rId22"/>
              </a:rPr>
              <a:t>www.leticiathompson.net</a:t>
            </a:r>
            <a:r>
              <a:rPr b="1" lang="pt-BR" sz="20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Verdana"/>
              </a:rPr>
              <a:t>Música: Giovanni -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he impossible dream</a:t>
            </a:r>
            <a:r>
              <a:rPr b="1" lang="pt-BR" sz="2000" spc="-1" strike="noStrike">
                <a:solidFill>
                  <a:srgbClr val="003399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003399"/>
                </a:solidFill>
                <a:uFillTx/>
                <a:latin typeface="Verdana"/>
                <a:hlinkClick r:id="rId23"/>
              </a:rPr>
              <a:t>bethnorling@globo.com</a:t>
            </a:r>
            <a:r>
              <a:rPr b="1" lang="pt-BR" sz="20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58920" y="692280"/>
            <a:ext cx="6716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 que você precisa para ser feliz? Responda... pegue papel, caneta e faça uma lista, olhando bem dentro do seu co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5084640"/>
            <a:ext cx="66452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 sentimento de felicidade e, creia, de infelicidade, é coisa individual. O que faz uma pessoa feliz pode não fazer uma ou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8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16000" y="4508640"/>
            <a:ext cx="6932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 grande problema de todo mundo é que quanto mais temos, mais nos tornamos exigentes. Só que não sabemos isso com antecedência. Nos dizemos: se eu tivesse isso, seria feli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cover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16000" y="4797360"/>
            <a:ext cx="68612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s depois de satisfeitos, outro vazio se abre, então queremos mais e assim por diante. Nos sentimos felizes no momento e depois da euforia passada, tudo parece ba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over dir="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187280" y="3645000"/>
            <a:ext cx="676944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 amor faz feliz. Mas o amor sem dinheiro pode não ser o bastante. Então queremos os dois. Depois pedimos saúde, casa, filhos, um bom trabalho... e assim por diante. Como um pedreiro, vamos construindo nosso ideal de felicidade tijolinho por tijolinho, sem portanto jamais terminar de construir, como se a vida fosse uma obra inacabada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cover dir="l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87280" y="1484280"/>
            <a:ext cx="367200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ando tudo parece completo, reclamamos do tempo que passou e nos arrependemos do que não fizemos ou nos dizemos que poderíamos 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eito m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4292640"/>
            <a:ext cx="34052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igo tudo isso para dizer que o ser humano parece sempre insatisfe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cover dir="l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9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258920" y="620640"/>
            <a:ext cx="66452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nso que a verdadeira felicidade devemos aprender é com as crianças: beber dessa água e desses instantes e não pensar em mais nad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87280" y="4581360"/>
            <a:ext cx="67899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r feliz, simplesmente, não colocando a felicidade como objetivo para o próximo passo, sem portanto, deixar de caminhar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87280" y="5734080"/>
            <a:ext cx="6716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 mundo anda, andamos com ele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cover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19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32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187280" y="4508640"/>
            <a:ext cx="686124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ão podemos usufruir da felicidade presente pensando sempre na outra que virá, porque é isso que causa insatisfação nas pesso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 sempre esperarmos que será melhor amanhã, o hoje parecerá insignific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cover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0"/>
            <a:ext cx="10800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532720" y="0"/>
            <a:ext cx="10800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00000" y="476280"/>
            <a:ext cx="7344000" cy="590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549360"/>
            <a:ext cx="7200720" cy="57592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2"/>
          <a:stretch/>
        </p:blipFill>
        <p:spPr>
          <a:xfrm rot="16200000">
            <a:off x="7057080" y="157356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3"/>
          <a:stretch/>
        </p:blipFill>
        <p:spPr>
          <a:xfrm rot="16200000">
            <a:off x="7057080" y="47707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4"/>
          <a:stretch/>
        </p:blipFill>
        <p:spPr>
          <a:xfrm rot="5400000">
            <a:off x="-1573920" y="157392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5"/>
          <a:stretch/>
        </p:blipFill>
        <p:spPr>
          <a:xfrm rot="5400000">
            <a:off x="-1573920" y="4771080"/>
            <a:ext cx="3660840" cy="512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6"/>
          <a:stretch/>
        </p:blipFill>
        <p:spPr>
          <a:xfrm rot="3586800">
            <a:off x="0" y="47628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7"/>
          <a:stretch/>
        </p:blipFill>
        <p:spPr>
          <a:xfrm flipH="1" rot="17627400">
            <a:off x="7449840" y="727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8"/>
          <a:stretch/>
        </p:blipFill>
        <p:spPr>
          <a:xfrm rot="3586800">
            <a:off x="0" y="4508640"/>
            <a:ext cx="1692000" cy="1692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9"/>
          <a:stretch/>
        </p:blipFill>
        <p:spPr>
          <a:xfrm rot="3586800">
            <a:off x="37800" y="249516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0"/>
          <a:stretch/>
        </p:blipFill>
        <p:spPr>
          <a:xfrm flipH="1" rot="17627400">
            <a:off x="7449840" y="4399920"/>
            <a:ext cx="1801800" cy="1585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1"/>
          <a:stretch/>
        </p:blipFill>
        <p:spPr>
          <a:xfrm flipH="1" rot="17627400">
            <a:off x="7449840" y="2456640"/>
            <a:ext cx="1801800" cy="15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116000" y="4149720"/>
            <a:ext cx="686124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ortanto, quanto proveito perdemos do presente porque não sabemos apreciar e dar o justo valor aquele momento. Temos, hoje, o que Deus permite que tenhamos e que nos sustenta. Ansiar por mais, sempre mais nos torna seres infeliz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cover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14:13:20Z</dcterms:created>
  <dc:creator>Beth Norling</dc:creator>
  <dc:description/>
  <dc:language>en-US</dc:language>
  <cp:lastModifiedBy>Beth Norling</cp:lastModifiedBy>
  <dcterms:modified xsi:type="dcterms:W3CDTF">2008-08-16T18:25:23Z</dcterms:modified>
  <cp:revision>17</cp:revision>
  <dc:subject/>
  <dc:title>Para_ser_feliz</dc:title>
</cp:coreProperties>
</file>