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gif" ContentType="image/gif"/>
  <Override PartName="/ppt/media/toquinho(aquarela)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79280" y="3933720"/>
            <a:ext cx="11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1400" spc="-1" strike="noStrike">
                <a:solidFill>
                  <a:srgbClr val="333399"/>
                </a:solidFill>
                <a:latin typeface="Times New Roman"/>
              </a:rPr>
              <a:t>Colacio.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79280" y="189000"/>
            <a:ext cx="8785440" cy="410364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250920" y="260280"/>
            <a:ext cx="8642160" cy="39607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7784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3933720"/>
            <a:ext cx="11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lacio.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audio" Target="../media/toquinho(aquarela).wav"/><Relationship Id="rId7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71640" y="4221000"/>
            <a:ext cx="72723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LACIO. J  SL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PRES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380360" y="126828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547640" y="450864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7451640" y="450864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1763640" y="1268280"/>
            <a:ext cx="200160" cy="2001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6165000"/>
            <a:ext cx="88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17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: aguarde a rolagem automática dos slides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push dir="l"/>
    <p:sndAc>
      <p:stSnd>
        <p:snd r:embed="rId6" name="toquinho(aquarela)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195640" y="4652280"/>
            <a:ext cx="475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quarela Da Vid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806560" y="6062040"/>
            <a:ext cx="37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to de: Ilze Soa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268360" y="494172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659640" y="4941720"/>
            <a:ext cx="199800" cy="2001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95280" y="4508640"/>
            <a:ext cx="835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ma aquarela esmaecid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ncelo florestas de ilusõ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os de cicatrizes dolorida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dilheiras de emoções..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">
    <p:push dir="l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0"/>
                            </p:stCondLst>
                            <p:childTnLst>
                              <p:par>
                                <p:cTn id="2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5000"/>
                            </p:stCondLst>
                            <p:childTnLst>
                              <p:par>
                                <p:cTn id="3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3120" y="4745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4365720"/>
            <a:ext cx="849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m oceano azul de alegria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aivotas brancas do bom humo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árvores com folhas de fantas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 nuvens macias carregadas de am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9000">
    <p:push dir="r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0"/>
                            </p:stCondLst>
                            <p:childTnLst>
                              <p:par>
                                <p:cTn id="4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5000"/>
                            </p:stCondLst>
                            <p:childTnLst>
                              <p:par>
                                <p:cTn id="5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95280" y="4581360"/>
            <a:ext cx="813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 vento que passa ligeir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fresca minha pele escaldant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lançando folhas do coqueir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virando a banca do ambulante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2000">
    <p:push dir="l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0"/>
                            </p:stCondLst>
                            <p:childTnLst>
                              <p:par>
                                <p:cTn id="6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0"/>
                            </p:stCondLst>
                            <p:childTnLst>
                              <p:par>
                                <p:cTn id="7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0"/>
                            </p:stCondLst>
                            <p:childTnLst>
                              <p:par>
                                <p:cTn id="7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4360" y="4508640"/>
            <a:ext cx="784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nto que meu corpo arrebat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irando desejos, versos de poe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 falem de um amor que chega e arrast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andonando a aquarela que ali jaz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4000">
    <p:push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24000" y="4327560"/>
            <a:ext cx="8496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Autora Texto: Ilze Soa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Imagem:www.pinuptoos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presentação: Colacio.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tato: colacio.j@superig.com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Visite o site:  http://www.ilzesoares.recantodasletras.com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3/10/2010 -10:00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12:54:58Z</dcterms:created>
  <dc:creator>Colacio.j Slides</dc:creator>
  <dc:description>Autora Texto: Ilze Soares 
Imagem:www.pinuptoos.com
Apresentação: Colacio.j
Contato: colacio.j@superig.com.br
Visite o site:  http://www.ilzesoares.recantodasletras.com.br
13/10/2010 -10:00hs
</dc:description>
  <dc:language>en-US</dc:language>
  <cp:lastModifiedBy>terminal</cp:lastModifiedBy>
  <dcterms:modified xsi:type="dcterms:W3CDTF">2010-10-13T12:50:27Z</dcterms:modified>
  <cp:revision>15</cp:revision>
  <dc:subject>Apresentação slide</dc:subject>
  <dc:title>Aquarela da vida - Ilze Soares</dc:title>
</cp:coreProperties>
</file>