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Richard%20Clayderman%20-%20Only%20you.wav" ContentType="audio/x-wav"/>
  <Override PartName="/ppt/media/image3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D06-82D7-4488-8624-125C96A4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2A1-4BEA-4658-9000-BF4180AE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2E4-4A75-4CC3-B1E7-46182131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6D8-89B1-442A-AC37-9CEAF470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11D-882E-427E-A0B1-56E630AF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DFD-E7F0-406F-A8C9-BCD95A8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0A2-77A1-4B79-8C11-DDAE5B7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2D5-3EC3-41A2-A885-6421F04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9CF-EB05-431B-99DC-A00E8943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281-68EB-46F0-94C9-B74BF0B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177-E138-4BDD-A972-8F5C6711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9E5-D3D6-4DB1-91FF-B31DC52E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1AF2-8F02-40DE-9518-99EF5289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audio" Target="../media/Richard%20Clayderman%20-%20Only%20you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907920"/>
            <a:ext cx="7344000" cy="504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rcRect l="0" t="10067" r="0" b="0"/>
          <a:stretch/>
        </p:blipFill>
        <p:spPr>
          <a:xfrm>
            <a:off x="7897680" y="0"/>
            <a:ext cx="12463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rcRect l="0" t="10067" r="0" b="0"/>
          <a:stretch/>
        </p:blipFill>
        <p:spPr>
          <a:xfrm>
            <a:off x="0" y="5737320"/>
            <a:ext cx="1246320" cy="112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2421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OS CAMINHOS DE DEUS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48000" y="414972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79320" y="620640"/>
            <a:ext cx="7785360" cy="5545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58080" cy="5616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00000" y="2421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 coração projeta sim, para hoje, para amanhã e para depois e é bom que seja assim. Precisamos de planos para o dia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Mas felizes são aqueles que sabem esperar a hora, o momento e têm a humildade de entregar esses planos Àquele que esquadrinha nossos corações e conhece nosso 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836640"/>
            <a:ext cx="7490160" cy="5256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907920"/>
            <a:ext cx="7344000" cy="511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1773360"/>
            <a:ext cx="69706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Música: Richard Clayderman - </a:t>
            </a:r>
            <a:r>
              <a:rPr b="1" lang="en-US" sz="2000" spc="-1" strike="noStrike">
                <a:solidFill>
                  <a:srgbClr val="ffeda3"/>
                </a:solidFill>
                <a:latin typeface="Verdana"/>
              </a:rPr>
              <a:t>Only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>
            <a:grayscl/>
          </a:blip>
          <a:srcRect l="3187" t="0" r="3187" b="0"/>
          <a:stretch/>
        </p:blipFill>
        <p:spPr>
          <a:xfrm>
            <a:off x="755640" y="692280"/>
            <a:ext cx="7632720" cy="54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rcRect l="3187" t="0" r="3187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2781360"/>
            <a:ext cx="7437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ossos caminhos nem sempre são aqueles que nosso coração projet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em para nós, nem nossos filhos ou para a pessoa que nosso coração eleg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92280"/>
            <a:ext cx="7848360" cy="554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2276640"/>
            <a:ext cx="743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É evidente que Deus quer a nossa felicidade e que nos deixou o livre arbítrio para fazermos nossas escolhas. E olha o resultado: vamos à direita quando deveríamos ir à esquerda, nos precipitamos quando deveríamos esperar, esperamos demais quando deveríamos tomar uma atitude e tornamos nosso coração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85264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coração chora, não é porque Deus provocou lágrimas, mas porque, tendo a escolha, ficamos do lado er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2276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ria um mundo perfeito se projetássemos todos os nossos sonhos e que eles se construíssem pontinho por pontinho, até o fim. É isso que tentamos fazer diariamente quando dizemos a Deus para fazer exatamente aquilo que queremos que seja feito, porque bem sabemos, apesar de mal interpretarmos, que Deus deseja nossa felicidade e somente nossa felic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2565360"/>
            <a:ext cx="7580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Queremos aquele trabalho específico, um casamento perfeito com uma pessoa perfeita, filhos perfeitos e inteligentes, a cura para todos os males e uma situação financeira estável e equilibrada. Dizemos então a Deus: - aqui estão meus projetos e eu sou seu filho. Realize-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>
            <a:grayscl/>
          </a:blip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8"/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2637000"/>
            <a:ext cx="758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h, se conhecêssemos o íntimo do nosso ser como Deus conhece!... se tivéssemos a humildade de pensar que talvez seria melhor tomar outro caminho que o planejado, não erraríamos tanto e não sofreríamos tanto!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684360" y="620640"/>
            <a:ext cx="7775280" cy="561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08200" y="2800440"/>
            <a:ext cx="758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Tente dar ao seu próprio filho tudo o que ele pede sem refletir, no momento que ele pede. Você perceberá com o tempo que ele ficou despreparado para a vida ou que correu riscos que poderiam ter sido evitados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9480" y="28004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Deus nos dá o livre arbítrio sim. Mas na Sua sabedoria pode nos dizer se este caminho é melhor que aquele, se o coração não está influenciado demais por emoções, se o dia poderia ser pintado de outra cor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8:46:50Z</dcterms:created>
  <dc:creator>Beth Norling</dc:creator>
  <dc:description/>
  <dc:language>en-US</dc:language>
  <cp:lastModifiedBy>Beth Norling</cp:lastModifiedBy>
  <dcterms:modified xsi:type="dcterms:W3CDTF">2008-07-31T21:24:53Z</dcterms:modified>
  <cp:revision>10</cp:revision>
  <dc:subject/>
  <dc:title>Os_caminhos_de_Deus</dc:title>
</cp:coreProperties>
</file>