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Ernesto%20Cortazar%20-%20Tide%20of%20Lust%20-%20Blue%20Water.cut8b1.wav" ContentType="audio/x-wav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6FC3-145E-4BC0-B474-B898A5E77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B53B-6ECB-409B-A015-E8018696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0839-0BAD-402F-8CC2-EFE9993FA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947A-8C18-4061-9038-467FB6674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C123-95AA-4A96-8864-B5E97D07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F1C4-A3FC-41E4-BCFB-092B7CB8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5603-B901-4F1C-826B-478DB1BA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C4C8-DC25-48CE-89DA-B1D1164C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F79F-43C9-4906-A948-3F300844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C8F5-025B-4BCB-8E08-BE5B4914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06DD-5601-4EA7-A59A-FF3FA988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F47D-C717-4D4C-BC7F-4C1AD2C3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aa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8961-3B4C-4773-AFE9-EA7E78D3A24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Ernesto%20Cortazar%20-%20Tide%20of%20Lust%20-%20Blue%20Water.cut8b1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leticiathompson.com/" TargetMode="External"/><Relationship Id="rId2" Type="http://schemas.openxmlformats.org/officeDocument/2006/relationships/hyperlink" Target="http://www.leticiathompson.net/minhas_mensagens_em_pps.ht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aa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3125"/>
            </a:avLst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096240"/>
          </a:xfrm>
          <a:prstGeom prst="rect">
            <a:avLst/>
          </a:prstGeom>
          <a:ln w="28440">
            <a:solidFill>
              <a:srgbClr val="bab6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380880" y="380880"/>
            <a:ext cx="8382240" cy="6096240"/>
          </a:xfrm>
          <a:prstGeom prst="rect">
            <a:avLst/>
          </a:prstGeom>
          <a:solidFill>
            <a:srgbClr val="ffffcc">
              <a:alpha val="50000"/>
            </a:srgbClr>
          </a:solidFill>
          <a:ln w="28440">
            <a:solidFill>
              <a:srgbClr val="bab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382240" cy="6096240"/>
          </a:xfrm>
          <a:prstGeom prst="rect">
            <a:avLst/>
          </a:prstGeom>
          <a:ln w="28440">
            <a:solidFill>
              <a:srgbClr val="bab6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3079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143000" y="1219320"/>
            <a:ext cx="641988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fbe4ae"/>
                    </a:gs>
                    <a:gs pos="50000">
                      <a:srgbClr val="fae3b7"/>
                    </a:gs>
                    <a:gs pos="100000">
                      <a:srgbClr val="fbe4a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68867"/>
                  </a:outerShdw>
                </a:effectLst>
                <a:latin typeface="Book Antiqua"/>
              </a:rPr>
              <a:t>Quatro estações</a:t>
            </a:r>
            <a:endParaRPr b="1" i="1" lang="en-US" sz="7200" spc="1" strike="noStrike">
              <a:ln w="0">
                <a:noFill/>
              </a:ln>
              <a:gradFill rotWithShape="0">
                <a:gsLst>
                  <a:gs pos="0">
                    <a:srgbClr val="fbe4ae"/>
                  </a:gs>
                  <a:gs pos="50000">
                    <a:srgbClr val="fae3b7"/>
                  </a:gs>
                  <a:gs pos="100000">
                    <a:srgbClr val="fbe4ae"/>
                  </a:gs>
                </a:gsLst>
                <a:lin ang="5400000"/>
              </a:gradFill>
              <a:effectLst>
                <a:outerShdw dist="17819" dir="2700000" blurRad="0" rotWithShape="0">
                  <a:srgbClr val="968867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743200" y="4648320"/>
            <a:ext cx="367668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be4ae"/>
                    </a:gs>
                    <a:gs pos="50000">
                      <a:srgbClr val="fae3b7"/>
                    </a:gs>
                    <a:gs pos="100000">
                      <a:srgbClr val="fbe4a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68867"/>
                  </a:outerShdw>
                </a:effectLst>
                <a:latin typeface="Book Antiqua"/>
              </a:rPr>
              <a:t>Letícia Thompson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fbe4ae"/>
                  </a:gs>
                  <a:gs pos="50000">
                    <a:srgbClr val="fae3b7"/>
                  </a:gs>
                  <a:gs pos="100000">
                    <a:srgbClr val="fbe4ae"/>
                  </a:gs>
                </a:gsLst>
                <a:lin ang="5400000"/>
              </a:gradFill>
              <a:effectLst>
                <a:outerShdw dist="17819" dir="2700000" blurRad="0" rotWithShape="0">
                  <a:srgbClr val="968867"/>
                </a:outerShdw>
              </a:effectLst>
              <a:latin typeface="Book Antiqua"/>
              <a:ea typeface="Book Antiqua"/>
            </a:endParaRPr>
          </a:p>
        </p:txBody>
      </p:sp>
    </p:spTree>
  </p:cSld>
  <p:transition spd="slow" advTm="20000">
    <p:randomBar dir="vert"/>
    <p:sndAc>
      <p:stSnd>
        <p:snd r:embed="rId3" name="Ernesto%20Cortazar%20-%20Tide%20of%20Lust%20-%20Blue%20Water.cut8b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3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aa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98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609480"/>
            <a:ext cx="7162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a7aa8e"/>
                </a:solidFill>
                <a:latin typeface="Copperplate Gothic Light"/>
              </a:rPr>
              <a:t>Quatro estações são necessárias para que se possa passar adiante depois de uma perda. O primeiro tudo depois da morte é sempre o mais difícil: o primeiro aniversário, o primeiro natal, o primeiro réveillon, as primeiras férias... são as ocasiões mais doloridas. Mas o passar dos dias ameniza a dor e vai dando lugar a uma certa nostalgia, ao carinho da lembranç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d1d0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5000">
    <p:randomBar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4300"/>
                            </p:stCondLst>
                            <p:childTnLst>
                              <p:par>
                                <p:cTn id="3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aa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93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685800"/>
            <a:ext cx="6858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7aa8e"/>
                </a:solidFill>
                <a:latin typeface="Copperplate Gothic Light"/>
                <a:ea typeface="Arial"/>
              </a:rPr>
              <a:t>Pensamos no instante da perda que nunca mais seremos capazes de sorrir, mas isso não é verdade. Depois de algumas auroras e alguns entardeceres, vamos descobrindo que a vida ainda está muito presente, que ainda somos capazes de nos alegrar com outras coisas, sem que isso diminua o amor e a saudade que sentimos de quem parti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d7d6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3000">
    <p:randomBa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1900"/>
                            </p:stCondLst>
                            <p:childTnLst>
                              <p:par>
                                <p:cTn id="4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aa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98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685800"/>
            <a:ext cx="6324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7aa8e"/>
                </a:solidFill>
                <a:latin typeface="Copperplate Gothic Light"/>
                <a:ea typeface="Arial"/>
              </a:rPr>
              <a:t>Aceitamos dificilmente a morte porque nos esquecemos com facilidade que nossa vida na terra é apenas uma passagem. E quando alguém parte, é como se acordássemos para essa realidade: somos eternos para a vida, mas não a terrena! Inconscientemente pensamos na nossa própria morte e na daqueles que ainda estão conos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dcdb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2000">
    <p:randomBa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100"/>
                            </p:stCondLst>
                            <p:childTnLst>
                              <p:par>
                                <p:cTn id="5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aa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653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609480"/>
            <a:ext cx="74678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a7aa8e"/>
                </a:solidFill>
                <a:latin typeface="Copperplate Gothic Light"/>
                <a:ea typeface="Arial"/>
              </a:rPr>
              <a:t>Mas... enquanto o sangue pulsar nas nossas veias, é a vida que pulsa e tudo o que podemos e devemos fazer é vivê-la. Alguém que amamos parte para sempre e isso é tremendamente doloroso. Essa pessoa é insubstituível ao nosso coração, já que cada pessoa é única em si no nosso viver e somos conscientes disso. Mas outros que amamos e que nos amam ainda estão por aqui e isso deve ser motivo de alegria e reconfor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dedd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2000">
    <p:randomBar dir="ver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8200"/>
                            </p:stCondLst>
                            <p:childTnLst>
                              <p:par>
                                <p:cTn id="6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aa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653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685800"/>
            <a:ext cx="7467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7aa8e"/>
                </a:solidFill>
                <a:latin typeface="Copperplate Gothic Light"/>
                <a:ea typeface="Arial"/>
              </a:rPr>
              <a:t>Por esses, pelo menos, devemos nos reerguer, reagir, fazer um esforço. E para nós, para nosso bem. Deus nos consola; amigos, família nos consolam... só precisamos é aceitar as mãos estendidas. Quatro estações e um pouco de paciência...  o sol vai brilhar novamente, a alegria vai de novo encher o coração e tudo vai voltar ao normal. É preciso acreditar niss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dcdb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7000">
    <p:randomBar dir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800"/>
                            </p:stCondLst>
                            <p:childTnLst>
                              <p:par>
                                <p:cTn id="7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aa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185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914400"/>
            <a:ext cx="68580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a7aa8e"/>
                </a:solidFill>
                <a:latin typeface="Copperplate Gothic Light"/>
              </a:rPr>
              <a:t>À  Rose Mary Sadalla, pela perda irreparável pela qual passa, para que possa se sentir reconfortada no carinho da amizade dos que a amam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a7aa8e"/>
                </a:solidFill>
                <a:latin typeface="Copperplate Gothic Light"/>
              </a:rPr>
              <a:t>Um forte abraço,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a7aa8e"/>
                </a:solidFill>
                <a:latin typeface="Copperplate Gothic Light"/>
              </a:rPr>
              <a:t>Letí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e3e2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2000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3200"/>
                            </p:stCondLst>
                            <p:childTnLst>
                              <p:par>
                                <p:cTn id="9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7aa8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907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457200"/>
            <a:ext cx="5715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a7aa8e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a7aa8e"/>
                </a:solidFill>
                <a:latin typeface="Times New Roman"/>
              </a:rPr>
              <a:t>Ernesto Cortazar - Tide of Lust - Blue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160020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8e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8e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2590920"/>
            <a:ext cx="701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a7aa8e"/>
                </a:solidFill>
                <a:latin typeface="Times New Roman"/>
              </a:rPr>
              <a:t>ssoliver@terra.com.br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dfde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" action="ppaction://hlinkshowjump?jump=firstslide"/>
          </p:cNvPr>
          <p:cNvSpPr/>
          <p:nvPr/>
        </p:nvSpPr>
        <p:spPr>
          <a:xfrm>
            <a:off x="762120" y="4876920"/>
            <a:ext cx="182880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7aa8e"/>
                </a:solidFill>
                <a:latin typeface="Times New Roman"/>
              </a:rPr>
              <a:t>Reinic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/>
          </p:cNvPr>
          <p:cNvSpPr/>
          <p:nvPr/>
        </p:nvSpPr>
        <p:spPr>
          <a:xfrm>
            <a:off x="3429000" y="4724280"/>
            <a:ext cx="2133720" cy="9907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a7aa8e"/>
                </a:solidFill>
                <a:latin typeface="Times New Roman"/>
              </a:rPr>
              <a:t>Visite o S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Letícia Thomp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endshow"/>
          </p:cNvPr>
          <p:cNvSpPr/>
          <p:nvPr/>
        </p:nvSpPr>
        <p:spPr>
          <a:xfrm>
            <a:off x="6324480" y="4876920"/>
            <a:ext cx="190512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7aa8e"/>
                </a:solidFill>
                <a:latin typeface="Times New Roman"/>
              </a:rPr>
              <a:t>S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600"/>
                            </p:stCondLst>
                            <p:childTnLst>
                              <p:par>
                                <p:cTn id="1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1100"/>
                            </p:stCondLst>
                            <p:childTnLst>
                              <p:par>
                                <p:cTn id="1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1600"/>
                            </p:stCondLst>
                            <p:childTnLst>
                              <p:par>
                                <p:cTn id="1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2100"/>
                            </p:stCondLst>
                            <p:childTnLst>
                              <p:par>
                                <p:cTn id="12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5T09:18:44Z</dcterms:created>
  <dc:creator>ssoliver@terra.com.br </dc:creator>
  <dc:description>Texto: Letícia Thompson</dc:description>
  <dc:language>en-US</dc:language>
  <cp:lastModifiedBy>Leticia Thompson</cp:lastModifiedBy>
  <dcterms:modified xsi:type="dcterms:W3CDTF">2004-10-28T18:21:32Z</dcterms:modified>
  <cp:revision>7</cp:revision>
  <dc:subject>PPS</dc:subject>
  <dc:title>Quatro estações</dc:title>
</cp:coreProperties>
</file>