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Ernesto%20Cortazar%20-%20Tide%20of%20Lust%20-%20Blue%20Water.cut8b1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A4E-E4DE-4D68-84CF-AE568872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82A-EDE5-408B-819A-073C57FE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E22-1215-442C-9EAF-AE1C691B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10E-087C-4F76-BC7C-C6AC690D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C1C-A156-4A0B-85DA-26D4AF21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A32-AA1C-41BD-9174-1E283C6D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237-59C3-43C1-84C7-8C538C2B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F69-867A-42A6-8FD3-3BDE984A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6DD-672D-4024-BE5D-FDEC5CC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947-4268-4E3A-B8C5-5A4F5F3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DA0-9300-4BD9-8505-69EF7C1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495-E37A-453E-B895-76346E5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AB04-0753-422C-8A6B-4A4C6D531E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Ernesto%20Cortazar%20-%20Tide%20of%20Lust%20-%20Blue%20Water.cut8b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125"/>
            </a:avLst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28440">
            <a:solidFill>
              <a:srgbClr val="bab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solidFill>
            <a:srgbClr val="ffffcc">
              <a:alpha val="50000"/>
            </a:srgbClr>
          </a:solidFill>
          <a:ln w="28440">
            <a:solidFill>
              <a:srgbClr val="bab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6096240"/>
          </a:xfrm>
          <a:prstGeom prst="rect">
            <a:avLst/>
          </a:prstGeom>
          <a:ln w="28440">
            <a:solidFill>
              <a:srgbClr val="bab6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07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1219320"/>
            <a:ext cx="641988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50000">
                      <a:srgbClr val="fae3b7"/>
                    </a:gs>
                    <a:gs pos="100000">
                      <a:srgbClr val="fbe4a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8867"/>
                  </a:outerShdw>
                </a:effectLst>
                <a:latin typeface="Book Antiqua"/>
              </a:rPr>
              <a:t>Quatro estações</a:t>
            </a:r>
            <a:endParaRPr b="1" i="1" lang="en-US" sz="72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50000">
                    <a:srgbClr val="fae3b7"/>
                  </a:gs>
                  <a:gs pos="100000">
                    <a:srgbClr val="fbe4ae"/>
                  </a:gs>
                </a:gsLst>
                <a:lin ang="5400000"/>
              </a:gradFill>
              <a:effectLst>
                <a:outerShdw dist="17819" dir="2700000" blurRad="0" rotWithShape="0">
                  <a:srgbClr val="968867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43200" y="4648320"/>
            <a:ext cx="36766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50000">
                      <a:srgbClr val="fae3b7"/>
                    </a:gs>
                    <a:gs pos="100000">
                      <a:srgbClr val="fbe4a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8867"/>
                  </a:outerShdw>
                </a:effectLst>
                <a:latin typeface="Book Antiqua"/>
              </a:rPr>
              <a:t>Letícia Thompson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50000">
                    <a:srgbClr val="fae3b7"/>
                  </a:gs>
                  <a:gs pos="100000">
                    <a:srgbClr val="fbe4ae"/>
                  </a:gs>
                </a:gsLst>
                <a:lin ang="5400000"/>
              </a:gradFill>
              <a:effectLst>
                <a:outerShdw dist="17819" dir="2700000" blurRad="0" rotWithShape="0">
                  <a:srgbClr val="968867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0000">
    <p:randomBar dir="vert"/>
    <p:sndAc>
      <p:stSnd>
        <p:snd r:embed="rId3" name="Ernesto%20Cortazar%20-%20Tide%20of%20Lust%20-%20Blue%20Water.cut8b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609480"/>
            <a:ext cx="716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</a:rPr>
              <a:t>Quatro estações são necessárias para que se possa passar adiante depois de uma perda. O primeiro tudo depois da morte é sempre o mais difícil: o primeiro aniversário, o primeiro natal, o primeiro réveillon, as primeiras férias... são as ocasiões mais doloridas. Mas o passar dos dias ameniza a dor e vai dando lugar a uma certa nostalgia, ao carinho da lembr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1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4300"/>
                            </p:stCondLst>
                            <p:childTnLst>
                              <p:par>
                                <p:cTn id="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685800"/>
            <a:ext cx="685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a8e"/>
                </a:solidFill>
                <a:latin typeface="Copperplate Gothic Light"/>
                <a:ea typeface="Arial"/>
              </a:rPr>
              <a:t>Pensamos no instante da perda que nunca mais seremos capazes de sorrir, mas isso não é verdade. Depois de algumas auroras e alguns entardeceres, vamos descobrindo que a vida ainda está muito presente, que ainda somos capazes de nos alegrar com outras coisas, sem que isso diminua o amor e a saudade que sentimos de quem part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7d6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685800"/>
            <a:ext cx="6324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a8e"/>
                </a:solidFill>
                <a:latin typeface="Copperplate Gothic Light"/>
                <a:ea typeface="Arial"/>
              </a:rPr>
              <a:t>Aceitamos dificilmente a morte porque nos esquecemos com facilidade que nossa vida na terra é apenas uma passagem. E quando alguém parte, é como se acordássemos para essa realidade: somos eternos para a vida, mas não a terrena! Inconscientemente pensamos na nossa própria morte e na daqueles que ainda estão cono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cd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2000">
    <p:randomBa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1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09480"/>
            <a:ext cx="7467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  <a:ea typeface="Arial"/>
              </a:rPr>
              <a:t>Mas... enquanto o sangue pulsar nas nossas veias, é a vida que pulsa e tudo o que podemos e devemos fazer é vivê-la. Alguém que amamos parte para sempre e isso é tremendamente doloroso. Essa pessoa é insubstituível ao nosso coração, já que cada pessoa é única em si no nosso viver e somos conscientes disso. Mas outros que amamos e que nos amam ainda estão por aqui e isso deve ser motivo de alegria e reconfo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edd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8200"/>
                            </p:stCondLst>
                            <p:childTnLst>
                              <p:par>
                                <p:cTn id="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8580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a8e"/>
                </a:solidFill>
                <a:latin typeface="Copperplate Gothic Light"/>
                <a:ea typeface="Arial"/>
              </a:rPr>
              <a:t>Por esses, pelo menos, devemos nos reerguer, reagir, fazer um esforço. E para nós, para nosso bem. Deus nos consola; amigos, família nos consolam... só precisamos é aceitar as mãos estendidas. Quatro estações e um pouco de paciência...  o sol vai brilhar novamente, a alegria vai de novo encher o coração e tudo vai voltar ao normal. É preciso acreditar niss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cd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800"/>
                            </p:stCondLst>
                            <p:childTnLst>
                              <p:par>
                                <p:cTn id="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a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85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914400"/>
            <a:ext cx="6858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</a:rPr>
              <a:t>À  Rose Mary Sadalla, pela perda irreparável pela qual passa, para que possa se sentir reconfortada no carinho da amizade dos que a amam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</a:rPr>
              <a:t>Um forte abraço,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Copperplate Gothic Light"/>
              </a:rPr>
              <a:t>Letí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3e2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200"/>
                            </p:stCondLst>
                            <p:childTnLst>
                              <p:par>
                                <p:cTn id="9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7aa8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0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5720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7aa8e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7aa8e"/>
                </a:solidFill>
                <a:latin typeface="Times New Roman"/>
              </a:rPr>
              <a:t>Ernesto Cortazar - Tide of Lust - Blu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600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8e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7aa8e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59092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a7aa8e"/>
                </a:solidFill>
                <a:latin typeface="Times New Roman"/>
              </a:rPr>
              <a:t>ssoliver@terra.com.b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fde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7aa8e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7aa8e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7aa8e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1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09:18:44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8:21:32Z</dcterms:modified>
  <cp:revision>7</cp:revision>
  <dc:subject>PPS</dc:subject>
  <dc:title>Quatro estações</dc:title>
</cp:coreProperties>
</file>