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Ernesto%20Cortazar%20-%20My%20first%20love.wav" ContentType="audio/x-wav"/>
  <Override PartName="/ppt/media/image14.jpeg" ContentType="image/jpeg"/>
  <Override PartName="/ppt/media/image5.gif" ContentType="image/gif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23B-ACD7-401C-9369-0BC82315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5BF-DA37-4706-9D2C-6163BD04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4F33-4ED6-4C25-9D94-96552747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826-5E9E-4439-B575-7ED43034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0FB-050A-4B46-BE36-4CC71E84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E75-718F-4E5A-A836-94BA12A8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884-559A-4522-A5EF-F69BB66B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EE3F-FF70-48F4-801F-8C1D85B3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47A-CF49-4B0F-8565-8050755A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60A-5BE3-41D6-B205-48A07CF7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FB5-AD90-4C5A-9B6B-4912A3CF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B27-8433-45AC-AB40-290B34E3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D39E-4664-4671-9BC2-54E624071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4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audio" Target="../media/Ernesto%20Cortazar%20-%20My%20first%20love.wav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1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hyperlink" Target="http://www.leticiathompson.net/" TargetMode="External"/><Relationship Id="rId27" Type="http://schemas.openxmlformats.org/officeDocument/2006/relationships/hyperlink" Target="mailto:bethnorling@globo.com" TargetMode="External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8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9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10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11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12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13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14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15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116000" y="4221000"/>
            <a:ext cx="6913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6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800000">
                      <a:alpha val="80000"/>
                    </a:srgbClr>
                  </a:outerShdw>
                </a:effectLst>
                <a:latin typeface="Arial Black"/>
              </a:rPr>
              <a:t>O AMOR É UMA FLOR DELICADA </a:t>
            </a:r>
            <a:endParaRPr b="0" lang="en-US" sz="1800" spc="1" strike="noStrike">
              <a:ln w="0">
                <a:noFill/>
              </a:ln>
              <a:blipFill rotWithShape="0">
                <a:blip r:embed="rId27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8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32000" y="5157720"/>
            <a:ext cx="2962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8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8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lang="en-US" sz="2400" spc="1" strike="noStrike">
              <a:ln w="0">
                <a:noFill/>
              </a:ln>
              <a:blipFill rotWithShape="0">
                <a:blip r:embed="rId29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8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116000" y="1844640"/>
            <a:ext cx="686124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497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497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e497"/>
                </a:solidFill>
                <a:uFillTx/>
                <a:latin typeface="Verdana"/>
                <a:hlinkClick r:id="rId26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497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497"/>
                </a:solidFill>
                <a:latin typeface="Verdana"/>
              </a:rPr>
              <a:t>Música: Ernesto Cortazar - </a:t>
            </a:r>
            <a:r>
              <a:rPr b="1" lang="en-US" sz="2000" spc="-1" strike="noStrike">
                <a:solidFill>
                  <a:srgbClr val="ffe497"/>
                </a:solidFill>
                <a:latin typeface="Verdana"/>
              </a:rPr>
              <a:t>My first love</a:t>
            </a:r>
            <a:r>
              <a:rPr b="1" lang="pt-BR" sz="2000" spc="-1" strike="noStrike">
                <a:solidFill>
                  <a:srgbClr val="ffe49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497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497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e497"/>
                </a:solidFill>
                <a:uFillTx/>
                <a:latin typeface="Verdana"/>
                <a:hlinkClick r:id="rId27"/>
              </a:rPr>
              <a:t>bethnorling@globo.com</a:t>
            </a:r>
            <a:r>
              <a:rPr b="1" lang="pt-BR" sz="2000" spc="-1" strike="noStrike">
                <a:solidFill>
                  <a:srgbClr val="ffe49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23840" y="4097160"/>
            <a:ext cx="7004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Não existem conquistas definitivas, salvo para aqueles que nos deixam no auge do apego. Aí sim, as pessoas restam gravadas irreversivelmente dentro do nosso coração e nós no del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023840" y="3952800"/>
            <a:ext cx="69328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Se não podemos explicar os porquês das chamadas de um coração, podemos, portanto, compreender a importância do exercício diário, na manutenção dos sentimentos do outro. Ninguém pertence a ninguém, as pessoas doam-se e acolhem-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95480" y="1125360"/>
            <a:ext cx="7005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O amor é uma flor muito delicada, mesmo se vestida de grandiosas e maravilhosas for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653000"/>
            <a:ext cx="70041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O amor é uma flor singela, frágil e bela e é preciso recebê-lo com mãos ternas, como se sua vida dependesse de nossa acolh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2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116000" y="3573360"/>
            <a:ext cx="69325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Frequentemente somos meio desajeitados quando se trata de amor. Descuidamos dos pequenos gestos que o nutrem, deixamos que a terra seque-se, substituímos atenções emocionais por outras que, mesmo importantes, não são suficientes ao mantimento para a durabilidade do am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116000" y="1125360"/>
            <a:ext cx="69120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O amor nutre-se de carinhos e carí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Sacia-se no abraço, cresce no beij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Fortalece-se nos momentos a do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5013360"/>
            <a:ext cx="69325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Achamos tempo para tanta coisa e nos dedicamos pouco a estar com o ou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116000" y="4653000"/>
            <a:ext cx="6932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Pessoas às vezes que se amam muito se afastam por falta de cuidado de ambas as partes. Os quereres confundem-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023840" y="4097160"/>
            <a:ext cx="70772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Homens e mulheres são diferentes, isso é certo! Mas deve haver esse meio caminho onde as mãos acabam se encontrando, onde os dedos se entrelaçam e os desejos fundem-se numa mesma coi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042920" y="4005360"/>
            <a:ext cx="700416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Ninguém conhece a verdadeira dor de perder antes de ter perdido de verdade. É depois, bem depois, que olhamos para trás e nos dizemos que teríamos vivido bem mais intensamente se tivéssemos carregado essa delicada flor bem mais pertinho do nosso cor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4:28:06Z</dcterms:created>
  <dc:creator>Beth Norling</dc:creator>
  <dc:description/>
  <dc:language>en-US</dc:language>
  <cp:lastModifiedBy>Beth Norling</cp:lastModifiedBy>
  <dcterms:modified xsi:type="dcterms:W3CDTF">2008-06-18T18:05:48Z</dcterms:modified>
  <cp:revision>10</cp:revision>
  <dc:subject/>
  <dc:title>O_amor_e_uma_flor_delicada</dc:title>
</cp:coreProperties>
</file>