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5FC-B389-43D1-9F32-A6E7950B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ABE-91E2-4DD0-8D1D-E3F7D9D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A9E-F321-4DFC-ABD2-312E5803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DB2-782B-4A58-AE8B-45F45746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8B7-E13C-4238-B350-64CC302C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9A0-A442-4229-8577-E17F341B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25E-CB17-4EA7-BC6C-57EE8B52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C02-72EB-436B-A7AD-6FC7E89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A86-5350-4136-A8CC-F9779C44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2C8-E09D-43B6-B8B2-926A4B6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994-1A5D-4FAE-A5F3-E7D8ECE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780-233E-4CF8-8648-43098AE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43A-30A7-44A7-9032-62BFFAB0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11240" y="0"/>
            <a:ext cx="532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496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 a melhor no final 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ão importa para quantas pessoas você enviará isso, lembre-se, se fez você sorrir, também fará seus amigos sorrir ! !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-30240"/>
            <a:ext cx="878544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6280" y="0"/>
            <a:ext cx="531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35:39Z</dcterms:created>
  <dc:creator>NIETMANN</dc:creator>
  <dc:description/>
  <dc:language>en-US</dc:language>
  <cp:lastModifiedBy>NIETMANN</cp:lastModifiedBy>
  <dcterms:modified xsi:type="dcterms:W3CDTF">2009-10-04T19:50:02Z</dcterms:modified>
  <cp:revision>2</cp:revision>
  <dc:subject/>
  <dc:title>Slide 1</dc:title>
</cp:coreProperties>
</file>