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EFF-970E-4BBB-A07F-26B68ACF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53F-AB3F-4A2D-8431-F6BEB107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C72-F50C-4CF0-885D-EBE7E7A1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2FFC-2BC3-413C-BA50-67EE93A2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C0D-9025-4432-94B7-E5979FCA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924-1FF0-47AE-B458-03E103FB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A992-2D5B-4127-95B0-E9EB9D94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51A-8DE8-41E1-B103-EE2F5376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33A-BD51-42BB-9117-0F1E99A4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BAD-6E2C-4FAA-9823-120F9A74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C60-F7CD-4ADD-8F84-C16BCBA9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8EE-6F14-4AEF-BCF1-F45DF149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6122-4DB8-489E-A3F7-4C099281E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08080" y="0"/>
            <a:ext cx="512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11240" y="0"/>
            <a:ext cx="532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62240" y="0"/>
            <a:ext cx="461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501480"/>
            <a:ext cx="914400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9930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30240"/>
            <a:ext cx="849600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 a melhor no final . .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ão importa para quantas pessoas você enviará isso, lembre-se, se fez você sorrir, também fará seus amigos sorrir ! !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-30240"/>
            <a:ext cx="878544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16280" y="0"/>
            <a:ext cx="531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6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9:35:39Z</dcterms:created>
  <dc:creator>NIETMANN</dc:creator>
  <dc:description/>
  <dc:language>en-US</dc:language>
  <cp:lastModifiedBy>NIETMANN</cp:lastModifiedBy>
  <dcterms:modified xsi:type="dcterms:W3CDTF">2009-10-04T19:50:02Z</dcterms:modified>
  <cp:revision>2</cp:revision>
  <dc:subject/>
  <dc:title>Slide 1</dc:title>
</cp:coreProperties>
</file>