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39B-641D-40C0-9A37-90B4FF1D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FBF-8EAB-443E-B8DC-0F42F48C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7B6-7DD7-480E-90BA-7BB23B19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7E6C-C11A-4EC2-B8F4-33897ACC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F95F-736B-4867-BBF3-CD9E560B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BF0F-C3A7-4C81-B773-AA1DCAE7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E2D-CD0B-444A-9FA4-5AB9B298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C2F-97C5-479A-B7A5-FA6721CD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F53-2F83-4451-9AF5-08377A83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DEB3-3377-48AC-8139-ADB60DCB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BFBE-D469-4A26-B034-38059452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F66-75BF-450B-A308-06906452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949C-9ADE-4401-AB68-43FA46E6B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99"/>
                </a:solidFill>
                <a:latin typeface="Times New Roman"/>
              </a:rPr>
              <a:t>Coisa de pobre..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ff99"/>
                </a:solidFill>
                <a:latin typeface="Times New Roman"/>
              </a:rPr>
              <a:t>Guardar carro no jardim da cas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6080" y="622440"/>
            <a:ext cx="8529480" cy="564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6080" y="617400"/>
            <a:ext cx="8529480" cy="565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6080" y="617400"/>
            <a:ext cx="8529480" cy="565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-487" b="0"/>
          <a:stretch/>
        </p:blipFill>
        <p:spPr>
          <a:xfrm>
            <a:off x="316080" y="617400"/>
            <a:ext cx="8529480" cy="565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7520" y="617400"/>
            <a:ext cx="8529480" cy="565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Times New Roman"/>
              </a:rPr>
              <a:t>Odeio pob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12:33:10Z</dcterms:created>
  <dc:creator>Usuario</dc:creator>
  <dc:description/>
  <dc:language>en-US</dc:language>
  <cp:lastModifiedBy>Usuario</cp:lastModifiedBy>
  <dcterms:modified xsi:type="dcterms:W3CDTF">2009-07-26T12:43:21Z</dcterms:modified>
  <cp:revision>1</cp:revision>
  <dc:subject/>
  <dc:title>Slide 1</dc:title>
</cp:coreProperties>
</file>