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B29-2469-423F-BE9A-CE44972C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A4E-C46A-495D-9D14-0E158467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ED7-FFFA-42E3-A2DB-BF551E6F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D68-40FA-477E-B76E-547536F6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840-3F74-4051-855E-02A9C7D9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954-ACF0-4DE3-8BDB-6A6D8EA6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745-E246-40DB-9400-6AC3700E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677-B10C-4DC2-9DF4-F420B75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503-223F-4F50-B0A8-64509799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176-F768-419E-9BDC-368C6081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5DB-45A9-4F4D-98CD-DE56300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EF4-D847-4C82-BE5B-FC683B42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DC70-424A-43CA-BBCD-A7AF9A81E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99"/>
                </a:solidFill>
                <a:latin typeface="Times New Roman"/>
              </a:rPr>
              <a:t>Coisa de pobre..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99"/>
                </a:solidFill>
                <a:latin typeface="Times New Roman"/>
              </a:rPr>
              <a:t>Guardar carro no jardim da cas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6080" y="622440"/>
            <a:ext cx="8529480" cy="564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6080" y="617400"/>
            <a:ext cx="8529480" cy="565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6080" y="617400"/>
            <a:ext cx="8529480" cy="565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-487" b="0"/>
          <a:stretch/>
        </p:blipFill>
        <p:spPr>
          <a:xfrm>
            <a:off x="316080" y="617400"/>
            <a:ext cx="8529480" cy="565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7520" y="617400"/>
            <a:ext cx="8529480" cy="565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Times New Roman"/>
              </a:rPr>
              <a:t>Odeio pob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2:33:10Z</dcterms:created>
  <dc:creator>Usuario</dc:creator>
  <dc:description/>
  <dc:language>en-US</dc:language>
  <cp:lastModifiedBy>Usuario</cp:lastModifiedBy>
  <dcterms:modified xsi:type="dcterms:W3CDTF">2009-07-26T12:43:21Z</dcterms:modified>
  <cp:revision>1</cp:revision>
  <dc:subject/>
  <dc:title>Slide 1</dc:title>
</cp:coreProperties>
</file>