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The%20Scientist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580-1EF6-4636-AB1B-E0F149A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5F1-A61A-4490-886A-A56099B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E0A-4E7D-48C5-B941-DF218EA2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EC0-14D1-4926-A486-5EFF1B44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079-58B9-421D-92EA-1227338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5FD-8F94-42C6-9D3D-9588F1F5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D08-2686-4273-8019-CF6E439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CF8-BCBE-4277-BA36-D0CB835D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D2D-E693-4930-8A5E-62DCB59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820-353E-41F5-A37E-A47CB4D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E5D-7515-45E6-B5B7-2D864BF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E7-3592-4AE7-B309-C9960C5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DF4-1141-45D4-8407-17350865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he%20Scientis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115920"/>
            <a:ext cx="70563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revista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Isto É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ublicou uma excelente entrevista com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Roberto Shinyashiki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médico psiquiatra, com Pós-Graduação em administração de  empresas pela USP, consultor  organizacional e conferencista de  renome nacional e internacional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das perguntas desta entrevista, e a respectiva resposta, você verá a seguir. Medite sobre ela.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80080" y="2997360"/>
            <a:ext cx="25639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195560"/>
            <a:ext cx="6372360" cy="511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404640"/>
            <a:ext cx="813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"Doutor, não me deixe morrer. Eu me sacrifiquei a vida inteira, agora eu quero aproveitá-la e                ser feliz"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u sentia uma                             dor enorme  por não                 poder fazer nada. Ali eu        aprendi que a felicidade                 </a:t>
            </a:r>
            <a:r>
              <a:rPr b="1" i="1" lang="en-US" sz="4400" spc="-1" strike="noStrike">
                <a:solidFill>
                  <a:srgbClr val="b2b2b2"/>
                </a:solidFill>
                <a:latin typeface="Times New Roman"/>
              </a:rPr>
              <a:t>é feita de coisas pequenas.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360" y="0"/>
            <a:ext cx="4535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3640" y="-128520"/>
            <a:ext cx="5076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inguém na hora da morte diz se arrepender por não ter aplicado o dinheiro em imóveis ou ações, ou por não ter comprado isto ou aquilo, mas sim de ter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esperado muito tempo ou perdido várias oportunidades para aproveitar a  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652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Roberto Shinyash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9640" y="1998720"/>
            <a:ext cx="5113440" cy="359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547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...”aprendi que a felicidade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é feita de coisas pequenas”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dos, na hora da morte....                               ”dizem se arrepender de 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sperado muito tempo ou perdido várias oportunidades para aproveitar a vida.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761080" cy="379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429264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Arial"/>
              </a:rPr>
              <a:t>Pense.... medite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Arial"/>
              </a:rPr>
              <a:t>Alguma coisa parece semelhante em tua vid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824720" cy="361764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STO É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– Muitas pessoas têm buscado sonhos  que não são seus, isso é verdade?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hinyashiki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ociedade quer definir o  que é certo. São quatro loucuras da socieda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2354400"/>
            <a:ext cx="5780160" cy="416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primeira,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é  instituir que todos têm de ter sucesso, como se ele não tivesse significados  individu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0"/>
            <a:ext cx="81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egunda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loucura é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Você tem de estar feliz todos os  d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5761080" cy="4319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0"/>
            <a:ext cx="709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ercei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tem que comprar tudo o que puder. O resultado é esse consumismo absur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9827" t="12577" r="8882" b="13420"/>
          <a:stretch/>
        </p:blipFill>
        <p:spPr>
          <a:xfrm>
            <a:off x="1477800" y="1914480"/>
            <a:ext cx="6405840" cy="4375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360" y="0"/>
            <a:ext cx="82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fim,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uarta loucu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tem de fazer as coisas do jeito certo. Jeito certo não existe. Não há um caminho único para se fazer as cois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6120000" cy="455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0"/>
            <a:ext cx="86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As metas são interessantes  para o sucesso, mas não para a felicidade. 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Felicidade não é uma meta, mas  um estado de espírit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4991400" cy="40006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 gente que  diz que não será feliz enquanto não  casar, enquanto outros se dizem infelizes justamente por causa do  casamento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pode ser feliz tomando sorvete, ficando em cas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 a família  ou amigos verdadeiros, levando os filhos para brincar ou indo a praia ou ao cin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147840"/>
            <a:ext cx="5510520" cy="371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Quando era recém-formado em São Paulo, trabalhei em um hospital de pacientes termin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dos os dias morriam nove ou dez pacientes. Eu sempre procurei conversar com eles na hora da morte.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 maior parte pega o médico  pela camisa e di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11129" r="0" b="10184"/>
          <a:stretch/>
        </p:blipFill>
        <p:spPr>
          <a:xfrm>
            <a:off x="1619280" y="2924280"/>
            <a:ext cx="6227640" cy="36748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0:41:19Z</dcterms:created>
  <dc:creator>Leila</dc:creator>
  <dc:description/>
  <dc:language>en-US</dc:language>
  <cp:lastModifiedBy>Thais</cp:lastModifiedBy>
  <dcterms:modified xsi:type="dcterms:W3CDTF">2007-06-09T20:51:56Z</dcterms:modified>
  <cp:revision>9</cp:revision>
  <dc:subject/>
  <dc:title>Apresentação do PowerPoint</dc:title>
</cp:coreProperties>
</file>