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Ernesto%20cortazar%20-%20Sea%20of%20Tears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EE1F-F35E-43E6-9A93-D12A5120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56F-F662-410A-847C-74E10EFA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0274-2092-49CB-9DA0-C9A34CBB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7293-2A77-4B7B-8FA9-4AA9FFFC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257B-6707-40E1-9A90-19F248FF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84CC-487B-4FB4-8A38-D7D062BA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B39A-29CE-4087-B162-BF603D0F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B378-E387-47A2-A174-9BE6FFDB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3439-D2BA-439B-9020-9175960D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62D2-5C0D-494B-A74A-7046DCCD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A212-4BE5-4BAA-B606-333314C5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837-05A4-4A1A-84AB-09CBABFF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D541-C61A-4ECB-9F93-C523A485E9E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audio" Target="../media/Ernesto%20cortazar%20-%20Sea%20of%20Tears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850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1905120"/>
            <a:ext cx="6400800" cy="22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A DIFERENÇA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PEDE LICENÇA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090960" y="5410080"/>
            <a:ext cx="2962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Letícia Thomps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slow">
    <p:randomBar dir="vert"/>
    <p:sndAc>
      <p:stSnd>
        <p:snd r:embed="rId8" name="Ernesto%20cortazar%20-%20Sea%20of%20Tear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755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9080" y="344520"/>
            <a:ext cx="847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ando Jesus morreu de braços abertos foi para abraçar toda a humanidade; quando perdoou o ladrão, lavou pés, sarou cegos e leprosos, foi para nos dar a lição da humildade, para nos mostrar que grande mesmo é aquela pessoa capaz de abrir todas as portas do seu coração e de olhos fechados receber com amor todo aquele que a vida coloca no nosso caminho, independente da sua classe social, raça, religião, condição física ou m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22640" y="4379760"/>
            <a:ext cx="32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Formatado por Beth Nor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7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661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14600" y="2819520"/>
            <a:ext cx="6172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 sociedade é um imenso mercad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nde muito cedo as pessoas são etiquetadas e colocadas em algum lugar, sem escolha possível. O bonito, o feio, o desajeitado, o inteligente, o atrasado, o grande, o pequeno, o normal, o anorma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80172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E julga-se, sem piedade, os fracos, os fort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os vencedores, os perdedores, os sãos, os do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Chama-se de diferente aquele que não est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na mesma linha de normalidade que a maioria do ser humano. Mas, o que é ser diferente senão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fato de não ser igual? Não somos assim, todos difer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661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103032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or que etiquetas, se todos trazemos em nós riquezas inúmeras, mesmo se muitas vezes imperceptíveis aos olhos human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A diferença pede licença sim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5040" y="801720"/>
            <a:ext cx="82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Dá-me oportunida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Deixa-me mostrar quem sou, ao meu tempo! Deixa-me desenvolver minhas capacidades e farei florir meu deser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661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5040" y="878040"/>
            <a:ext cx="82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eço é oportunidade para mostrar do que sou capaz. Peço aceitação para estar no meu lugar, não o escolhido para mim, mas aquele onde sou capaz de che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 não plantamos sementes, jamais colheremos frut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1800" y="954000"/>
            <a:ext cx="773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Deixar que cada qual desenvolva a seu tempo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seu ritmo o seu potencial é dar abertura ao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É a diversidade de flores que dá beleza a um jard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5040" y="1106640"/>
            <a:ext cx="8474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em é normal e quem é anormal se o sangue cor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a mesma forma para todos, se o coração bate da mesma forma, se as lágrimas têm a mesma cor e se o sorriso fala com as mesmas palavr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 diferença pede aceitação, pede respeito, pede tolerância e pede, sobretudo, muito am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0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1360" y="2209680"/>
            <a:ext cx="7635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normal não é quem foge dos padrõ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ociais; anormal é quem não compreende e não aceita que somos todos seres imperfeitos, mas, nem por isso, diminuídos aos olhos de Deus; anormal é quem se acredita grande e pensa que o mundo todo é pequeno; é quem não percebeu o verdadeiro significado da palavra ama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16:51:58Z</dcterms:created>
  <dc:creator>Beth Norling</dc:creator>
  <dc:description/>
  <dc:language>en-US</dc:language>
  <cp:lastModifiedBy>Letícia Thompson</cp:lastModifiedBy>
  <dcterms:modified xsi:type="dcterms:W3CDTF">2007-02-05T08:57:42Z</dcterms:modified>
  <cp:revision>3</cp:revision>
  <dc:subject/>
  <dc:title>A Diferença pede Licença</dc:title>
</cp:coreProperties>
</file>