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Ernesto%20cortazar%20-%20Sea%20of%20Tears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B6C-A3C1-417F-9023-CF6C46BA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16D-B3AB-41A5-B265-7832092F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8D0-0EE4-4649-9A8F-FE8BE3AE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6A2-3316-40E5-9360-0F2BC340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588-B2F0-4428-866B-0FF98E50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28A-45A5-4576-A0E0-FEE205A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00E-1DDA-413E-ABAF-E3E5811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FFB-5C7D-45F2-9B04-DFAA1662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D60-A7A4-41D2-B7CC-7B9BE635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48B-ACE0-4633-A276-7936ACF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A00-0DE9-49F6-94C7-9BA3D56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471-677D-4AD0-A2D1-54B6CC4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9175-A209-437E-888B-079BA87D89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Ernesto%20cortazar%20-%20Sea%20of%20Tear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50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905120"/>
            <a:ext cx="6400800" cy="22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DIFERENÇ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PEDE LICENÇ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90960" y="5410080"/>
            <a:ext cx="2962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randomBar dir="vert"/>
    <p:sndAc>
      <p:stSnd>
        <p:snd r:embed="rId8" name="Ernesto%20cortazar%20-%20Sea%20of%20Tea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755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080" y="34452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Jesus morreu de braços abertos foi para abraçar toda a humanidade; quando perdoou o ladrão, lavou pés, sarou cegos e leprosos, foi para nos dar a lição da humildade, para nos mostrar que grande mesmo é aquela pessoa capaz de abrir todas as portas do seu coração e de olhos fechados receber com amor todo aquele que a vida coloca no nosso caminho, independente da sua classe social, raça, religião, condição física ou 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22640" y="43797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ormatado por Beth Nor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66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2819520"/>
            <a:ext cx="617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sociedade é um imenso merca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nde muito cedo as pessoas são etiquetadas e colocadas em algum lugar, sem escolha possível. O bonito, o feio, o desajeitado, o inteligente, o atrasado, o grande, o pequeno, o normal, o anorm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80172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 julga-se, sem piedade, os fracos, os for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os vencedores, os perdedores, os sãos, os do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hama-se de diferente aquele que não est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na mesma linha de normalidade que a maioria do ser humano. Mas, o que é ser diferente senã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fato de não ser igual? Não somos assim, todos difer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6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0303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or que etiquetas, se todos trazemos em nós riquezas inúmeras, mesmo se muitas vezes imperceptíveis aos olhos human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A diferença pede licença sim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80172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á-me oportunida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eixa-me mostrar quem sou, ao meu tempo! Deixa-me desenvolver minhas capacidades e farei florir meu dese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6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87804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ço é oportunidade para mostrar do que sou capaz. Peço aceitação para estar no meu lugar, não o escolhido para mim, mas aquele onde sou capaz de che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 não plantamos sementes, jamais colheremos frut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1800" y="954000"/>
            <a:ext cx="773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Deixar que cada qual desenvolva a seu temp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eu ritmo o seu potencial é dar abertura a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É a diversidade de flores que dá beleza a um jard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1106640"/>
            <a:ext cx="847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m é normal e quem é anormal se o sangue cor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a mesma forma para todos, se o coração bate da mesma forma, se as lágrimas têm a mesma cor e se o sorriso fala com as mesmas palavr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diferença pede aceitação, pede respeito, pede tolerância e pede, sobretudo, muito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1360" y="2209680"/>
            <a:ext cx="763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ormal não é quem foge dos padr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ciais; anormal é quem não compreende e não aceita que somos todos seres imperfeitos, mas, nem por isso, diminuídos aos olhos de Deus; anormal é quem se acredita grande e pensa que o mundo todo é pequeno; é quem não percebeu o verdadeiro significado da palavra am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6:51:58Z</dcterms:created>
  <dc:creator>Beth Norling</dc:creator>
  <dc:description/>
  <dc:language>en-US</dc:language>
  <cp:lastModifiedBy>Letícia Thompson</cp:lastModifiedBy>
  <dcterms:modified xsi:type="dcterms:W3CDTF">2007-02-05T08:57:42Z</dcterms:modified>
  <cp:revision>3</cp:revision>
  <dc:subject/>
  <dc:title>A Diferença pede Licença</dc:title>
</cp:coreProperties>
</file>