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George%20Winston%20-%20Nothing%20Left%20to%20Say.cut16.wav" ContentType="audio/x-wav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437-9B81-4FDE-9FF9-51F90218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5C6-772C-452A-8FD4-92CC77A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FC3-27B4-4C3A-83C0-DCF77FE4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D82-2FC0-47AA-97C6-D4783831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2D6-826A-4AE8-9AE4-1BA941B7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C1A-5717-413F-A641-EDA98B10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B46-D6E8-471E-9F3B-630A552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2F1-1CF9-43E4-BBBF-CC13C6BE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896-284E-4EB4-B799-AAB27D50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797-5F02-40AE-A749-B9F3128C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7B8-DE35-4DF7-8852-5CCEF2AD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9CE-41E3-47C8-BE35-CDC028BA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A720-22C3-4F17-8BDE-7A001943A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eorge%20Winston%20-%20Nothing%20Left%20to%20Say.cut1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lher%20e%20pomb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9320" y="1066680"/>
            <a:ext cx="67244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Book Antiqua"/>
              </a:rPr>
              <a:t>Amizade é amor</a:t>
            </a:r>
            <a:endParaRPr b="1" i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457200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0000">
    <p:randomBar dir="vert"/>
    <p:sndAc>
      <p:stSnd>
        <p:snd r:embed="rId2" name="George%20Winston%20-%20Nothing%20Left%20to%20Say.cut16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ulheres%20sorrindo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0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83808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pperplate Gothic Light"/>
              </a:rPr>
              <a:t>A amizade é uma das formas mais bonitas de amor. Sim, porque o amor se divide em várias formas. Há amigos que a gente encontra pela primeira vez e entram como uma flecha, diretamente no nosso coração. Dizemos imediatamente que "nosso sangue combina com o de fulano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ulher%20de%20perf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91440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00"/>
                </a:solidFill>
                <a:latin typeface="Copperplate Gothic Light"/>
                <a:ea typeface="Arial"/>
              </a:rPr>
              <a:t>Outros, ah, esses precisam de um tempo; precisamos conhecê-los bem para que consigam conquistar um cantinho, que geralmente se torna muito importante com o tempo; esses amigos são muitas vezes carregados de defeitos, pelo menos no nosso julgamento, e nem todo mundo está disposto a se abrir o suficiente para conhecê-los, porque muitas vezes "o sangue não combina" e não queremos mesmo dar oportun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7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vendo%20film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76212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Light"/>
                <a:ea typeface="Arial"/>
              </a:rPr>
              <a:t>Isso é uma pena! Há realmente pérolas escondidas dentro de conchas aparentemente feias. Nem sempre é assim, mas se a gente não der a oportunidade, nunca vai saber. Há ainda aqueles que a vida nos impôs, como os colegas de escola, a turma da rua ou da igreja; esses fazem parte da nossa vida por um tempo. Alguns a gente perde de vista com o tempo e só fica mesmo a lembrança e a saudade. Outros, continuam caminhando com a 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7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nhei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762120"/>
            <a:ext cx="6934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Light"/>
                <a:ea typeface="Arial"/>
              </a:rPr>
              <a:t>Tudo depende muito das circunstâncias. Mas quem não gostaria, vinte ou trinta anos depois, de reencontrar uma velha turma?! E há hoje em dia os virtuais. Engraçado, mas falamos dos virtuais como se não fôssemos. Mas somos também, já que uma moeda sempre tem dois lados. E esses tomam uma parte importante na nossa vida também. Alguns vão desaparecer com o tempo, mas outros, os verdadeiros, vão ficar enfeitando nossa vida por long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a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ão%20abert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68580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00"/>
                </a:solidFill>
                <a:latin typeface="Copperplate Gothic Light"/>
                <a:ea typeface="Arial"/>
              </a:rPr>
              <a:t>É... mas com tudo isso, uma coisa é certa: só vamos saber quem são nossos verdadeiros amigos nas horas difíceis. É fácil ser amigo quando tudo vai bem, quando tudo é festa; mas quando estamos por baixo, depressivos, tristes, precisando, que seja material ou moralmente, aí sim é que vamos conhecer nossos verdadeiros amigos. E quando os reconhecemos, devemos guardá-los bem apertadinhos junto de nós, porque são esses os Anjos que o Senhor utiliza para abençoar a nossa vi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a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cc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0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53352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George Winston - Nothing Left to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18288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8195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cc99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bf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Times New Roman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8:59:11Z</dcterms:created>
  <dc:creator>ssoliver@terra.com.br </dc:creator>
  <dc:description>Texto: Letícia Thompson</dc:description>
  <dc:language>en-US</dc:language>
  <cp:lastModifiedBy>Sérgio S. Oliver</cp:lastModifiedBy>
  <dcterms:modified xsi:type="dcterms:W3CDTF">2004-10-19T19:40:48Z</dcterms:modified>
  <cp:revision>2</cp:revision>
  <dc:subject>PPS</dc:subject>
  <dc:title>Amizade é amor</dc:title>
</cp:coreProperties>
</file>