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George%20Winston%20-%20Nothing%20Left%20to%20Say.cut16.wav" ContentType="audio/x-wav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0143-3671-4D20-AE4D-22A68B62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B91C-73CD-4E18-B836-43F46800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BF2E-CE4D-4CCC-A828-4D526571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6890-C5EA-46DF-B89E-9CD62666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8C31-DDF7-4E16-95A9-0814823F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5AB4-3D14-4FAD-9297-3DE599AE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1568-D606-48F1-B8A1-E441F5C0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B1AC-9643-4103-80DA-A12CAD80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C679-B7B4-4139-A810-7163770E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C06F-8B20-4C09-94B5-9F73BDA1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3FB2-6A36-4036-BC7D-36A2ABD0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0962-4178-47DB-9D54-4A42FC19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8D68-066D-4E65-942B-9F1040951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George%20Winston%20-%20Nothing%20Left%20to%20Say.cut16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ulher%20e%20pomb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19320" y="1066680"/>
            <a:ext cx="672444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0">
                  <a:noFill/>
                </a:ln>
                <a:solidFill>
                  <a:srgbClr val="ff3300">
                    <a:alpha val="50000"/>
                  </a:srgbClr>
                </a:solidFill>
                <a:effectLst>
                  <a:outerShdw dist="17819" dir="2700000" blurRad="0" rotWithShape="0">
                    <a:srgbClr val="981e00"/>
                  </a:outerShdw>
                </a:effectLst>
                <a:latin typeface="Book Antiqua"/>
              </a:rPr>
              <a:t>Amizade é amor</a:t>
            </a:r>
            <a:endParaRPr b="1" i="1" lang="en-US" sz="7200" spc="1" strike="noStrike">
              <a:ln w="0">
                <a:noFill/>
              </a:ln>
              <a:solidFill>
                <a:srgbClr val="ff3300">
                  <a:alpha val="50000"/>
                </a:srgbClr>
              </a:solidFill>
              <a:effectLst>
                <a:outerShdw dist="17819" dir="2700000" blurRad="0" rotWithShape="0">
                  <a:srgbClr val="981e0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14600" y="4572000"/>
            <a:ext cx="403848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ff3300">
                    <a:alpha val="50000"/>
                  </a:srgbClr>
                </a:solidFill>
                <a:effectLst>
                  <a:outerShdw dist="17819" dir="2700000" blurRad="0" rotWithShape="0">
                    <a:srgbClr val="981e00"/>
                  </a:outerShdw>
                </a:effectLst>
                <a:latin typeface="Book Antiqua"/>
              </a:rPr>
              <a:t>Letícia Thompson</a:t>
            </a:r>
            <a:endParaRPr b="1" i="1" lang="en-US" sz="4000" spc="1" strike="noStrike">
              <a:ln w="0">
                <a:noFill/>
              </a:ln>
              <a:solidFill>
                <a:srgbClr val="ff3300">
                  <a:alpha val="50000"/>
                </a:srgbClr>
              </a:solidFill>
              <a:effectLst>
                <a:outerShdw dist="17819" dir="2700000" blurRad="0" rotWithShape="0">
                  <a:srgbClr val="981e00"/>
                </a:outerShdw>
              </a:effectLst>
              <a:latin typeface="Book Antiqua"/>
              <a:ea typeface="Book Antiqua"/>
            </a:endParaRPr>
          </a:p>
        </p:txBody>
      </p:sp>
    </p:spTree>
  </p:cSld>
  <p:transition spd="slow" advTm="20000">
    <p:randomBar dir="vert"/>
    <p:sndAc>
      <p:stSnd>
        <p:snd r:embed="rId2" name="George%20Winston%20-%20Nothing%20Left%20to%20Say.cut16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ulheres%20sorrindo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0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838080"/>
            <a:ext cx="6781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Copperplate Gothic Light"/>
              </a:rPr>
              <a:t>A amizade é uma das formas mais bonitas de amor. Sim, porque o amor se divide em várias formas. Há amigos que a gente encontra pela primeira vez e entram como uma flecha, diretamente no nosso coração. Dizemos imediatamente que "nosso sangue combina com o de fulano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a8e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mulher%20de%20perfi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914400"/>
            <a:ext cx="685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00"/>
                </a:solidFill>
                <a:latin typeface="Copperplate Gothic Light"/>
                <a:ea typeface="Arial"/>
              </a:rPr>
              <a:t>Outros, ah, esses precisam de um tempo; precisamos conhecê-los bem para que consigam conquistar um cantinho, que geralmente se torna muito importante com o tempo; esses amigos são muitas vezes carregados de defeitos, pelo menos no nosso julgamento, e nem todo mundo está disposto a se abrir o suficiente para conhecê-los, porque muitas vezes "o sangue não combina" e não queremos mesmo dar oportunid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b7f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3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vendo%20film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762120"/>
            <a:ext cx="7086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opperplate Gothic Light"/>
                <a:ea typeface="Arial"/>
              </a:rPr>
              <a:t>Isso é uma pena! Há realmente pérolas escondidas dentro de conchas aparentemente feias. Nem sempre é assim, mas se a gente não der a oportunidade, nunca vai saber. Há ainda aqueles que a vida nos impôs, como os colegas de escola, a turma da rua ou da igreja; esses fazem parte da nossa vida por um tempo. Alguns a gente perde de vista com o tempo e só fica mesmo a lembrança e a saudade. Outros, continuam caminhando com a g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b7f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7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inheir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5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762120"/>
            <a:ext cx="6934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opperplate Gothic Light"/>
                <a:ea typeface="Arial"/>
              </a:rPr>
              <a:t>Tudo depende muito das circunstâncias. Mas quem não gostaria, vinte ou trinta anos depois, de reencontrar uma velha turma?! E há hoje em dia os virtuais. Engraçado, mas falamos dos virtuais como se não fôssemos. Mas somos também, já que uma moeda sempre tem dois lados. E esses tomam uma parte importante na nossa vida também. Alguns vão desaparecer com o tempo, mas outros, os verdadeiros, vão ficar enfeitando nossa vida por longo t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ba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2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mão%20abert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5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685800"/>
            <a:ext cx="746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00"/>
                </a:solidFill>
                <a:latin typeface="Copperplate Gothic Light"/>
                <a:ea typeface="Arial"/>
              </a:rPr>
              <a:t>É... mas com tudo isso, uma coisa é certa: só vamos saber quem são nossos verdadeiros amigos nas horas difíceis. É fácil ser amigo quando tudo vai bem, quando tudo é festa; mas quando estamos por baixo, depressivos, tristes, precisando, que seja material ou moralmente, aí sim é que vamos conhecer nossos verdadeiros amigos. E quando os reconhecemos, devemos guardá-los bem apertadinhos junto de nós, porque são esses os Anjos que o Senhor utiliza para abençoar a nossa vid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ba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7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cc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0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533520"/>
            <a:ext cx="4876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George Winston - Nothing Left to S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182880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281952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cc99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bf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762120" y="487692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/>
          </p:cNvPr>
          <p:cNvSpPr/>
          <p:nvPr/>
        </p:nvSpPr>
        <p:spPr>
          <a:xfrm>
            <a:off x="3429000" y="4724280"/>
            <a:ext cx="213372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cc99"/>
                </a:solidFill>
                <a:latin typeface="Times New Roman"/>
              </a:rPr>
              <a:t>Visite o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cc99"/>
                </a:solidFill>
                <a:latin typeface="Times New Roman"/>
              </a:rPr>
              <a:t>Letícia Thomp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endshow"/>
          </p:cNvPr>
          <p:cNvSpPr/>
          <p:nvPr/>
        </p:nvSpPr>
        <p:spPr>
          <a:xfrm>
            <a:off x="6324480" y="4876920"/>
            <a:ext cx="190512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18:59:11Z</dcterms:created>
  <dc:creator>ssoliver@terra.com.br </dc:creator>
  <dc:description>Texto: Letícia Thompson</dc:description>
  <dc:language>en-US</dc:language>
  <cp:lastModifiedBy>Sérgio S. Oliver</cp:lastModifiedBy>
  <dcterms:modified xsi:type="dcterms:W3CDTF">2004-10-19T19:40:48Z</dcterms:modified>
  <cp:revision>2</cp:revision>
  <dc:subject>PPS</dc:subject>
  <dc:title>Amizade é amor</dc:title>
</cp:coreProperties>
</file>