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LAST-CLAYDERMAN%20-%20COEURS%20D'OR.wav" ContentType="audio/x-wav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DD5E-2B9D-4CD5-8508-B4C69A188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6B3B-6389-47C3-9FEF-CB733075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E0C7-39E8-49FB-AB2C-C46DDE1DE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4166-3339-457B-8A66-B8433FA1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0E2D-D873-474B-A5EE-340CC38E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B2B9-3106-406B-811F-F6CE8566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522C-4CC7-494F-94B3-4B640AF4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1F28-0AA6-40BE-A62F-960BB850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C516-8C92-43CD-94AC-9EDDC5BA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30B4-4B79-4E96-A643-3807AE3C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F9E7-2EC6-4B70-9A43-BF3FF6DD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5CDA-3A12-4294-9E31-3FDF554A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800" spc="-1" strike="noStrike">
                <a:solidFill>
                  <a:srgbClr val="ff99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9900"/>
                </a:solidFill>
                <a:latin typeface="Century Gothic"/>
              </a:rPr>
              <a:t>PRODUCCIONES RAKIMCHILE – CANAD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9900"/>
                </a:solidFill>
                <a:latin typeface="Trebuchet MS"/>
              </a:rPr>
              <a:t>rakimchile@hotmail.com                                                     Sirope de Savia de Arce la Miel de la Vid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166D-2E63-4C40-AD8B-E9F91470E887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T-CLAYDERMAN%20-%20COEURS%20D&apos;OR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2920" y="1484280"/>
            <a:ext cx="626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3300"/>
                </a:solidFill>
                <a:latin typeface="Gungsuh"/>
                <a:ea typeface="Gungsuh"/>
              </a:rPr>
              <a:t>Princípio do </a:t>
            </a:r>
            <a:r>
              <a:rPr b="1" lang="es-CL" sz="4400" spc="-1" strike="noStrike">
                <a:solidFill>
                  <a:srgbClr val="ff3300"/>
                </a:solidFill>
                <a:latin typeface="Gungsuh"/>
                <a:ea typeface="Gungsuh"/>
              </a:rPr>
              <a:t>Vazio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ffff"/>
                </a:solidFill>
                <a:latin typeface="Century Gothic"/>
              </a:rPr>
              <a:t>JOSEPH NEWTON</a:t>
            </a:r>
            <a:r>
              <a:rPr b="0" lang="tr-TR" sz="9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38560" y="4941720"/>
            <a:ext cx="410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entury Gothic"/>
              </a:rPr>
              <a:t>Fotos do</a:t>
            </a:r>
            <a:r>
              <a:rPr b="0" lang="pt-BR" sz="1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CL" sz="1200" spc="-1" strike="noStrike">
                <a:solidFill>
                  <a:srgbClr val="ffffff"/>
                </a:solidFill>
                <a:latin typeface="Century Gothic"/>
              </a:rPr>
              <a:t>artista canadense</a:t>
            </a:r>
            <a:r>
              <a:rPr b="0" lang="es-CL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entury Gothic"/>
              </a:rPr>
              <a:t>Gregory Colb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00"/>
                </a:solidFill>
                <a:latin typeface="Century Gothic"/>
              </a:rPr>
              <a:t>NÃO PRECISA CLICA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checker dir="vert"/>
    <p:sndAc>
      <p:stSnd>
        <p:snd r:embed="rId2" name="LAST-CLAYDERMAN%20-%20COEURS%20D'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3000"/>
                                  </p:stCondLst>
                                  <p:iterate type="lt">
                                    <p:tmAbs val="1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71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96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177336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A força deste vazio é que atrairá e absorverá tudo o que desej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hecker dir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6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476280"/>
            <a:ext cx="629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Se acumula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objetos e sentimentos velhos e inútei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não terás espaço para novas oportunid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11280" y="4724280"/>
            <a:ext cx="446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Os bens necessitam circular. Limpe as gavetas, os armários, o depósito, a garagem… A ment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51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92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192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192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192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22400" y="2851200"/>
            <a:ext cx="340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Doe tudo aquilo que já não usa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hecker dir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9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63840" y="4889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47640" y="1557360"/>
            <a:ext cx="633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221100"/>
                </a:solidFill>
                <a:latin typeface="Verdana"/>
              </a:rPr>
              <a:t>A atitude de guardar um monte de coisas inúte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221100"/>
                </a:solidFill>
                <a:latin typeface="Verdana"/>
              </a:rPr>
              <a:t>só acorrenta a tua vid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43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765000"/>
            <a:ext cx="59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Não são só os objetos guardados que paralisam a tua vi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35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02440" y="1127160"/>
            <a:ext cx="389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Eis o significado da atitude de guard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0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63640" y="692280"/>
            <a:ext cx="590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quando se guarda, se considera a possibilidade de falta, de carência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620640"/>
            <a:ext cx="662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Acredita-se que, amanhã, poderá faltar e que não haverá maneira de suprir as necessidade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hecker dir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" presetSubtype="10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48720" y="549360"/>
            <a:ext cx="593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Com esse pensament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estás enviando duas mensagens ao teu cérebro e à tua vid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vert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43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4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4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189000"/>
            <a:ext cx="79200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2a1500"/>
                </a:solidFill>
                <a:latin typeface="Verdana"/>
              </a:rPr>
              <a:t>Estimados amigos,                                                                                                                  me permito brindá-los com esta mensagem do au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3300"/>
                </a:solidFill>
                <a:latin typeface="Verdana"/>
                <a:ea typeface="Times New Roman"/>
              </a:rPr>
              <a:t>Joseph Newt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2a1500"/>
                </a:solidFill>
                <a:latin typeface="Verdana"/>
              </a:rPr>
              <a:t>e uma pequena e maravilhosa coleção de fotografias do                             mundialmente famoso fotógrafo e cineasta canadens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3300"/>
                </a:solidFill>
                <a:latin typeface="Verdana"/>
                <a:ea typeface="Times New Roman"/>
              </a:rPr>
              <a:t>Gregory Colbert.</a:t>
            </a:r>
            <a:r>
              <a:rPr b="1" lang="es-CL" sz="1600" spc="-1" strike="noStrike">
                <a:solidFill>
                  <a:srgbClr val="2a1500"/>
                </a:solidFill>
                <a:latin typeface="Verdana"/>
              </a:rPr>
              <a:t>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2205000"/>
            <a:ext cx="7993080" cy="82404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663300"/>
                </a:solidFill>
                <a:latin typeface="Verdana"/>
              </a:rPr>
              <a:t>“</a:t>
            </a:r>
            <a:r>
              <a:rPr b="0" lang="es-CL" sz="1600" spc="-1" strike="noStrike">
                <a:solidFill>
                  <a:srgbClr val="663300"/>
                </a:solidFill>
                <a:latin typeface="Verdana"/>
              </a:rPr>
              <a:t>Quando criei “Cinzas e Neve”, em 1992, minha intenção foi explorar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63300"/>
                </a:solidFill>
                <a:latin typeface="Verdana"/>
              </a:rPr>
              <a:t>relação entre homens e animais, de dentro para fora…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663300"/>
                </a:solidFill>
                <a:latin typeface="Verdana"/>
              </a:rPr>
              <a:t>(Gregory Colber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6000">
    <p:checker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18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62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118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3740"/>
                            </p:stCondLst>
                            <p:childTnLst>
                              <p:par>
                                <p:cTn id="39" nodeType="afterEffect" fill="hold" presetClass="entr" presetID="43">
                                  <p:stCondLst>
                                    <p:cond delay="2000"/>
                                  </p:stCondLst>
                                  <p:iterate type="lt">
                                    <p:tmAbs val="7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51480" y="1989000"/>
            <a:ext cx="335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entury Gothic"/>
              </a:rPr>
              <a:t>A de que não confias no amanhã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hecker dir="ver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92360" y="333360"/>
            <a:ext cx="619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e1f00"/>
                </a:solidFill>
                <a:latin typeface="Verdana"/>
              </a:rPr>
              <a:t>E que o novo e o melhor NÃO são para ti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hecker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09600" y="906480"/>
            <a:ext cx="524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Por isso te alegras guardando coisas velhas e inútei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hecker dir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9">
                                  <p:stCondLst>
                                    <p:cond delay="5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04400" y="1627200"/>
            <a:ext cx="388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e1f00"/>
                </a:solidFill>
                <a:latin typeface="Verdana"/>
              </a:rPr>
              <a:t>Até o que já perdeu a cor e o brilho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hecker dir="ver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6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53080" y="619200"/>
            <a:ext cx="347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Deixa entrar o novo em tua casa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E  dentro de ti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35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836640"/>
            <a:ext cx="41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Por isso, depois de l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esta mensagem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não a guardes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43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052640"/>
            <a:ext cx="539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Faça-a circular, p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que a prosperidade e a paz cheguem a 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hecker dir="vert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0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907920"/>
            <a:ext cx="18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00"/>
                </a:solidFill>
                <a:latin typeface="Arial"/>
              </a:rPr>
              <a:t>Boa sor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8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981000"/>
            <a:ext cx="784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Tens o hábito de juntar objetos inúte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acreditando que um dia (não sabes quan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vais necessitar deles?</a:t>
            </a:r>
            <a:r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hecke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189000"/>
            <a:ext cx="6119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Tens o hábito de juntar dinheiro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sem gastá-l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pois imaginas que ele poderá faltar no futur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2276640"/>
            <a:ext cx="7632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Tens o hábito de guardar roupas, sapatos, móveis, utensílios domésticos e outras coisas que já não usas há muito tempo?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4797360"/>
            <a:ext cx="712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E dentro de ti?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Tens o hábito de guardar raiva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ressentimentos, tristezas, med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e outros sentimentos negativos?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8360" y="549360"/>
            <a:ext cx="460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Não faças isso!  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Vai contra a tua prosperidad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35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1628640"/>
            <a:ext cx="669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É  preciso deixar um espaço, um vazio para 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novas coisas cheguem à tua vid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" presetSubtype="10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1916280"/>
            <a:ext cx="734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É  preciso se desfazer do inútil que há em 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e em tua vida para que a prosperidade possa acontec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43">
                                  <p:stCondLst>
                                    <p:cond delay="50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05:00:26Z</dcterms:created>
  <dc:creator>rakimchile@hotmail.com</dc:creator>
  <dc:description/>
  <dc:language>en-US</dc:language>
  <cp:lastModifiedBy>LIANA</cp:lastModifiedBy>
  <dcterms:modified xsi:type="dcterms:W3CDTF">2009-06-23T21:04:31Z</dcterms:modified>
  <cp:revision>81</cp:revision>
  <dc:subject>www.freewebs.com/rakimchile *** Canada  2008</dc:subject>
  <dc:title>Una produccion de Rakimchile y el Sirope de Savia de Arce la Miel de la Vida</dc:title>
</cp:coreProperties>
</file>