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Richard%20Clayderman%20-%20My%20Way.wav" ContentType="audio/x-wav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3FC-E8AC-4DDC-AC8B-4551257E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666-3D85-49B3-9F4A-442243A0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523-D970-4AF6-9F94-9D500436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FB8-78D6-4C14-B8EE-3B57700D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EEA-D553-4329-8039-77C467EC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651-CF41-4C5E-AA8A-3472023D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7BB-E217-4311-9C3B-8100D302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122-B0A1-4D7A-AAE4-0535A2EC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15A-E0DF-4422-98B2-854865BB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2B9-88F4-48EC-9634-07E21B0D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ED2-93A9-471D-A578-613C1796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6D3-9B2C-4C32-9FA3-34DE0FA4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3628-4C28-4F2E-B7B9-08D65E8DC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audio" Target="../media/Richard%20Clayderman%20-%20My%20Way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hyperlink" Target="mailto:bethnorling@globo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35280" y="2421000"/>
            <a:ext cx="5705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ESTRADA DA VIDA</a:t>
            </a:r>
            <a:endParaRPr b="0" i="1" lang="en-US" sz="40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43280" y="5373720"/>
            <a:ext cx="34671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213372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exto: Letícia Thompson – A estrada d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www.letí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úsica: Richard Clayderman – My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bethnorling@globo.com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5120" y="4076640"/>
            <a:ext cx="758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avanço tecnológico nos permite ver e localizar várias partes do mundo em tempo real. Podemos saber, com uma precisão quase exata quantos quilômetros faremos em determinado tempo.     Isso nos dá segurança, nos permite planej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5120" y="1628640"/>
            <a:ext cx="772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odavia, a estrada da vida de cada um continua uma incógnita. Planejamos, sim, mas sem poder afirmar quantos quilômetros poderemos ainda percorrer e nem o tempo que teremos para i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aro, esse desconhecimento do caminho não nos impede de ir adiante. Mas, por outro lado, faz por vezes que nos esqueçamos que não temos todo o tempo do mundo e vamos adiando certas pequenas coisas, talvez nem tão importantes em si, mas que nos fariam feliz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200" y="1700280"/>
            <a:ext cx="75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lguém me disse outro dia que o sonho de uma pessoa conhecida mundialmente e que deixou o mundo cedo demais era ir à Disneyland. E essa pessoa me disse: - por  que será que nunca foi? Eu respondi que é por que essa pessoa sempre achava que teria tempo para isso e deixava para amanhã, para o ano próximo ou, quem sabe ainda, para a velhice. Velhice esta que nunca alcançou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8200" y="2008080"/>
            <a:ext cx="772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vida é uma estrada e cada minuto passado é irrecuperável. Cada sonho que temos, simples ou extraordinário, é um futuro que colocamos no coração. É um pedacinho de felicidade que almejamos e que, por vezes, pensamos poder deixar de lado para as outras prioridades d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989000"/>
            <a:ext cx="758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É possível que estejamos deixando a verdadeira felicidade para depois, como quem guarda o melhor para o fim, sem pensar que esse fim pode vir antes do que se espera ou que o cansaço da própria vida cause desânimo. Assim, os sonhos continuam sonhos, quimeras, felicidades impossíveis, intocáve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9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8200" y="1052640"/>
            <a:ext cx="772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 o hoje passa que nem percebemos. Dizemos que a semana correu, o mês correu, o ano corre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 nós? Permanecemos nós, carregando muitos dos nossos sonhos feito balões suspensos por uma linha, pensando que amanhã ou depois os traremos para mais perto, que poderemos tocá-l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nti-los. E nem pensamos que uma hora ou outra nossas mãos se abrem e o vento carrega a vida que não vive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estrada da vida, mesmo se na nossa frente, continua uma incógnita. Mas somos nos os pass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9480" y="1935000"/>
            <a:ext cx="736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 se nosso sonho é uma flor, que a colhamos!     Se é uma viagem, que a façamos com o maior praz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 é estar com alguém, que estendamos então nossas mãos e apressemos nossos pass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133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ão sei o que virá depois da próxima curva. Mas o que sei é que antes dela, cada um deve procurar fazer-se feliz. Depois, virá o que vi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8:42:07Z</dcterms:created>
  <dc:creator>Beth Norling</dc:creator>
  <dc:description/>
  <dc:language>en-US</dc:language>
  <cp:lastModifiedBy>Beth Norling</cp:lastModifiedBy>
  <dcterms:modified xsi:type="dcterms:W3CDTF">2007-03-03T23:18:16Z</dcterms:modified>
  <cp:revision>8</cp:revision>
  <dc:subject/>
  <dc:title>A_estrada_da_vida</dc:title>
</cp:coreProperties>
</file>