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lasci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569-E755-4C83-911D-B16701B4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D41-E751-4827-9747-01F7CC34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68E-767E-43FC-85A0-E7076741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3A5-1442-455A-91B2-948ABE64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D95-416F-40C7-BEC6-7C61B7B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925-2672-444C-BD7B-026232B3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3EF-14F0-47EE-BD40-AF16BEF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456-E7EE-40DD-832A-082C79D3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E4C-E24B-412C-B5CE-835C084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396-36B7-4A85-ADE6-C642152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4C9-4168-458E-B680-42903AD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586-5DF7-4FF2-A6C8-C78D05D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415-AA4A-45F6-87B1-5555A78E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lascia.wav" TargetMode="External"/><Relationship Id="rId2" Type="http://schemas.microsoft.com/office/2007/relationships/media" Target="file:///tmp/home/.config/libreoffice/4/user/gallery/lascia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lascia.wav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e2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43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7398"/>
                </a:solidFill>
                <a:latin typeface="Times New Roman"/>
              </a:rPr>
              <a:t>Aos meus amigo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96080" y="55627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398"/>
                </a:solidFill>
                <a:latin typeface="Arial"/>
              </a:rPr>
              <a:t>Com 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u considero você um amigo..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Eu me sinto honrado(a) por isto;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ee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..e me desculpe..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..ME PERDOE,  se eu já deixei alguma marca na sua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áb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ee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O mundo está em crise, à beira de conflitos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Vamos evitá-los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 ...Que a paz de Cristo habite entre nó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Era uma vez um garoto que tinha um temperamento muito explo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95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Um dia ele recebeu um saco cheio de pregos e uma placa de madeir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5720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O pai disse a ele que martelasse um prego na tábua toda vez que perdesse a paciência com al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057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o primeiro dia o garoto colocou 37 pregos na táb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58128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Já nos dias seguintes, enquanto ele ia aprendendo a controlar sua raiva, o número de pregos martelados por dia foram diminuindo gradativament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14479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Ele descobriu que dava menos trabalho controlar sua raiva do que ter que ir todos os dias pregar diversos pregos na placa de madeira... 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96252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Finalmente chegou um dia em que o garoto não perdeu a paciência em hora algum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3716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Ele falou com seu pai sobre seu sucesso e sobre como estava se sentindo melhor em não explodir com os outros e o pai sugeriu que ele retirasse todos os pregos da tábua e que a trouxesse para e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4114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O garoto então trouxe a placa de madeira, já sem os pregos, e a entregou a seu p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le d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59092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"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Você está de parabéns, meu filho, mas dê uma olhada nos buracos que os pregos deixaram na tábu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4648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...ela nunca mais será como ante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762120"/>
            <a:ext cx="6553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Quando você diz coisas estando com raiva,       suas palavras deixam marcas como essas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Você pode enfiar uma faca em alguém                             e depois retirá-l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6133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ão importa quantas vezes você peça desculpas,               a cicatriz ainda continuará lá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105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ma agressão verbal é tão ruim quanto uma                   agressão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4c000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igos são como joias raras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Eles te fazem sorrir e te encorajam para alcançar o sucesso.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les te emprestam o ombro, compartilham dos teus momentos de alegria..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e sempre querem ter seus corações abertos para você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nvie este texto para todos que você considerar seu AMIGO(A), mesmo que isto signifique enviar de volta para a pessoa de quem você recebeu esta mensagem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 a mensagem  voltar para você, você saberá que tem uma porção de amigo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22:39:08Z</dcterms:created>
  <dc:creator>CRIESP</dc:creator>
  <dc:description/>
  <dc:language>en-US</dc:language>
  <cp:lastModifiedBy>PMSBS</cp:lastModifiedBy>
  <dcterms:modified xsi:type="dcterms:W3CDTF">2008-05-06T02:54:21Z</dcterms:modified>
  <cp:revision>19</cp:revision>
  <dc:subject/>
  <dc:title>Aos meus amigos...  </dc:title>
</cp:coreProperties>
</file>