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media/image5.gif" ContentType="image/gif"/>
  <Override PartName="/ppt/media/m%20c%20humor%20TwistAgain_ChubbyChecker111213141414.wav" ContentType="audio/x-wav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6A7-3B94-4350-8857-CF308097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A8B-DCEA-4EC5-841A-B300DEA8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E03-3B30-4A8D-B53C-7286A9C2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360-6698-493A-A22A-C93A95A4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DA7-8F4D-4A89-8B2A-D460AE05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8DC-0C6D-4766-99C7-617A1B7E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2D1-7B67-49AA-9C93-207F91AF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E22-1F18-4A2C-8BEA-99408E59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08C-C783-43A3-A0FD-0178A3CF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969-42B9-4237-84CC-88F0B77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05B-921E-4378-B1BC-41F3FAB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7B9-336F-4A01-8378-C2E2336F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EEB0-7862-41EA-A1E6-CDF268B3E2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audio" Target="../media/m%20c%20humor%20TwistAgain_ChubbyChecker111213141414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www.incredimail.com/index.asp?lang=22&amp;version=5252598&amp;setup_id=22000007&amp;aff_id=101&amp;addon=IncrediMail&amp;id=95202&amp;guid=A20BE568-6EF4-4CB9-B30B-5E7542FD4879" TargetMode="Externa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90720" y="2743200"/>
            <a:ext cx="739116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ATOS COMPROVADO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  <p:sndAc>
      <p:stSnd>
        <p:snd r:embed="rId7" name="m%20c%20humor%20TwistAgain_ChubbyChecker11121314141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Você passa anos eliminando gases silenciosos e inodoros, sozinho, em ambientes livres e com ar puro. Mas, quando você precisa deixar escapar uma pequena e inocente flatulência infantil num ambiente público, ela soará como um constrangedor toque de trombeta e/ou terá odor incompatível com a sua própria tolerância respiratória.”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Axioma da ventilação de Bloke Arisb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6324480"/>
            <a:ext cx="365400" cy="182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Música: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Let’s Twist Again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Chubby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660033"/>
                </a:solidFill>
                <a:latin typeface="Comic Sans MS"/>
              </a:rPr>
              <a:t>“</a:t>
            </a: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Quando você estiver com apenas uma mão livre para abrir a porta, a chave estará no bolso oposto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e assimetria de Mife Raram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Quando tuas mãos estiverem sujas de graxa, vai começar a te coçar, no mínimo, o nariz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e mecânica de Kikok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O seguro cobre tudo, menos o que aconteceu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e Nonti Pagam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“Não importa por qual lado seja aberta a caixa de um medicamento. A bula sempre vai atrapalhar." (Princípio Dó# Ré# Mé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Quando você acha que as coisas parecem melhorar é porque algo lhe passou despercebido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Primeiro teorema de Tamus Ferradus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Os problemas não se criam, nem se resolvem, transformam-se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a persistência de Waiterc Past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Sempre que as coisas nos parecerem muito fáceis é porque não entendemos todas as instruções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Princípio A. Troppe Lado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Se você mantém a calma quando todos perdem a cabeça, certamente é porque você não captou a gravidade do problema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Axioma de Len Tata P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Você só vai conseguir chegar ao telefone exatamente a tempo de ouvir quando desligam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Princípio de Des Ling A. Bell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Se só existirem dois programas de TV, que valha a pena assistir, ambos passarão no mesmo horário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de Put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A probabilidade de se sujar comendo é diretamente proporcional à necessidade de estar limpo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Axioma Higiênico de Ki Droga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A velocidade do vento é diretamente proporcional ao preço do penteado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Meteorológica Assus T.A. D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Sempre que você chegar pontualmente a um encontro, não haverá ninguém lá para comprovar. E se, ao contrário, você se atrasar, todo mundo vai ter chegado antes de você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Princípio de Tardelli de Mora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2666880" cy="1905120"/>
          </a:xfrm>
          <a:prstGeom prst="flowChartOnlineStorag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800600"/>
            <a:ext cx="2590920" cy="2057400"/>
          </a:xfrm>
          <a:prstGeom prst="flowChartMagnetic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49600"/>
            <a:ext cx="914400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962520" y="6400800"/>
            <a:ext cx="1382760" cy="822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"O mundo é feito pelo esforço dos inteligentes, mas são os imbecis que o desfrutam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Corolário de Nuinkane Kurta)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 "Quando, depois de anos sem usar, você decide arquivar alguma coisa... vai precisar dela amanhã.“</a:t>
            </a:r>
            <a:br>
              <a:rPr sz="2400"/>
            </a:br>
            <a:r>
              <a:rPr b="1" i="1" lang="pt-BR" sz="2400" spc="-1" strike="noStrike">
                <a:solidFill>
                  <a:srgbClr val="660033"/>
                </a:solidFill>
                <a:latin typeface="Comic Sans MS"/>
              </a:rPr>
              <a:t>(Lei irreversível de Kitonto Kifos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0:08:20Z</dcterms:created>
  <dc:creator>Angelica Lepper</dc:creator>
  <dc:description/>
  <dc:language>en-US</dc:language>
  <cp:lastModifiedBy>Eurico</cp:lastModifiedBy>
  <dcterms:modified xsi:type="dcterms:W3CDTF">2007-04-05T02:46:05Z</dcterms:modified>
  <cp:revision>11</cp:revision>
  <dc:subject/>
  <dc:title>FATOS COMPROVADOS</dc:title>
</cp:coreProperties>
</file>