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Davis%20Miles%20-%20Autumn%20leaves.wav" ContentType="audio/x-wav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383-11C7-41D1-A4F3-3493E76F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BD3-FA96-4A34-B4C8-69EF13D5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AFB-0288-4830-802C-44DF92D7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3D1-ACE1-40D8-9BAB-B3AE520F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2B0-5296-4B24-9082-19406579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D34-A8B5-474C-93F2-6BFA7784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4F4-F4F8-40A8-9D14-7EC32B8F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288-DA9A-4E5B-81D9-C936FD7F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AB3-E247-4A75-8F04-DDD864E1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0DA-9157-4AF5-936C-8F1388FB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9C2-2A55-4574-AB18-F9C24B0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784-A83E-416C-A078-1AB300C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A7B5-B8B8-46B9-AF48-98B3B2EA8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5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audio" Target="../media/Davis%20Miles%20-%20Autumn%20leaves.wav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6.jpeg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7.jpeg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8.jpeg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9.jpeg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10.jpeg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2.png"/><Relationship Id="rId30" Type="http://schemas.openxmlformats.org/officeDocument/2006/relationships/hyperlink" Target="http://www.leticiathompson.net/" TargetMode="External"/><Relationship Id="rId31" Type="http://schemas.openxmlformats.org/officeDocument/2006/relationships/hyperlink" Target="mailto:bethnorling@globo.com" TargetMode="Externa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476360" y="4581360"/>
            <a:ext cx="6048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OS LIMITES DE CADA UM DE NÓS</a:t>
            </a:r>
            <a:endParaRPr b="0" lang="en-US" sz="1800" spc="1" strike="noStrike">
              <a:ln w="0">
                <a:noFill/>
              </a:ln>
              <a:blipFill rotWithShape="0">
                <a:blip r:embed="rId3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492360" y="5445000"/>
            <a:ext cx="2162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etícia Thompson</a:t>
            </a:r>
            <a:endParaRPr b="0" lang="en-US" sz="2400" spc="1" strike="noStrike">
              <a:ln w="0">
                <a:noFill/>
              </a:ln>
              <a:blipFill rotWithShape="0">
                <a:blip r:embed="rId3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197000"/>
            <a:ext cx="73645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As pessoas julgam as forças umas das outras baseando-se naquilo que elas mesmas são capazes de supor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653000"/>
            <a:ext cx="74170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Poucos se dão conta que cada um de nós tem seu limite e que este não pode ser comparado com o de mais ningu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7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197000"/>
            <a:ext cx="74170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Uns suportam mais heroicamente o sofrimento, outros se entregam e morrem devagarinho como se o mundo tivesse acab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E a um e a outro Deus cri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4365720"/>
            <a:ext cx="7293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Somos infinitamente mais capazes do que pensamos, mas enquanto ignoramos essa verdade, somos o que somos sem sermos mais ou menos que ningu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500280"/>
            <a:ext cx="74898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Classificar alguém de fraco porque este não suporta a dor física, moral ou emocional é cometer uma grande injustiça, pois cada um vai até onde seus limites permitem e é devagarinho que as pessoas vão descobrindo que as asperezas da vida nos tornam pouco a pouco m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fortes e resist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3716280"/>
            <a:ext cx="7437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Seguimos até onde devemos seguir e quando cremos que as forças nos abandonam é que o Senhor nos pega nos braços e nos ensina a voar. Vemos então horizontes que não podíamos alcançar com nossa visão plana e direcionada geralmente àquilo que nos fazia tanto 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1125360"/>
            <a:ext cx="7364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Somos o que somos sim e que ninguém nos diga pequenos e falh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Alcançamos tudo o que está ao alcance das nossas mãos e mais o que o Senhor nos dá através da nossa fé que, mesmo limitada, nos torna seres ilimi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39840" y="1762200"/>
            <a:ext cx="6716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cc"/>
                </a:solidFill>
                <a:uFillTx/>
                <a:latin typeface="Verdana"/>
                <a:hlinkClick r:id="rId3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Música: Davis Miles – Autumn lea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cccc"/>
                </a:solidFill>
                <a:uFillTx/>
                <a:latin typeface="Verdana"/>
                <a:hlinkClick r:id="rId31"/>
              </a:rPr>
              <a:t>bethnorling@globo.com</a:t>
            </a: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20:22:26Z</dcterms:created>
  <dc:creator>Beth Norling</dc:creator>
  <dc:description/>
  <dc:language>en-US</dc:language>
  <cp:lastModifiedBy>Beth Norling</cp:lastModifiedBy>
  <dcterms:modified xsi:type="dcterms:W3CDTF">2008-01-25T17:13:50Z</dcterms:modified>
  <cp:revision>16</cp:revision>
  <dc:subject/>
  <dc:title>Os_limites_de_cada_um_de_nós</dc:title>
</cp:coreProperties>
</file>