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Davis%20Miles%20-%20Autumn%20leaves.wav" ContentType="audio/x-wav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803-6923-4028-AD0E-CBF3FAB8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1FB-586D-40E7-8DE1-07EBA3AE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CE5-7DB1-4F29-AF0E-80FF1466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20D-FDB9-4D45-A253-8B6CC9AE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D0E-4262-4A38-89D9-F77CF74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0EB-A34C-44AA-9120-175D6D23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D5D-8B8D-4C77-960C-27F0C6D7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240-9A1A-4D7F-9626-7B06A2F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AB1-E17A-4C42-8944-34F6B92A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49F-228F-49AA-929F-E3D81CC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308-C82A-435D-B390-87A705D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157-357A-4B61-B6B3-6B351457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AE35-EBA0-4275-82F2-2D66B4ED4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5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audio" Target="../media/Davis%20Miles%20-%20Autumn%20leaves.wav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6.jpe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7.jpeg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8.jpeg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9.jpeg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10.jpeg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3.jpeg"/><Relationship Id="rId27" Type="http://schemas.openxmlformats.org/officeDocument/2006/relationships/image" Target="../media/image2.png"/><Relationship Id="rId28" Type="http://schemas.openxmlformats.org/officeDocument/2006/relationships/image" Target="../media/image3.jpeg"/><Relationship Id="rId29" Type="http://schemas.openxmlformats.org/officeDocument/2006/relationships/image" Target="../media/image2.png"/><Relationship Id="rId30" Type="http://schemas.openxmlformats.org/officeDocument/2006/relationships/hyperlink" Target="http://www.leticiathompson.net/" TargetMode="External"/><Relationship Id="rId31" Type="http://schemas.openxmlformats.org/officeDocument/2006/relationships/hyperlink" Target="mailto:bethnorling@globo.com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476360" y="4581360"/>
            <a:ext cx="6048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S LIMITES DE CADA UM DE NÓS</a:t>
            </a:r>
            <a:endParaRPr b="0" lang="en-US" sz="1800" spc="1" strike="noStrike">
              <a:ln w="0">
                <a:noFill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492360" y="5445000"/>
            <a:ext cx="216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etícia Thompson</a:t>
            </a:r>
            <a:endParaRPr b="0" lang="en-US" sz="2400" spc="1" strike="noStrike">
              <a:ln w="0">
                <a:noFill/>
              </a:ln>
              <a:blipFill rotWithShape="0">
                <a:blip r:embed="rId3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197000"/>
            <a:ext cx="73645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As pessoas julgam as forças umas das outras baseando-se naquilo que elas mesmas são capazes de supor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653000"/>
            <a:ext cx="74170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Poucos se dão conta que cada um de nós tem seu limite e que este não pode ser comparado com o de mais nin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7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197000"/>
            <a:ext cx="74170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Uns suportam mais heroicamente o sofrimento, outros se entregam e morrem devagarinho como se o mundo tivesse acab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E a um e a outro Deus cri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365720"/>
            <a:ext cx="7293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Somos infinitamente mais capazes do que pensamos, mas enquanto ignoramos essa verdade, somos o que somos sem sermos mais ou menos que nin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500280"/>
            <a:ext cx="74898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Classificar alguém de fraco porque este não suporta a dor física, moral ou emocional é cometer uma grande injustiça, pois cada um vai até onde seus limites permitem e é devagarinho que as pessoas vão descobrindo que as asperezas da vida nos tornam pouco a pouco m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fortes e resis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3716280"/>
            <a:ext cx="7437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Seguimos até onde devemos seguir e quando cremos que as forças nos abandonam é que o Senhor nos pega nos braços e nos ensina a voar. Vemos então horizontes que não podíamos alcançar com nossa visão plana e direcionada geralmente àquilo que nos fazia tanto 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1125360"/>
            <a:ext cx="7364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Somos o que somos sim e que ninguém nos diga pequenos e falh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cc"/>
                </a:solidFill>
                <a:latin typeface="Verdana"/>
              </a:rPr>
              <a:t>Alcançamos tudo o que está ao alcance das nossas mãos e mais o que o Senhor nos dá através da nossa fé que, mesmo limitada, nos torna seres ilimi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3360"/>
            <a:ext cx="9144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0" y="403560"/>
            <a:ext cx="9144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0" y="6381000"/>
            <a:ext cx="9144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0" y="259200"/>
            <a:ext cx="9144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0" y="6524640"/>
            <a:ext cx="9144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0" y="47628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0" y="1341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0" y="234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0" y="3357720"/>
            <a:ext cx="1692360" cy="1091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0" y="443700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"/>
          <a:stretch/>
        </p:blipFill>
        <p:spPr>
          <a:xfrm>
            <a:off x="0" y="5229360"/>
            <a:ext cx="1692360" cy="1092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3"/>
          <a:stretch/>
        </p:blipFill>
        <p:spPr>
          <a:xfrm flipH="1">
            <a:off x="752328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 flipH="1">
            <a:off x="7523280" y="1628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5"/>
          <a:stretch/>
        </p:blipFill>
        <p:spPr>
          <a:xfrm flipH="1">
            <a:off x="7523280" y="2708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 flipH="1">
            <a:off x="7523280" y="386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 flipH="1">
            <a:off x="7523280" y="515772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 flipH="1">
            <a:off x="594000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"/>
          <a:stretch/>
        </p:blipFill>
        <p:spPr>
          <a:xfrm flipH="1">
            <a:off x="435564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0"/>
          <a:stretch/>
        </p:blipFill>
        <p:spPr>
          <a:xfrm flipH="1">
            <a:off x="2771280" y="47628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1"/>
          <a:stretch/>
        </p:blipFill>
        <p:spPr>
          <a:xfrm flipH="1">
            <a:off x="1258920" y="47628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2"/>
          <a:stretch/>
        </p:blipFill>
        <p:spPr>
          <a:xfrm flipH="1">
            <a:off x="1619280" y="530064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3"/>
          <a:stretch/>
        </p:blipFill>
        <p:spPr>
          <a:xfrm flipH="1">
            <a:off x="5940000" y="5229360"/>
            <a:ext cx="1621080" cy="1092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4"/>
          <a:stretch/>
        </p:blipFill>
        <p:spPr>
          <a:xfrm flipH="1">
            <a:off x="4427640" y="5229360"/>
            <a:ext cx="1620720" cy="1092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5"/>
          <a:stretch/>
        </p:blipFill>
        <p:spPr>
          <a:xfrm flipH="1">
            <a:off x="2916360" y="5229360"/>
            <a:ext cx="1620720" cy="1092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95280" y="692280"/>
            <a:ext cx="8353440" cy="54734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765000"/>
            <a:ext cx="8207280" cy="5328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836640"/>
            <a:ext cx="7921440" cy="51847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4360" y="907920"/>
            <a:ext cx="7775280" cy="50421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39840" y="1762200"/>
            <a:ext cx="6716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cc"/>
                </a:solidFill>
                <a:uFillTx/>
                <a:latin typeface="Verdana"/>
                <a:hlinkClick r:id="rId3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Música: Davis Miles – Autumn lea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cccc"/>
                </a:solidFill>
                <a:uFillTx/>
                <a:latin typeface="Verdana"/>
                <a:hlinkClick r:id="rId31"/>
              </a:rPr>
              <a:t>bethnorling@globo.com</a:t>
            </a:r>
            <a:r>
              <a:rPr b="1" lang="pt-BR" sz="2000" spc="-1" strike="noStrike">
                <a:solidFill>
                  <a:srgbClr val="ffcccc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20:22:26Z</dcterms:created>
  <dc:creator>Beth Norling</dc:creator>
  <dc:description/>
  <dc:language>en-US</dc:language>
  <cp:lastModifiedBy>Beth Norling</cp:lastModifiedBy>
  <dcterms:modified xsi:type="dcterms:W3CDTF">2008-01-25T17:13:50Z</dcterms:modified>
  <cp:revision>16</cp:revision>
  <dc:subject/>
  <dc:title>Os_limites_de_cada_um_de_nós</dc:title>
</cp:coreProperties>
</file>