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E%20Cortazar%20-%20Leaving%20The%20Next.wav" ContentType="audio/x-wav"/>
  <Override PartName="/ppt/media/image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89AA-2D2F-4D35-8028-94C483D48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1F3A-2FF2-4F1A-834F-E732B12D6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ACF4-2E17-4A3B-A577-8CE144583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D923-5B63-4DA2-89A8-5E8196EB4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916B-3575-4F02-AAE6-91F3B55F4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BD66-9B40-4E62-B256-60826A31F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6C9A-DB63-4C7F-9004-8F22FE289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54F0-B3CF-4F36-AB11-4D2186AAE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643D-F7A4-4B1B-A5B5-C9B9C63E4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E87B-0AB2-48B6-ADDB-BB003E99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F57E-F4AD-4A7C-B2CB-7326829A8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84B4-8A8B-41C5-A630-487ADFD19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59C07-C4F8-47A6-B5D9-DCBD75A64834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E%20Cortazar%20-%20Leaving%20The%20Next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m 1" descr="5939__WaSATKA-CK-(1).jpg"/>
          <p:cNvPicPr/>
          <p:nvPr/>
        </p:nvPicPr>
        <p:blipFill>
          <a:blip r:embed="rId1"/>
          <a:srcRect l="10854" t="0" r="0" b="0"/>
          <a:stretch/>
        </p:blipFill>
        <p:spPr>
          <a:xfrm>
            <a:off x="0" y="-27000"/>
            <a:ext cx="9171000" cy="6885000"/>
          </a:xfrm>
          <a:prstGeom prst="rect">
            <a:avLst/>
          </a:prstGeom>
          <a:ln w="0">
            <a:noFill/>
          </a:ln>
        </p:spPr>
      </p:pic>
      <p:sp>
        <p:nvSpPr>
          <p:cNvPr id="42" name="CaixaDeTexto 2"/>
          <p:cNvSpPr/>
          <p:nvPr/>
        </p:nvSpPr>
        <p:spPr>
          <a:xfrm>
            <a:off x="4356000" y="333360"/>
            <a:ext cx="446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800" spc="-1" strike="noStrike">
                <a:solidFill>
                  <a:srgbClr val="ffffff"/>
                </a:solidFill>
                <a:latin typeface="Baskerville Old Face"/>
              </a:rPr>
              <a:t>“</a:t>
            </a:r>
            <a:r>
              <a:rPr b="1" lang="pt-BR" sz="8800" spc="-1" strike="noStrike">
                <a:solidFill>
                  <a:srgbClr val="ffffff"/>
                </a:solidFill>
                <a:latin typeface="Baskerville Old Face"/>
              </a:rPr>
              <a:t>O Voo”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CaixaDeTexto 3"/>
          <p:cNvSpPr/>
          <p:nvPr/>
        </p:nvSpPr>
        <p:spPr>
          <a:xfrm>
            <a:off x="3564000" y="5805360"/>
            <a:ext cx="532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ff"/>
                </a:solidFill>
                <a:latin typeface="Monotype Corsiva"/>
                <a:ea typeface="Arial"/>
              </a:rPr>
              <a:t>Menotti  Del  Picch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E%20Cortazar%20-%20Leaving%20The%20Next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tângulo 4"/>
          <p:cNvSpPr/>
          <p:nvPr/>
        </p:nvSpPr>
        <p:spPr>
          <a:xfrm>
            <a:off x="974880" y="2349360"/>
            <a:ext cx="6011640" cy="460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tângulo 4"/>
          <p:cNvSpPr/>
          <p:nvPr/>
        </p:nvSpPr>
        <p:spPr>
          <a:xfrm>
            <a:off x="1738440" y="3076560"/>
            <a:ext cx="6019560" cy="460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tângulo 3"/>
          <p:cNvSpPr/>
          <p:nvPr/>
        </p:nvSpPr>
        <p:spPr>
          <a:xfrm>
            <a:off x="1884240" y="5589720"/>
            <a:ext cx="4559400" cy="46008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"/>
          <p:cNvSpPr/>
          <p:nvPr/>
        </p:nvSpPr>
        <p:spPr>
          <a:xfrm>
            <a:off x="917640" y="620640"/>
            <a:ext cx="7632720" cy="56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Segoe UI Symbol"/>
                <a:ea typeface="Segoe UI Symbol"/>
              </a:rPr>
              <a:t>Belas apresentações (slides) em PowerPoint, mensagens motivadoras, lindas imagens e textos para criar um ambiente de alegria e bem-est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Segoe UI Symbol"/>
                <a:ea typeface="Segoe UI Symbol"/>
              </a:rPr>
              <a:t>Receba duas mensagens semanais gratuitas, uma na segunda-feira e outra na sexta.  Basta enviar um e-mail para: </a:t>
            </a:r>
            <a:br>
              <a:rPr sz="2000"/>
            </a:br>
            <a:r>
              <a:rPr b="0" lang="pt-BR" sz="2000" spc="-1" strike="noStrike">
                <a:solidFill>
                  <a:srgbClr val="ffffff"/>
                </a:solidFill>
                <a:latin typeface="Segoe UI Symbol"/>
                <a:ea typeface="Segoe UI Symbol"/>
              </a:rPr>
              <a:t>powerpointsemanal-subscribe@yahoogrupos.com.b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t-BR" sz="2000" spc="-1" strike="noStrike">
                <a:solidFill>
                  <a:srgbClr val="ffffff"/>
                </a:solidFill>
                <a:latin typeface="Segoe UI Symbol"/>
                <a:ea typeface="Segoe UI Symbol"/>
              </a:rPr>
              <a:t>CLIQUE AQUI PARA RECEBER AS MENSAG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pt-BR" sz="2000" spc="-1" strike="noStrike">
                <a:solidFill>
                  <a:srgbClr val="ffffff"/>
                </a:solidFill>
                <a:latin typeface="Segoe UI Symbol"/>
                <a:ea typeface="Segoe UI Symbol"/>
              </a:rPr>
              <a:t>não precisa escrever nada no e-mail, nem no campo assunto é só enviar o e-mail e daí a pouco você recebe uma mensagem de confirmação, clique em responder sem escrever nada no e-mail, clique em Enviar e já estará inscrito(a) para receber as mensagens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Segoe UI Symbol"/>
                <a:ea typeface="Segoe UI Symbol"/>
              </a:rPr>
              <a:t>Acesse:  WWW.PLANETAPOWERPOINT.COM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magem 1" descr="3864__954.jpg"/>
          <p:cNvPicPr/>
          <p:nvPr/>
        </p:nvPicPr>
        <p:blipFill>
          <a:blip r:embed="rId1"/>
          <a:srcRect l="8970" t="0" r="0" b="0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5" name="CaixaDeTexto 2"/>
          <p:cNvSpPr/>
          <p:nvPr/>
        </p:nvSpPr>
        <p:spPr>
          <a:xfrm>
            <a:off x="900000" y="33336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Arial"/>
                <a:ea typeface="Arial"/>
              </a:rPr>
              <a:t>Goza a euforia do voo do anjo perdido em 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CaixaDeTexto 3"/>
          <p:cNvSpPr/>
          <p:nvPr/>
        </p:nvSpPr>
        <p:spPr>
          <a:xfrm>
            <a:off x="4932360" y="4221000"/>
            <a:ext cx="381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Arial"/>
                <a:ea typeface="Arial"/>
              </a:rPr>
              <a:t>Não indagues se nossas estradas, tempo e vento, desabam no ab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Imagem 1" descr="3837__980.jpg"/>
          <p:cNvPicPr/>
          <p:nvPr/>
        </p:nvPicPr>
        <p:blipFill>
          <a:blip r:embed="rId1"/>
          <a:srcRect l="7482" t="0" r="3833" b="0"/>
          <a:stretch/>
        </p:blipFill>
        <p:spPr>
          <a:xfrm>
            <a:off x="-36360" y="-2700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8" name="CaixaDeTexto 2"/>
          <p:cNvSpPr/>
          <p:nvPr/>
        </p:nvSpPr>
        <p:spPr>
          <a:xfrm>
            <a:off x="2195640" y="692280"/>
            <a:ext cx="684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Arial"/>
                <a:ea typeface="Arial"/>
              </a:rPr>
              <a:t>Que sabes tu do fi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Arial"/>
                <a:ea typeface="Arial"/>
              </a:rPr>
              <a:t>Se temes que teu mistério seja uma noit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Arial"/>
                <a:ea typeface="Arial"/>
              </a:rPr>
              <a:t>enche-os de estrel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Imagem 1" descr="4775__6888ptak34.jpg"/>
          <p:cNvPicPr/>
          <p:nvPr/>
        </p:nvPicPr>
        <p:blipFill>
          <a:blip r:embed="rId1"/>
          <a:srcRect l="5934" t="0" r="5531" b="0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50" name="CaixaDeTexto 2"/>
          <p:cNvSpPr/>
          <p:nvPr/>
        </p:nvSpPr>
        <p:spPr>
          <a:xfrm>
            <a:off x="395280" y="33336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Arial"/>
                <a:ea typeface="Arial"/>
              </a:rPr>
              <a:t>Conserva a ilusão de que teu voo te leva semp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Arial"/>
                <a:ea typeface="Arial"/>
              </a:rPr>
              <a:t>para o mais al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magem 1" descr="5978__MazurekCK.jpg"/>
          <p:cNvPicPr/>
          <p:nvPr/>
        </p:nvPicPr>
        <p:blipFill>
          <a:blip r:embed="rId1"/>
          <a:srcRect l="10060" t="0" r="4882" b="3789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52" name="CaixaDeTexto 3"/>
          <p:cNvSpPr/>
          <p:nvPr/>
        </p:nvSpPr>
        <p:spPr>
          <a:xfrm>
            <a:off x="539640" y="243000"/>
            <a:ext cx="80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Arial"/>
                <a:ea typeface="Arial"/>
              </a:rPr>
              <a:t>No deslumbramento da ascensã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Arial"/>
                <a:ea typeface="Arial"/>
              </a:rPr>
              <a:t>se pressentires que amanhã estarás mud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aixaDeTexto 4"/>
          <p:cNvSpPr/>
          <p:nvPr/>
        </p:nvSpPr>
        <p:spPr>
          <a:xfrm>
            <a:off x="4716360" y="2979720"/>
            <a:ext cx="428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Arial"/>
                <a:ea typeface="Arial"/>
              </a:rPr>
              <a:t>esgota, como um pássaro, as canções que tens na gargan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Imagem 1" descr="5938__WaSATKA-CK.jpg"/>
          <p:cNvPicPr/>
          <p:nvPr/>
        </p:nvPicPr>
        <p:blipFill>
          <a:blip r:embed="rId1"/>
          <a:srcRect l="14602" t="0" r="0" b="4828"/>
          <a:stretch/>
        </p:blipFill>
        <p:spPr>
          <a:xfrm>
            <a:off x="-50760" y="-27000"/>
            <a:ext cx="9231120" cy="6885000"/>
          </a:xfrm>
          <a:prstGeom prst="rect">
            <a:avLst/>
          </a:prstGeom>
          <a:ln w="0">
            <a:noFill/>
          </a:ln>
        </p:spPr>
      </p:pic>
      <p:sp>
        <p:nvSpPr>
          <p:cNvPr id="55" name="CaixaDeTexto 2"/>
          <p:cNvSpPr/>
          <p:nvPr/>
        </p:nvSpPr>
        <p:spPr>
          <a:xfrm>
            <a:off x="2268360" y="260280"/>
            <a:ext cx="687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Arial"/>
                <a:ea typeface="Arial"/>
              </a:rPr>
              <a:t>Canta. Canta para conservar a ilusão de festa e de vitór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aixaDeTexto 3"/>
          <p:cNvSpPr/>
          <p:nvPr/>
        </p:nvSpPr>
        <p:spPr>
          <a:xfrm>
            <a:off x="5292720" y="2924280"/>
            <a:ext cx="3851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Arial"/>
                <a:ea typeface="Arial"/>
              </a:rPr>
              <a:t>Talvez as canções adormeçam as feras que esperam devor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Arial"/>
                <a:ea typeface="Arial"/>
              </a:rPr>
              <a:t>o pássa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Imagem 1" descr="3830__987.jpg"/>
          <p:cNvPicPr/>
          <p:nvPr/>
        </p:nvPicPr>
        <p:blipFill>
          <a:blip r:embed="rId1"/>
          <a:srcRect l="4580" t="0" r="6091" b="0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58" name="CaixaDeTexto 2"/>
          <p:cNvSpPr/>
          <p:nvPr/>
        </p:nvSpPr>
        <p:spPr>
          <a:xfrm>
            <a:off x="4067280" y="549360"/>
            <a:ext cx="507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Arial"/>
                <a:ea typeface="Arial"/>
              </a:rPr>
              <a:t>Desde que nasceste não és mais que um voo no temp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Arial"/>
                <a:ea typeface="Arial"/>
              </a:rPr>
              <a:t>Rumo do cé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Imagem 1" descr="3916__7025.jpg"/>
          <p:cNvPicPr/>
          <p:nvPr/>
        </p:nvPicPr>
        <p:blipFill>
          <a:blip r:embed="rId1"/>
          <a:srcRect l="0" t="0" r="11112" b="0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60" name="CaixaDeTexto 2"/>
          <p:cNvSpPr/>
          <p:nvPr/>
        </p:nvSpPr>
        <p:spPr>
          <a:xfrm>
            <a:off x="250920" y="692280"/>
            <a:ext cx="8677080" cy="11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Arial"/>
                <a:ea typeface="Arial"/>
              </a:rPr>
              <a:t>Que importa a ro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Arial"/>
                <a:ea typeface="Arial"/>
              </a:rPr>
              <a:t>Voa e canta enquanto resistirem as as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aixaDeTexto 3"/>
          <p:cNvSpPr/>
          <p:nvPr/>
        </p:nvSpPr>
        <p:spPr>
          <a:xfrm>
            <a:off x="4822920" y="486900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ffffff"/>
                </a:solidFill>
                <a:latin typeface="Monotype Corsiva"/>
                <a:ea typeface="Arial"/>
              </a:rPr>
              <a:t>Menotti  Del Picch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Imagem 2" descr="5940__WaSATKA-CK-(2).jpg"/>
          <p:cNvPicPr/>
          <p:nvPr/>
        </p:nvPicPr>
        <p:blipFill>
          <a:blip r:embed="rId1"/>
          <a:srcRect l="10425" t="0" r="334" b="0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63" name="CaixaDeTexto 3"/>
          <p:cNvSpPr/>
          <p:nvPr/>
        </p:nvSpPr>
        <p:spPr>
          <a:xfrm>
            <a:off x="5076720" y="4494240"/>
            <a:ext cx="392292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Imag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ff"/>
                </a:solidFill>
                <a:latin typeface="Arial"/>
                <a:ea typeface="Arial"/>
              </a:rPr>
              <a:t>Fotoco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Mús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ff"/>
                </a:solidFill>
                <a:latin typeface="Arial"/>
                <a:ea typeface="Arial"/>
              </a:rPr>
              <a:t>Ernesto Cortaz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Format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ff"/>
                </a:solidFill>
                <a:latin typeface="Arial"/>
                <a:ea typeface="Arial"/>
              </a:rPr>
              <a:t>Christina Meirelles Nev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6T23:03:58Z</dcterms:created>
  <dc:creator>PARTICULAR</dc:creator>
  <dc:description/>
  <dc:language>en-US</dc:language>
  <cp:lastModifiedBy>Sergio Camargos</cp:lastModifiedBy>
  <dcterms:modified xsi:type="dcterms:W3CDTF">2013-05-06T16:38:15Z</dcterms:modified>
  <cp:revision>2</cp:revision>
  <dc:subject/>
  <dc:title>Slide 1</dc:title>
</cp:coreProperties>
</file>