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png" ContentType="image/png"/>
  <Override PartName="/ppt/media/SarahBright(MomentPeace).wav" ContentType="audio/x-wav"/>
  <Override PartName="/ppt/media/laser.wav" ContentType="audio/x-wav"/>
  <Override PartName="/ppt/media/image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597-A6FC-4E11-8DA1-7E04E77E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3E3-85D6-465F-9AFF-BD454177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E3F-486C-4089-BE6B-DB28B966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562-D63D-4E1A-8778-674918AF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69B-8301-442F-A1AC-576006DE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79B-F8FE-4923-8D13-F087D6B2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CBE-910D-4469-98BD-465AAEF0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EC9-2708-41D9-8919-3B34735D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C39-ECE7-44F9-8CE4-515F4098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7C6-1E04-4947-9962-AF942FC1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575-2B2B-4605-99CE-E7EE495F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58C-68CE-4444-B892-70312040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C156-5B53-4688-8F28-ED89E5F20198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SarahBright(MomentPeace)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-603360"/>
            <a:ext cx="9836280" cy="15770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0"/>
            <a:ext cx="81532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PAR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O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MULHE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537372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Script MT Bold"/>
              </a:rPr>
              <a:t>Não clikes, deixa rolar os slid’s</a:t>
            </a:r>
            <a:r>
              <a:rPr b="1" lang="ca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a-ES" sz="4800" spc="-1" strike="noStrike">
                <a:solidFill>
                  <a:srgbClr val="ff3300"/>
                </a:solidFill>
                <a:latin typeface="Wingdings"/>
                <a:ea typeface="Wingdings"/>
              </a:rPr>
              <a:t>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Script MT Bold"/>
              </a:rPr>
              <a:t>Com som</a:t>
            </a:r>
            <a:r>
              <a:rPr b="1" lang="ca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a-ES" sz="4800" spc="-1" strike="noStrike">
                <a:solidFill>
                  <a:srgbClr val="00ff00"/>
                </a:solidFill>
                <a:latin typeface="Webdings"/>
                <a:ea typeface="Webdings"/>
              </a:rPr>
              <a:t>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20738880" cy="13560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63640" y="907920"/>
            <a:ext cx="5832720" cy="11912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brigam por aquilo que acredit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  levantam-se perante injusti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10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0920" y="404640"/>
            <a:ext cx="568800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choram quando estão feliz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 riem quando estão nerv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800"/>
                            </p:stCondLst>
                            <p:childTnLst>
                              <p:par>
                                <p:cTn id="2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35280" y="836640"/>
            <a:ext cx="612144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sorriem quando querem gri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cantam quando querem cho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900"/>
                            </p:stCondLst>
                            <p:childTnLst>
                              <p:par>
                                <p:cTn id="2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240" y="0"/>
            <a:ext cx="9113760" cy="10810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42920" y="765000"/>
            <a:ext cx="7705800" cy="95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não dão um  "não" como respo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do acreditam que existe outra soluçã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800"/>
                            </p:stCondLst>
                            <p:childTnLst>
                              <p:par>
                                <p:cTn id="2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10044360" cy="6780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19280" y="5300640"/>
            <a:ext cx="6264360" cy="11912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QUE SERÁ QUE AS MULH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ÃO TÃO IMPORTAN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rot="19012800">
            <a:off x="6983280" y="544320"/>
            <a:ext cx="1752840" cy="23414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mb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200"/>
                            </p:stCondLst>
                            <p:childTnLst>
                              <p:par>
                                <p:cTn id="2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100"/>
                            </p:stCondLst>
                            <p:childTnLst>
                              <p:par>
                                <p:cTn id="27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-819000"/>
            <a:ext cx="9144000" cy="828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620640"/>
            <a:ext cx="7559640" cy="1557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Envia este PPs  para as tuas ami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ara as lembrar o quanto elas são maravilhosas...</a:t>
            </a:r>
            <a:br>
              <a:rPr sz="2400"/>
            </a:b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..e para os teus amigos lembrando-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que é bom ter uma mulher o seu la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19012800">
            <a:off x="6156360" y="3933720"/>
            <a:ext cx="942840" cy="1260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700"/>
                            </p:stCondLst>
                            <p:childTnLst>
                              <p:par>
                                <p:cTn id="3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100"/>
                            </p:stCondLst>
                            <p:childTnLst>
                              <p:par>
                                <p:cTn id="3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756720" cy="6907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3080" y="4327560"/>
            <a:ext cx="549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Imagem d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Música: Sarah Bright ( </a:t>
            </a:r>
            <a:r>
              <a:rPr b="1" lang="en-US" sz="2000" spc="-1" strike="noStrike">
                <a:solidFill>
                  <a:srgbClr val="ffffff"/>
                </a:solidFill>
                <a:latin typeface="Matura MT Script Capitals"/>
              </a:rPr>
              <a:t>Momentos de Paz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Textos de Autor Desconhe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Formatação e Adaptação de Tex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JOTA SA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Contato: jotamdsantos@clix.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 rot="20340000">
            <a:off x="0" y="907560"/>
            <a:ext cx="286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90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4760000"/>
                </a:gradFill>
                <a:latin typeface="Lucida Calligraphy"/>
              </a:rPr>
              <a:t>Jota Santos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4760000"/>
              </a:gradFill>
              <a:latin typeface="Lucida Calligraphy"/>
              <a:ea typeface="Lucida Calligraphy"/>
            </a:endParaRPr>
          </a:p>
        </p:txBody>
      </p:sp>
    </p:spTree>
  </p:cSld>
  <p:transition spd="slow" advTm="15000">
    <p:comb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102)"/>
                                      </p:to>
                                    </p:set>
                                    <p:set>
                                      <p:cBhvr>
                                        <p:cTn id="325" dur="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102)"/>
                                      </p:to>
                                    </p:set>
                                    <p:set>
                                      <p:cBhvr>
                                        <p:cTn id="326" dur="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68360" y="981000"/>
            <a:ext cx="504036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oração de uma mul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é o que faz o mundo gira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3" name="SarahBright(MomentPeace)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800"/>
                            </p:stCondLst>
                            <p:childTnLst>
                              <p:par>
                                <p:cTn id="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8000" y="404640"/>
            <a:ext cx="575964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sabem que um abraço e um beijo podem curar um coração do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29816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68360" y="549360"/>
            <a:ext cx="597564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heres fazem mais do que dar a vida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trazem alegria e esperan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5661000"/>
            <a:ext cx="741672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dão compaixão e carinho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dão apoio moral à família e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6867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4437000"/>
            <a:ext cx="604872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Mulheres têm muito que diz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 muito para 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273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27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333360"/>
            <a:ext cx="504036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amam incondicionalment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3380800" descr=""/>
          <p:cNvPicPr/>
          <p:nvPr/>
        </p:nvPicPr>
        <p:blipFill>
          <a:blip r:embed="rId1"/>
          <a:stretch/>
        </p:blipFill>
        <p:spPr>
          <a:xfrm>
            <a:off x="-1405080" y="0"/>
            <a:ext cx="10549080" cy="6946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981000"/>
            <a:ext cx="6624360" cy="11912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lamentam-se com a perda de alguém, no entanto são fortes quando os outros pensam que já não têm for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7224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981000"/>
            <a:ext cx="633708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las, se necessário fôr andam descalças, para que seu filhos não magoem os p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0:02:52Z</dcterms:created>
  <dc:creator>Jota Santos</dc:creator>
  <dc:description/>
  <dc:language>en-US</dc:language>
  <cp:lastModifiedBy>Jota Santos</cp:lastModifiedBy>
  <dcterms:modified xsi:type="dcterms:W3CDTF">2008-01-07T00:03:11Z</dcterms:modified>
  <cp:revision>1</cp:revision>
  <dc:subject/>
  <dc:title>Diapositivo 1</dc:title>
</cp:coreProperties>
</file>