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Rio%20das%20Inquietas%20%C3%81guas-Robinson%20Monteiro(ANJO)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ED39-6823-4C4D-AAC4-E2012DF5A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6203-916A-455F-B3C3-8B76CAA2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BB05-C6AC-4E16-B1E6-F5E65E14C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9057-F1DB-4E70-B654-2DCF85072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D4DC-E023-4781-A166-DF186E18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0B13-55EA-48AD-8C12-34AE2537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BF2E-41DA-4D2D-BF7B-6CE3B75C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DC2A-98FB-4125-B0D1-534CD355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A6FB-0CA7-485C-BA9D-A43C39BF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236B-D882-48AE-847B-3C4B1D6A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C2BD-DC75-4E0F-B0AB-5676E637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940C-8F7C-4D67-906E-0E663622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EEDB-89EC-46B0-8C74-3550083CC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Rio%20das%20Inquietas%20&#193;guas-Robinson%20Monteiro(ANJO)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contact@leticiathompson.net" TargetMode="External"/><Relationship Id="rId2" Type="http://schemas.openxmlformats.org/officeDocument/2006/relationships/hyperlink" Target="http://www.leticiathompson.net/" TargetMode="External"/><Relationship Id="rId3" Type="http://schemas.openxmlformats.org/officeDocument/2006/relationships/hyperlink" Target="mailto:marlick@ig.com.br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lano%20Lua%20animad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33520" y="1981080"/>
            <a:ext cx="8153280" cy="17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travessando águas turbulentas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895480" y="3962520"/>
            <a:ext cx="34196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Letícia Thompson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781680" y="5791320"/>
            <a:ext cx="1038240" cy="4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SO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undo%20anoitece%20ma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74880" y="1295280"/>
            <a:ext cx="7289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Você  já teve a oportunidade de estar numa sa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cheia de espelh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Segundo a posição do espelho  e de acordo 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que dirigimos nosso olhar, temos uma nova vis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A mesma pessoa, ou mesmo objeto, pode ser vis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de várias formas dife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Coisa simples e que todos mundo sa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Mas o que nem todo mundo pensa, é que na v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é exatamente a mesma coi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Muda a nossa visão quando mudamos nosso olh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para outro la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2" name="Rio%20das%20Inquietas%20%C3%81guas-Robinson%20Monteiro(ANJO)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Fundo%20anoitece%20ma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965240" y="533520"/>
            <a:ext cx="5507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O erro está em sempre dirigir o olha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na mesma direção. É assim qua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atravessamos águas turbule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E é essa visão única na nossa fr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que nos abate, nos conduz a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desespero. O homem só se desespe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quando não consegue ver saí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Portanto, pegue o seu espelho e tente ver outros ângulos. Talvez do outro lado a coisa não seja assim tão difícil. Quem sabe essa não é aquela oportunidade que estava faltando te fazer dirigir o olhar para outra direçã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Fundo%20anoitece%20ma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60680" y="1676520"/>
            <a:ext cx="63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Somos pessoas acomodadas! Ah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terrivelmente acomodadas. Uma ve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instalados, por que mudar?  E qua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uma situação nos obriga a ficar de pé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aí sim é que fica difícil. O fato de estarm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sempre sentados no mesmo luga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pode nos deixar com as pernas preguiços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Não peça nenhum esforço de si mesmo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vai ver como pessoas também enferruj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Fundo%20anoitece%20ma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55760" y="1676520"/>
            <a:ext cx="6192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Eu me pergunto qual foi a reação do po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de Israel diante do mar vermel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Era o fim através da visão hum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É provável que alguns tenham morrid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ataque cardíaco diante do grande mar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com o exército atrá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Morrido por precipitação e falta de f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Mas o mar se abriu no momento preci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e as pessoas puderam atravess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Como gosto dessa história!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Fundo%20anoitece%20ma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69440" y="644400"/>
            <a:ext cx="6924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“ </a:t>
            </a: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Se diante de mim não se abrir o ma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 </a:t>
            </a: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Deus vai me fazer andar por sobre as águas”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Desconheço o autor dessa frase, que faz par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de um hino. Mas está aí um verdadeiro le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de vida. Durante muito tempo eu cantarole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essas palavras e hoje ainda procuro vivê-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E quando olho pra frente e que tudo pare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obscuro e indeciso, procuro os outros ângul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do meu espelho. E me apego à parte ma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positiva. Eu sei que de uma maneira ou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outra Deus me dará uma saída, uma port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uma janela aberta. E se na minha peque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visão eu não conseguir enxergar ( podem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ser muito pequenininhos de vez em quando) 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Deus vê por mim eu creio nisso e espe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Fundo%20anoitece%20ma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23880" y="1177920"/>
            <a:ext cx="6513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Eu sei que não sou pedra, n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sou dura e nem indestrutível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Eu também sofro e choro às vez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Mas o meu Deus é indestrutível e n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há nada em que Ele ponha a mão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não progresse. E Ele me deu es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espelho invisível, para que eu pos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sempre avaliar uma situ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olhando por todos os lados. E deu a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meu coração a certeza de que, se e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tiver que passar por águas turbulent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eu passo, mas elas jamais ir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Century"/>
              </a:rPr>
              <a:t>me afog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1219320"/>
            <a:ext cx="6105240" cy="57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"/>
              </a:rPr>
              <a:t>Crédi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"/>
              </a:rPr>
              <a:t>E-mail 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entury"/>
                <a:hlinkClick r:id="rId1"/>
              </a:rPr>
              <a:t>contact@leticiathompson.net</a:t>
            </a:r>
            <a:r>
              <a:rPr b="1" lang="en-US" sz="2400" spc="-1" strike="noStrike">
                <a:solidFill>
                  <a:srgbClr val="ff9900"/>
                </a:solidFill>
                <a:latin typeface="Centu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"/>
              </a:rPr>
              <a:t>Visite o s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entury"/>
                <a:hlinkClick r:id="rId2"/>
              </a:rPr>
              <a:t>www.leticiathompson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"/>
              </a:rPr>
              <a:t>Rio das Inquietas Águ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"/>
              </a:rPr>
              <a:t>Robinson Monteiro(Anj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"/>
              </a:rPr>
              <a:t>Imagens da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"/>
              </a:rPr>
              <a:t>Formatação:</a:t>
            </a:r>
            <a:r>
              <a:rPr b="1" i="1" lang="en-US" sz="4400" spc="-1" strike="noStrike">
                <a:solidFill>
                  <a:srgbClr val="ff9900"/>
                </a:solidFill>
                <a:latin typeface="Monotype Corsiva"/>
              </a:rPr>
              <a:t>Marl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"/>
              </a:rPr>
              <a:t>Não retirar créd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90120" y="5622840"/>
            <a:ext cx="33004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entury"/>
                <a:hlinkClick r:id="rId3"/>
              </a:rPr>
              <a:t>marlick@ig.com.b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00:16:13Z</dcterms:created>
  <dc:creator>Marli                  marlick@ig.com.br</dc:creator>
  <dc:description>Autora: Letícia Thompson
Não retirar e nem modificar créditos.</dc:description>
  <dc:language>en-US</dc:language>
  <cp:lastModifiedBy>One</cp:lastModifiedBy>
  <dcterms:modified xsi:type="dcterms:W3CDTF">2007-02-01T20:36:04Z</dcterms:modified>
  <cp:revision>2</cp:revision>
  <dc:subject/>
  <dc:title>Atravessando águas turbulentas.pps.marli</dc:title>
</cp:coreProperties>
</file>