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Rio%20das%20Inquietas%20%C3%81guas-Robinson%20Monteiro(ANJO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DDF-3402-4CB4-8376-4E28B0CD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F8C-9B8C-4379-AFC4-3D2C9F5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1F4-874E-4365-9257-E4FF8E9E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374-BAA3-4F86-862C-96AB57B6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547-B804-40EE-9D52-7BD0202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9A7-D96A-4EAD-95AE-C5DB62CE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B9B-1D7D-4175-930B-1034D9C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EB2-3D5F-43FB-A5A0-9BB902D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A64-3C4F-44D3-A8D1-1A1F9F7F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606-BDB9-430D-9BC9-902F481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445-9C57-47B4-8985-55BB4F6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258-CCCC-4119-89F2-B00E8AA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31B-9660-447E-84B0-9A1A2341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o%20das%20Inquietas%20&#193;guas-Robinson%20Monteiro(ANJO)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ontact@leticiathompson.net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marlick@ig.com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no%20Lua%20anim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981080"/>
            <a:ext cx="815328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travessando águas turbulenta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95480" y="3962520"/>
            <a:ext cx="3419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etícia Thomps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81680" y="5791320"/>
            <a:ext cx="1038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4880" y="1295280"/>
            <a:ext cx="728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ocê  já teve a oportunidade de estar numa sa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heia de espelh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gundo a posição do espelho  e de acordo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e dirigimos nosso olhar, temos uma nova v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 mesma pessoa, ou mesmo objeto, pode ser v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várias forma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isa simples e que todos mundo sa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que nem todo mundo pensa, é que n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é exatamente a mesma co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uda a nossa visão quando mudamos nosso olh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ara outro l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Rio%20das%20Inquietas%20%C3%81guas-Robinson%20Monteiro(ANJO)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65240" y="533520"/>
            <a:ext cx="55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 erro está em sempre dirigir o olh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a mesma direção. É assim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travessamos águas turbul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é essa visão única na nossa f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e nos abate, nos conduz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sespero. O homem só se desesp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ando não consegue ver saí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rtanto, pegue o seu espelho e tente ver outros ângulos. Talvez do outro lado a coisa não seja assim tão difícil. Quem sabe essa não é aquela oportunidade que estava faltando te fazer dirigir o olhar para outra direç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60680" y="1676520"/>
            <a:ext cx="63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omos pessoas acomodadas! Ah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terrivelmente acomodadas. Uma 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instalados, por que mudar?  E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uma situação nos obriga a ficar de pé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í sim é que fica difícil. O fato de estar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mpre sentados no mesmo lug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de nos deixar com as pernas preguiço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ão peça nenhum esforço de si mesm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ai ver como pessoas também enferruj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55760" y="167652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me pergunto qual foi a reação do p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Israel diante do mar verme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ra o fim através da visão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É provável que alguns tenham morri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taque cardíaco diante do grande ma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m o exército atr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orrido por precipitação e falta de f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mar se abriu no momento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as pessoas puderam atraves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mo gosto dessa história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69440" y="644400"/>
            <a:ext cx="692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“ </a:t>
            </a: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 diante de mim não se abrir o m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us vai me fazer andar por sobre as águas”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sconheço o autor dessa frase, que faz p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um hino. Mas está aí um verdadeiro l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vida. Durante muito tempo eu cantarol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ssas palavras e hoje ainda procuro vivê-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quando olho pra frente e que tudo pare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bscuro e indeciso, procuro os outros ângu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o meu espelho. E me apego à parte 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sitiva. Eu sei que de uma maneira ou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utra Deus me dará uma saída, uma por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uma janela aberta. E se na minha pequ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isão eu não conseguir enxergar (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r muito pequenininhos de vez em quando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us vê por mim eu creio nisso e esp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177920"/>
            <a:ext cx="6513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sei que não sou pedra,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ou dura e nem indestrutíve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também sofro e choro às vez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meu Deus é indestrutível e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há nada em que Ele ponha a mã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ão progresse. E Ele me deu 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spelho invisível, para que eu pos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mpre avaliar uma situ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lhando por todos os lados. E deu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eu coração a certeza de que, se 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tiver que passar por águas turbulent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passo, mas elas jamais ir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e afog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1219320"/>
            <a:ext cx="610524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E-mail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1"/>
              </a:rPr>
              <a:t>contact@leticiathompson.net</a:t>
            </a: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Visite 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2"/>
              </a:rPr>
              <a:t>www.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Rio das Inquietas Á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Robinson Monteiro(Anj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Imagens d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Formatação:</a:t>
            </a:r>
            <a:r>
              <a:rPr b="1" i="1" lang="en-US" sz="4400" spc="-1" strike="noStrike">
                <a:solidFill>
                  <a:srgbClr val="ff9900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Não retirar créd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90120" y="5622840"/>
            <a:ext cx="3300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3"/>
              </a:rPr>
              <a:t>marlick@ig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0:16:13Z</dcterms:created>
  <dc:creator>Marli                  marlick@ig.com.br</dc:creator>
  <dc:description>Autora: Letícia Thompson
Não retirar e nem modificar créditos.</dc:description>
  <dc:language>en-US</dc:language>
  <cp:lastModifiedBy>One</cp:lastModifiedBy>
  <dcterms:modified xsi:type="dcterms:W3CDTF">2007-02-01T20:36:04Z</dcterms:modified>
  <cp:revision>2</cp:revision>
  <dc:subject/>
  <dc:title>Atravessando águas turbulentas.pps.marli</dc:title>
</cp:coreProperties>
</file>