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srael%20Kamakawiwo'ole%20-%20In%20This%20Lif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522-73F9-40FD-A110-852364FE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D4B-9C1F-4ED1-8609-93FDB7BE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D2A-6CDB-450C-83D5-D2AB6E71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F55-FD51-413F-A694-13E40079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C9B-5C8E-49CC-A292-0961C963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914-AABC-4F5F-A270-2E8FC35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11D-2880-4F49-99D7-20A1260A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C4E-7E7B-4F96-8370-3D4377B1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19A-21B6-4DF5-86F1-3DB4A3A6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A05-CD79-4A7D-ACAC-1D951C8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E9D-C292-4068-97E8-C44C575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5B5-6CEA-43EB-AD20-8D3B0B1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7049-4343-4B14-A7F7-6518F3E9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srael%20Kamakawiwo&apos;ole%20-%20In%20This%20Lif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mailto:maricarusocunha@terra.com.br" TargetMode="External"/><Relationship Id="rId3" Type="http://schemas.openxmlformats.org/officeDocument/2006/relationships/hyperlink" Target="http://www.pranos.com.br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896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lgumas gotas de perf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© Letícia Thomp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s retornos da vida nem sempre são visíveis, nem sempre são caminhos previsíveis ou nem sempre estão ali na fr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 o fato de se ter que viver nessa incógnita do dia seguinte faz com que alguns fechem-se, como conchas que escondem em si pérolas de inestimável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zoom dir="out"/>
    <p:sndAc>
      <p:stSnd>
        <p:snd r:embed="rId2" name="Israel%20Kamakawiwo'ole%20-%20In%20This%20Lif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92280"/>
            <a:ext cx="7777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uitos hesitam em dar de si porque acham que oferecendo-se, perdem-s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nstroem muros em torno de 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lham-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4027320"/>
            <a:ext cx="741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ertas pessoas não se entregam a am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icam reticentes ante abraços e à ternura de abrir-se inteira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esfolhar o coração e desnudar a al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mo fazem as flores, sem querer saber o porquê e se haverá algum reto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4076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queles que se doam incessantemente, totalmente e integralmente desgastam-se sem olhar para trás e sem querer ver longe dem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rescem em estatura da al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esmo se em alguns momentos o cansaço e o desânimo atingem levemente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314172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as amar incondicionalmente é amar de olhos fech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é transformar através das nossas vivências a visão que outros têm da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é contribuir para a escalada na busca do e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lgumas gotas de perfume recaem sobre nós quando somos b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quando nosso prazer maior está em servir e nosso eu e nosso ego ficam de l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476280"/>
            <a:ext cx="38163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ão é possível dar de si sem que um pouco do gesto não recaia dentro do cora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m que Olhos atentos e agradecidos estejam pousem-se sobre nós, abençoando-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etícia Thomp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act@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5013360"/>
            <a:ext cx="2700360" cy="1311480"/>
          </a:xfrm>
          <a:prstGeom prst="rect">
            <a:avLst/>
          </a:prstGeom>
          <a:solidFill>
            <a:srgbClr val="ff9966">
              <a:alpha val="8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úsica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Israel Kamakawiwo'ole - In This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ontagem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icarusocunha@terra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anos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14:30:18Z</dcterms:created>
  <dc:creator>Mari Caruso Cunha</dc:creator>
  <dc:description>Imagens: GettyImages</dc:description>
  <dc:language>en-US</dc:language>
  <cp:lastModifiedBy>Mari Caruso Cunha</cp:lastModifiedBy>
  <dcterms:modified xsi:type="dcterms:W3CDTF">2008-07-10T15:47:15Z</dcterms:modified>
  <cp:revision>3</cp:revision>
  <dc:subject>Comportamento 2</dc:subject>
  <dc:title>Algumas Gotas De Perfume</dc:title>
</cp:coreProperties>
</file>