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srael%20Kamakawiwo'ole%20-%20In%20This%20Life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ECB2-FB3F-47D1-8E6B-789A71212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5A5A-9812-4CBD-9DF4-C3A88E96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C3AF-A793-421C-9E96-7E481B89B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F498-39C3-4342-850C-0711192DC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76B1-C865-4CC4-8649-3EFECD97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E149-9FE2-45D9-B3D8-E42E906F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78FF-D3DB-4E79-91CC-B1703773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2E7E-E6F5-4D27-BDA8-0F0E533C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D1AD-ACFE-408D-B394-2B217532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BCD4-7C4C-482D-9A54-F38CEB55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4B26-52C4-4265-A832-50B1209F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50C5-D057-478A-8B8F-AD0A2DB8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9998-FE14-45EB-9A3A-1E4DB41F5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Israel%20Kamakawiwo&apos;ole%20-%20In%20This%20Lif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mailto:maricarusocunha@terra.com.br" TargetMode="External"/><Relationship Id="rId3" Type="http://schemas.openxmlformats.org/officeDocument/2006/relationships/hyperlink" Target="http://www.pranos.com.br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489600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Algumas gotas de perfu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© Letícia Thomps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Os retornos da vida nem sempre são visíveis, nem sempre são caminhos previsíveis ou nem sempre estão ali na fr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E o fato de se ter que viver nessa incógnita do dia seguinte faz com que alguns fechem-se, como conchas que escondem em si pérolas de inestimável val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7000">
    <p:zoom dir="out"/>
    <p:sndAc>
      <p:stSnd>
        <p:snd r:embed="rId2" name="Israel%20Kamakawiwo'ole%20-%20In%20This%20Lif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11280" y="692280"/>
            <a:ext cx="7777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Muitos hesitam em dar de si porque acham que oferecendo-se, perdem-se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Constroem muros em torno de s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ilham-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26920" y="4027320"/>
            <a:ext cx="74170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Certas pessoas não se entregam a amor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ficam reticentes ante abraços e à ternura de abrir-se inteiramen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desfolhar o coração e desnudar a alm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como fazem as flores, sem querer saber o porquê e se haverá algum retor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zoom dir="ou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11280" y="407664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Aqueles que se doam incessantemente, totalmente e integralmente desgastam-se sem olhar para trás e sem querer ver longe demai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crescem em estatura da alm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mesmo se em alguns momentos o cansaço e o desânimo atingem levemente o cor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7000">
    <p:zoom dir="ou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11280" y="3141720"/>
            <a:ext cx="770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Mas amar incondicionalmente é amar de olhos fechad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é transformar através das nossas vivências a visão que outros têm da vid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é contribuir para a escalada na busca do eter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Algumas gotas de perfume recaem sobre nós quando somos bon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quando nosso prazer maior está em servir e nosso eu e nosso ego ficam de l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2000">
    <p:zoom dir="ou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95280" y="476280"/>
            <a:ext cx="3816360" cy="51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Não é possível dar de si sem que um pouco do gesto não recaia dentro do coraçã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sem que Olhos atentos e agradecidos estejam pousem-se sobre nós, abençoando-n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Letícia Thomps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contact@leticiathompso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12000" y="5013360"/>
            <a:ext cx="2700360" cy="1311480"/>
          </a:xfrm>
          <a:prstGeom prst="rect">
            <a:avLst/>
          </a:prstGeom>
          <a:solidFill>
            <a:srgbClr val="ff9966">
              <a:alpha val="8000"/>
            </a:srgbClr>
          </a:solidFill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99"/>
                </a:solidFill>
                <a:latin typeface="Arial"/>
              </a:rPr>
              <a:t>Música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Israel Kamakawiwo'ole - In This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99"/>
                </a:solidFill>
                <a:latin typeface="Arial"/>
              </a:rPr>
              <a:t>Montagem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ricarusocunha@terra.com.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pranos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10000">
    <p:zoom dir="ou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0T14:30:18Z</dcterms:created>
  <dc:creator>Mari Caruso Cunha</dc:creator>
  <dc:description>Imagens: GettyImages</dc:description>
  <dc:language>en-US</dc:language>
  <cp:lastModifiedBy>Mari Caruso Cunha</cp:lastModifiedBy>
  <dcterms:modified xsi:type="dcterms:W3CDTF">2008-07-10T15:47:15Z</dcterms:modified>
  <cp:revision>3</cp:revision>
  <dc:subject>Comportamento 2</dc:subject>
  <dc:title>Algumas Gotas De Perfume</dc:title>
</cp:coreProperties>
</file>