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lex%20C%20Feat-Yasmin%20K%20-%20Amigos%20Forever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CA94-E7A4-4648-8558-6108C0CB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F8F-0732-4B8E-8392-640990D5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0D6C-912F-438B-8CA2-02A5BE66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238E-0251-4A7A-BF1A-544EBB21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168D-824B-48C3-949E-94D9E6F2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7394-7407-46A9-9904-8DC2D6D3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E99C-7CED-4C4B-8FAA-23B96A15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9AFD-59B0-4354-83DE-7F3BEDCF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9FFC-6C1B-487A-B306-E5B53A0E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CFB-9DB6-4651-A5D5-984D7C92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389D-A760-4331-9213-7D08B431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69E1-A6DD-4FD0-957F-97AB3C90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1C7F-5135-45A3-8B68-944E17FE9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lex%20C%20Feat-Yasmin%20K%20-%20Amigos%20Forev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de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14600" y="4572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Abraço am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1600200"/>
            <a:ext cx="73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Hoje senti uma saudade de você,</a:t>
            </a:r>
            <a:br>
              <a:rPr sz="2800"/>
            </a:b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Que passei o dia pensando em como te dizer isso,</a:t>
            </a:r>
            <a:br>
              <a:rPr sz="2800"/>
            </a:b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Aí resolvi mandar este abraço.</a:t>
            </a:r>
            <a:br>
              <a:rPr sz="2800"/>
            </a:b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Mas cuidado, não é um abraço comum,</a:t>
            </a:r>
            <a:br>
              <a:rPr sz="2800"/>
            </a:b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Ele é muito apert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vert"/>
    <p:sndAc>
      <p:stSnd>
        <p:snd r:embed="rId2" name="Alex%20C%20Feat-Yasmin%20K%20-%20Amigos%20Forev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lide2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47920" y="1371600"/>
            <a:ext cx="6476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Com ele, quero demonstrar o carinho que sinto por você,</a:t>
            </a:r>
            <a:br>
              <a:rPr sz="2800"/>
            </a:b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O desejo que tenho de te ver sempre feliz, sorrindo,</a:t>
            </a:r>
            <a:br>
              <a:rPr sz="2800"/>
            </a:b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Superando todo e qualquer problema, que por ventura possa aparec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lide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38080" y="609480"/>
            <a:ext cx="7772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Desejo que sua vida seja repleta de paz e harmonia !</a:t>
            </a:r>
            <a:br>
              <a:rPr sz="2800"/>
            </a:b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Que o teu amanhecer seja sempre brindado com a energia da Luz do Sol !</a:t>
            </a:r>
            <a:br>
              <a:rPr sz="2800"/>
            </a:b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Que o teu adormecer esteja protegido pela Luz Divina !</a:t>
            </a:r>
            <a:br>
              <a:rPr sz="2800"/>
            </a:b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Esse abraço é também, para te dizer :</a:t>
            </a:r>
            <a:br>
              <a:rPr sz="2800"/>
            </a:b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"OBRIGADA" ...</a:t>
            </a:r>
            <a:br>
              <a:rPr sz="2800"/>
            </a:b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Obrigada por ter me dado a oportunidade de te conhecer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1800" y="54100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Times New Roman"/>
                <a:ea typeface="Arial"/>
              </a:rPr>
              <a:t>Beijos, Li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7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ead8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5120" y="0"/>
            <a:ext cx="6019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ead83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ead83"/>
                </a:solidFill>
                <a:latin typeface="Times New Roman"/>
              </a:rPr>
              <a:t>Alex C. Feat – Yasmin K – Amigos For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129528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ad83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ad83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2819520"/>
            <a:ext cx="70102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9ead83"/>
                </a:solidFill>
                <a:latin typeface="Times New Roman"/>
              </a:rPr>
              <a:t>ssoliver@terra.com.br</a:t>
            </a:r>
            <a:r>
              <a:rPr b="0" lang="pt-BR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4724280"/>
            <a:ext cx="70102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ead83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leticiathompson.net</a:t>
            </a:r>
            <a:r>
              <a:rPr b="0" lang="pt-BR" sz="3600" spc="-1" strike="noStrike">
                <a:solidFill>
                  <a:srgbClr val="9ead83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20589000">
            <a:off x="228960" y="15235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ead83"/>
                </a:solidFill>
                <a:latin typeface="Times New Roman"/>
              </a:rPr>
              <a:t>Agradecimentos especiais a minha Amiga Li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7:01:17Z</dcterms:created>
  <dc:creator>ssoliver@terra.com.br </dc:creator>
  <dc:description/>
  <dc:language>en-US</dc:language>
  <cp:lastModifiedBy>Sérgio S. Oliver</cp:lastModifiedBy>
  <dcterms:modified xsi:type="dcterms:W3CDTF">2004-11-17T01:09:35Z</dcterms:modified>
  <cp:revision>5</cp:revision>
  <dc:subject>PPS</dc:subject>
  <dc:title>Abraço Amigo</dc:title>
</cp:coreProperties>
</file>