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lex%20C%20Feat-Yasmin%20K%20-%20Amigos%20Forever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BE0-4847-406B-A943-4A6EACF8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C7D1-D97B-489E-94E3-5023A32C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A36F-A8F1-401C-A644-86BD4E47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AADD-0AE3-43ED-9A1F-F2BB7224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E60C-7386-42E2-8BD9-4922E08C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A6B9-89AA-4CFB-9CA8-8F08EF81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CE3F-A36C-4450-9BD4-75DA5CE1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544E-E3C9-4A7D-978B-03DC9671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F839-5B53-4F10-B626-AB09800C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B0BF-7A4A-4A3F-83DD-0391183A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20DC-CB25-407C-BE8F-3484FC89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B797-453E-4162-A9A2-20399832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1116-F7D4-4C7B-B182-20F043B8A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lex%20C%20Feat-Yasmin%20K%20-%20Amigos%20Forev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de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14600" y="4572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Abraço am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1600200"/>
            <a:ext cx="73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Hoje senti uma saudade de você,</a:t>
            </a:r>
            <a:br>
              <a:rPr sz="2800"/>
            </a:b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Que passei o dia pensando em como te dizer isso,</a:t>
            </a:r>
            <a:br>
              <a:rPr sz="2800"/>
            </a:b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Aí resolvi mandar este abraço.</a:t>
            </a:r>
            <a:br>
              <a:rPr sz="2800"/>
            </a:b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Mas cuidado, não é um abraço comum,</a:t>
            </a:r>
            <a:br>
              <a:rPr sz="2800"/>
            </a:b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Ele é muito apert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vert"/>
    <p:sndAc>
      <p:stSnd>
        <p:snd r:embed="rId2" name="Alex%20C%20Feat-Yasmin%20K%20-%20Amigos%20Forev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lide2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47920" y="1371600"/>
            <a:ext cx="6476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Com ele, quero demonstrar o carinho que sinto por você,</a:t>
            </a:r>
            <a:br>
              <a:rPr sz="2800"/>
            </a:b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O desejo que tenho de te ver sempre feliz, sorrindo,</a:t>
            </a:r>
            <a:br>
              <a:rPr sz="2800"/>
            </a:b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Superando todo e qualquer problema, que por ventura possa aparec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lide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38080" y="609480"/>
            <a:ext cx="7772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Desejo que sua vida seja repleta de paz e harmonia !</a:t>
            </a:r>
            <a:br>
              <a:rPr sz="2800"/>
            </a:b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Que o teu amanhecer seja sempre brindado com a energia da Luz do Sol !</a:t>
            </a:r>
            <a:br>
              <a:rPr sz="2800"/>
            </a:b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Que o teu adormecer esteja protegido pela Luz Divina !</a:t>
            </a:r>
            <a:br>
              <a:rPr sz="2800"/>
            </a:b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Esse abraço é também, para te dizer :</a:t>
            </a:r>
            <a:br>
              <a:rPr sz="2800"/>
            </a:b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"OBRIGADA" ...</a:t>
            </a:r>
            <a:br>
              <a:rPr sz="2800"/>
            </a:b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Obrigada por ter me dado a oportunidade de te conhecer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1800" y="54100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Times New Roman"/>
                <a:ea typeface="Arial"/>
              </a:rPr>
              <a:t>Beijos, Li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7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ead8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5120" y="0"/>
            <a:ext cx="6019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ead83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ead83"/>
                </a:solidFill>
                <a:latin typeface="Times New Roman"/>
              </a:rPr>
              <a:t>Alex C. Feat – Yasmin K – Amigos For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129528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ad83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ad83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2819520"/>
            <a:ext cx="70102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9ead83"/>
                </a:solidFill>
                <a:latin typeface="Times New Roman"/>
              </a:rPr>
              <a:t>ssoliver@terra.com.br</a:t>
            </a:r>
            <a:r>
              <a:rPr b="0" lang="pt-BR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4724280"/>
            <a:ext cx="70102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ead83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leticiathompson.net</a:t>
            </a:r>
            <a:r>
              <a:rPr b="0" lang="pt-BR" sz="3600" spc="-1" strike="noStrike">
                <a:solidFill>
                  <a:srgbClr val="9ead83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20589000">
            <a:off x="228960" y="15235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ead83"/>
                </a:solidFill>
                <a:latin typeface="Times New Roman"/>
              </a:rPr>
              <a:t>Agradecimentos especiais a minha Amiga Li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7:01:17Z</dcterms:created>
  <dc:creator>ssoliver@terra.com.br </dc:creator>
  <dc:description/>
  <dc:language>en-US</dc:language>
  <cp:lastModifiedBy>Sérgio S. Oliver</cp:lastModifiedBy>
  <dcterms:modified xsi:type="dcterms:W3CDTF">2004-11-17T01:09:35Z</dcterms:modified>
  <cp:revision>5</cp:revision>
  <dc:subject>PPS</dc:subject>
  <dc:title>Abraço Amigo</dc:title>
</cp:coreProperties>
</file>