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Mauricio%20Manieri%20-%20Primavera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408-A971-4A37-AB9B-5B8DE2CB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EA0-B9C2-4FB2-8F85-5B0AD1C6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EBF-FE7C-4EBA-9258-9CF3F278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7F3-DFE9-4ED6-BC3E-3631249E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ACA-C8C5-4D79-8B9F-05775402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259-9F53-4A6F-9F94-F2D33D5B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FBA-5913-4304-852D-97B83BED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C9F-8683-45A5-859E-7C1254AC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708-F9D5-4649-8E80-910C82BD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63F-4F69-4043-B65D-A16AC288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030-E8D6-4C71-9E18-F81D5F36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473-967D-4DD2-94A0-F80F7369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EBFA-3AE8-4349-A246-E654E5B801F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Mauricio%20Manieri%20-%20Primav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6880" y="2286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É primaver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219320"/>
            <a:ext cx="73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Chegou trazendo o colorido das flores, um céu azul, um ar gostoso. Chegou assim, devagarinho... devagarinho... Quase que preguiçosa, me acordando do inverno onde fiquei hibernando, dos dias estressantes e agitados que pareciam não ter mais fim.                                                       Trouxe dias novos, aromas suaves e o colorido das fl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  <p:sndAc>
      <p:stSnd>
        <p:snd r:embed="rId2" name="Mauricio%20Manieri%20-%20Primav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914400"/>
            <a:ext cx="73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Meus olhos ficaram mais claros , sonhadores e o que o outono e inverno me levou ou destruiu, ela trouxe de volta a esperança, alegria e a energia do sol. A vegetação voltou a florir com um colorido todo mágico. Pássaros, flores, borboletas, aves , plantas receberam  a energia do colorido                         e do renasc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762120"/>
            <a:ext cx="74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Faça como a natureza, que sempre se renova com a chegada da Primavera, aproveite e  absorva as coisas de maneira simples, aprenda mais. Abra a janela do seu coração, deixe essa   energia entrar... Hei!!! Sorria é realmente a Primaver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486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(Desconheço a auto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41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5b187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57400" y="3049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5b187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5b187"/>
                </a:solidFill>
                <a:latin typeface="Times New Roman"/>
              </a:rPr>
              <a:t>Mauricio Manieri - Primav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52388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87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87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74320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b5b187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4191120"/>
            <a:ext cx="69343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5b187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8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825"/>
                            </p:stCondLst>
                            <p:childTnLst>
                              <p:par>
                                <p:cTn id="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125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04:01:14Z</dcterms:created>
  <dc:creator>ssoliver@terra.com.br </dc:creator>
  <dc:description/>
  <dc:language>en-US</dc:language>
  <cp:lastModifiedBy>Leticia Thompson</cp:lastModifiedBy>
  <dcterms:modified xsi:type="dcterms:W3CDTF">2004-11-02T20:00:58Z</dcterms:modified>
  <cp:revision>4</cp:revision>
  <dc:subject/>
  <dc:title>Primavera</dc:title>
</cp:coreProperties>
</file>