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Mauricio%20Manieri%20-%20Primavera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D14-00B5-4971-BAD3-A660FF35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8DE-72CF-42C9-ADE3-1D7A926A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644-76ED-4154-8861-2E64DBD2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D7A-D615-4009-9D6B-6F997427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3E0-D133-46E9-93F8-D2F5C267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920-93CA-4CDD-B4CC-55D7715E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868-2801-40C4-9D00-B6678C7F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27A-E13F-4F24-81FB-AC1C9748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3A1-CC23-4EEB-97F6-ADD9D0A9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8EB-7DF1-41AE-8718-2A7B44CE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328-7E5C-4AE7-B9CF-4203A4BB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8A2-D5E5-4C5D-8A83-8C73828D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7532-965E-47AA-B240-83BE142D49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Mauricio%20Manieri%20-%20Primav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6880" y="2286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É primaver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219320"/>
            <a:ext cx="73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Chegou trazendo o colorido das flores, um céu azul, um ar gostoso. Chegou assim, devagarinho... devagarinho... Quase que preguiçosa, me acordando do inverno onde fiquei hibernando, dos dias estressantes e agitados que pareciam não ter mais fim.                                                       Trouxe dias novos, aromas suaves e o colorido das fl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  <p:sndAc>
      <p:stSnd>
        <p:snd r:embed="rId2" name="Mauricio%20Manieri%20-%20Primav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914400"/>
            <a:ext cx="73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Meus olhos ficaram mais claros , sonhadores e o que o outono e inverno me levou ou destruiu, ela trouxe de volta a esperança, alegria e a energia do sol. A vegetação voltou a florir com um colorido todo mágico. Pássaros, flores, borboletas, aves , plantas receberam  a energia do colorido                         e do renasc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762120"/>
            <a:ext cx="74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Faça como a natureza, que sempre se renova com a chegada da Primavera, aproveite e  absorva as coisas de maneira simples, aprenda mais. Abra a janela do seu coração, deixe essa   energia entrar... Hei!!! Sorria é realmente a Primaver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486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(Desconheço a auto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41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5b187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57400" y="3049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5b187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5b187"/>
                </a:solidFill>
                <a:latin typeface="Times New Roman"/>
              </a:rPr>
              <a:t>Mauricio Manieri - Primav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52388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87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87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74320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b5b187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4191120"/>
            <a:ext cx="69343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5b187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8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825"/>
                            </p:stCondLst>
                            <p:childTnLst>
                              <p:par>
                                <p:cTn id="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125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04:01:14Z</dcterms:created>
  <dc:creator>ssoliver@terra.com.br </dc:creator>
  <dc:description/>
  <dc:language>en-US</dc:language>
  <cp:lastModifiedBy>Leticia Thompson</cp:lastModifiedBy>
  <dcterms:modified xsi:type="dcterms:W3CDTF">2004-11-02T20:00:58Z</dcterms:modified>
  <cp:revision>4</cp:revision>
  <dc:subject/>
  <dc:title>Primavera</dc:title>
</cp:coreProperties>
</file>