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Winter%20-%201,44.wav" ContentType="audio/x-wav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094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E1C2-E5BC-4F41-94AB-864C4088F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4144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60400"/>
            <a:ext cx="7772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670920"/>
            <a:ext cx="7772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0ED0-B491-47BC-8618-23DA606F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4144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604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604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67092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67092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C91F-75E3-4EAC-B72E-F453370B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4144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6040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6040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6040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67092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67092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67092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F726-42A0-4EE3-9E91-A8459D783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4144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604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FB24-9D39-425A-91D3-F33E161D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4144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604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B194-D035-40C0-868D-0B745C03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4144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6040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6040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217C-8C17-4006-8D6B-9945CB1D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4144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D3B1-A0D2-4012-8A3F-06D45A7A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41440"/>
            <a:ext cx="777240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8FCA-DCF6-4802-B3D6-38B95D05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4144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604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6040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67092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AEA0-0C70-45D6-BA27-CC0AF7D7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4144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6040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604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67092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C50D-4A09-492D-8241-C69927F5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4144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604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604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670920"/>
            <a:ext cx="7772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37B6-1340-4A73-AABF-C62DEBEB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4144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604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5554440"/>
            <a:ext cx="19051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554440"/>
            <a:ext cx="289584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5554440"/>
            <a:ext cx="19051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35A7-2F8D-4DDE-B251-2DD261CB3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inter%20-%201,44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16%20-%20por%20do%20so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43000" y="1490760"/>
            <a:ext cx="70102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Um dia me perguntaram se eu acreditava em Deu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62720" y="3809880"/>
            <a:ext cx="3352680" cy="2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... eu então</a:t>
            </a:r>
            <a:br>
              <a:rPr sz="3200"/>
            </a:b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lhes respondi</a:t>
            </a:r>
            <a:br>
              <a:rPr sz="3200"/>
            </a:b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da maneira</a:t>
            </a:r>
            <a:br>
              <a:rPr sz="3200"/>
            </a:b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como eu pensa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017%20-%20crianças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228600" y="44193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rá que você ainda não viu o rosto de 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colorido mais b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s olhos dos filhos seu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011%20-%20ponte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285640" y="152280"/>
            <a:ext cx="67057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eus é constante e perene. É divin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e tal sorte que sendo essência da 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é o descanso na mort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4876920"/>
            <a:ext cx="8534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ão há vida sem volta e não há volta sem vida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orte não é morte, é só a porta da v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012%20-%20sol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-360" y="3955680"/>
            <a:ext cx="92962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No ciclo da natureza, neste ir e vir constan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no broto que se renova, na vida que segue adian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em quem semeia bondade e em quem ajuda o irmã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colhendo felicidade, cumprindo a sua missã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2660760"/>
            <a:ext cx="4724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Todo dia existe Deu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020%20-%20casa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505320" y="3962160"/>
            <a:ext cx="54100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 no suor de quem trabalh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calo duro das mão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homem que planta trig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trigo que faz o p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04920"/>
            <a:ext cx="4724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do dia existe Deu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024%20-%20praia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066680" y="1447920"/>
            <a:ext cx="7467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Você pode sentir Deus pulsar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2362320"/>
            <a:ext cx="7467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... dentro do seu coração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29000" y="36576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QUE COM DEUS ! ! 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002%20-%20criança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380880"/>
            <a:ext cx="4724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odo dia existe Deu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14800" y="4489560"/>
            <a:ext cx="5029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.. num sorriso de crianç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 canto dos passarinho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um olhar, numa esperanç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015%20-%20flores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448920" cy="6400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133720" y="4038480"/>
            <a:ext cx="68580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 na harmonia das core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 natureza esquecid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 fresca aragem da bris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 própria essência da v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5228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do dia existe Deu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004%20-%20golfinho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62520" y="22860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do dia existe Deu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962520"/>
            <a:ext cx="48006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 no regato cristalin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pequeno servo do ma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s ondas lavando as praia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 clara luz do lu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10%20-%20céu%20estrelad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038480"/>
            <a:ext cx="49528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ccff"/>
                </a:solidFill>
                <a:latin typeface="Times New Roman"/>
              </a:rPr>
              <a:t>... na escuridão do infin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ccff"/>
                </a:solidFill>
                <a:latin typeface="Times New Roman"/>
              </a:rPr>
              <a:t>todo ponteado de estrela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ccff"/>
                </a:solidFill>
                <a:latin typeface="Times New Roman"/>
              </a:rPr>
              <a:t>na amplidão do univers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ccff"/>
                </a:solidFill>
                <a:latin typeface="Times New Roman"/>
              </a:rPr>
              <a:t>no simples prazer de vê-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30492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Todo dia existe Deu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008%20-%20germinand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62520" y="22860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99"/>
                </a:solidFill>
                <a:latin typeface="Times New Roman"/>
              </a:rPr>
              <a:t>Todo dia existe Deu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4920" y="1828440"/>
            <a:ext cx="4952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imes New Roman"/>
              </a:rPr>
              <a:t>... nos segredos desta vid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imes New Roman"/>
              </a:rPr>
              <a:t>no germinar da sement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imes New Roman"/>
              </a:rPr>
              <a:t>nos movimentos da T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imes New Roman"/>
              </a:rPr>
              <a:t>que gira incessante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018%20-%20árvores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0595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419360" y="228600"/>
            <a:ext cx="47242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 no orvalho sobre a relv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 natureza que encant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cheiro que vem da t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 no sol que se leva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25780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do dia existe Deu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006%20-%20flo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962520" y="4038480"/>
            <a:ext cx="50292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nas flores que desabroch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umando a atmosfer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s folhas novas que brot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unciando a primave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304920"/>
            <a:ext cx="4724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do dia existe Deu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003%20-%20luz%20de%20Deu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495320" y="228600"/>
            <a:ext cx="44960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us é capaz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us é paz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us é esperanç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É o alento do aflit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 Criador do Univers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 luz, do ar, da alianç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3809880"/>
            <a:ext cx="4343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us é a justiça perfe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que emana do cora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o perdoar quem ofe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e é o próprio perd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8:13:46Z</dcterms:created>
  <dc:creator>Adriana Kimura</dc:creator>
  <dc:description/>
  <dc:language>en-US</dc:language>
  <cp:lastModifiedBy>Nelson Salvador Frignani</cp:lastModifiedBy>
  <dcterms:modified xsi:type="dcterms:W3CDTF">2005-09-11T20:45:46Z</dcterms:modified>
  <cp:revision>34</cp:revision>
  <dc:subject/>
  <dc:title>Um dia me perguntaram se eu acreditava em Deus...</dc:title>
</cp:coreProperties>
</file>