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Holding%20your%20Ha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AD2-9B68-474F-BEBF-C304EE65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B369-5A56-46DB-A600-B2FB9E4C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494-CD31-4E19-B61D-D3ADEB4E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1B3-F80B-43B3-BB28-FB3C3B03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C07-0E73-4A77-A09D-C3E67F26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25E-7B1F-464F-B0E5-1533AFA1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CCF-55CE-4E9F-9165-E30E1DD3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9D0-73E5-4E40-809B-7FDD4873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2D8-B47C-4C88-AACF-DD4096D0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EFE-AC18-4346-AC2F-FC229E52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708-FED0-4137-A8ED-E6BD3A3E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C80-4471-4684-960E-A22E983C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7A0B-75EC-41F1-99F9-2A91A3E81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olding%20your%20Hand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620280"/>
            <a:ext cx="80773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   FILH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5157720"/>
            <a:ext cx="46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808080"/>
                </a:solidFill>
                <a:latin typeface="Arial"/>
              </a:rPr>
              <a:t>Música :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Holding Your H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541440" y="1989000"/>
            <a:ext cx="727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Compartilhe essa  mensagem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com um amigo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alguém que goste muit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56360" y="1628640"/>
            <a:ext cx="2381040" cy="2962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284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Sua vida não é uma coincidência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é o reflexo do amor de Deus por ti , </a:t>
            </a:r>
            <a:r>
              <a:rPr b="1" lang="en-US" sz="3000" spc="-1" strike="noStrike">
                <a:solidFill>
                  <a:srgbClr val="3366ff"/>
                </a:solidFill>
                <a:latin typeface="Arial"/>
              </a:rPr>
              <a:t>Filh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984240"/>
            <a:ext cx="91440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homem muito rico e seu  filho  tinham grande paixão pelas ar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nham de tudo em sua  coleção, desde Picasso até Rafael. Muito unid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sentavam juntos para admirar as grandes obras de a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uma desgraça do destino, seu filho foi para guer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i muito valente mas morreu na batalha, quando resgatava outro sold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ai recebeu a notícia e sofreu profun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rte de seu único fil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685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1280" y="476280"/>
            <a:ext cx="8839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mês mais tarde,  alguém bateu à sua  por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 um jovem com uma grande  tela em suas mãos e foi logo dizendo ao  pai: "O senhor não me conhece,  mas eu sou o soldado por quem seu filho deu a vida; ele salvou muitas  vidas nesse dia e estava me levando a 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gar seguro quando uma bala lhe atravessou o  peito, morren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ane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 falava muito  do  senhor e de seu amor pelas artes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rapaz  estendeu os braços para entregar a tel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Eu  sei que não é  muito, e eu também não  sou um grande artis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 sei também que  seu  filho gostaria que o senh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besse isto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ai abriu a tela. Era  um retrato de seu filh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tado pelo jovem  sold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620640"/>
            <a:ext cx="82803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 olhou com profunda admiração a maneira com que o soldado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via capturado a personalidade de seu  filho na pintura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 pai estava tão atraído pela expressão dos olhos de seu  filho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e seus próprios olhos encheram-se de lágrimas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 agradeceu ao  jovem soldado, e ofereceu- se para pagar-lhe pela pintura. "Não, senhor, eu nunca  poderei pagar o que seu filho fez por mim! Essa  pintura é um presente.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 pai colocou a tela à  frente de suas grand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ras de arte, e a cada vez que alguém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sitava sua casa, ele mostrava o retrato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 filho, antes de Mostrar sua famosa galeria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6280" y="141120"/>
            <a:ext cx="86868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homem morreu alguns meses mais tarde e se anuncio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 leilão de todas  as suas obras de art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uita gente  importante e influente chegou ao local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dia e horário  marcados, com grandes expectativ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 comprar verdadeiras obras de art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exposição estava o  retrato do  filh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leiloeiro bateu seu  martelo para dar  início ao leilã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"Começaremos o leilão  com o  retrato "O FILHO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em oferece o primeiro  lance? Quanto oferece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r este  quadro?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 grande silêncio..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tão um grito  do fundo da sal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"Queremos ver as  pinturas famosas!!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queça-se desta  !!! 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6280" y="522360"/>
            <a:ext cx="8686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leiloeiro   insistiu: "Alguém oferece algo por essa pintura?? R$100?  R$200?...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is uma vez outra voz: "Não viemos  por esta pintura, viem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r Van  Gogh, Picasso... Vamos às ofertas de verdade."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esmo assim o leiloeiro  continuou..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"Quem leva O FILHO?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inalmente, uma voz: "Eu  dou R$10 pela pintura.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ra o velho jardineiro  da cas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ndo um homem muito pobre, esse e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único dinheiro que podia oferec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"Temos R$10! Quem dá  R$20?"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ritou o leiloei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476280"/>
            <a:ext cx="8686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pessoas já estavam  irritadas, não queriam a pintura do filho, queriam as que realmente eram  valiosas para  sua coleçã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ão o  leiloeiro  bateu o martelo: "Dou-lhe uma, dou-lhe duas, vendido por  R$10!!!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Agora, vamos começar  com a coleção!" gritou u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leiloeiro soltou seu  martelo e diss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Sinto muito damas e cavalheiros, mas o leilã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gou ao   eu  final".  "Mas, e as pinturas?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guntaram os interess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Eu sinto muito", disse  o  leiloeiro, "quand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 chamaram para fazer o leilão, havia 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gredo estipulado  no testamen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antigo dono.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9200" y="77148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"Não seria permitido revelar esse seg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é esse exato mom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ente a pintura O FILHO  seria leiloada; aquele que a comprasse, herdaria absolutamente todas as  suas posses,inclusive as famosas pinturas.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homem que comprou  “ O  FILHO 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ca com tudo !!! 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76360" y="1484280"/>
            <a:ext cx="8161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x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us entregou seu único  e amado filh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morrer por nós  numa cruz  há 2000 anos atrá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m, como o leiloeiro, a mensagem hoje é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Quem ama o Filho tem tudo com o Pa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herdará suas riquezas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us não mente. Ele é perfeito. Sua palavra n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ixa os Ensinamentos  e  as  promessas  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m o 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16:06:20Z</dcterms:created>
  <dc:creator>Edgar Rocha Mendonça</dc:creator>
  <dc:description/>
  <dc:language>en-US</dc:language>
  <cp:lastModifiedBy>TD</cp:lastModifiedBy>
  <dcterms:modified xsi:type="dcterms:W3CDTF">2005-01-21T02:48:07Z</dcterms:modified>
  <cp:revision>18</cp:revision>
  <dc:subject/>
  <dc:title>O   FILHO</dc:title>
</cp:coreProperties>
</file>