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Holding%20your%20Ha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BFB-668C-4606-A3A6-6FA04D6B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6E2-AEE7-43DA-96A3-C949413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13D-257E-4953-84C6-95CE183C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15C-2BAF-4664-A84F-55B561DF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F0F-D1F1-463A-922D-8C7142C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FB0-E340-4D5D-B4CA-2708C2B2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320-8A4F-4D04-A963-478C575C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C13-EA7F-44CE-8D29-92FFF5B4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F38-6567-4BFE-B7F1-D9C08DC5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C48-4855-4CC7-AEDD-4CCA664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3F1-9E7B-47DD-91BA-205CF50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FF3-65F8-48FE-A53A-564F17D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F62-F5A0-413B-8A0F-5C1942DF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lding%20your%20Han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2028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   FIL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157720"/>
            <a:ext cx="46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8080"/>
                </a:solidFill>
                <a:latin typeface="Arial"/>
              </a:rPr>
              <a:t>Música :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Holding Your H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541440" y="1989000"/>
            <a:ext cx="727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Compartilhe essa  mensagem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com um amigo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alguém que goste mui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81040" cy="29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84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Sua vida não é uma coincidência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é o reflexo do amor de Deus por ti , </a:t>
            </a:r>
            <a:r>
              <a:rPr b="1" lang="en-US" sz="3000" spc="-1" strike="noStrike">
                <a:solidFill>
                  <a:srgbClr val="3366ff"/>
                </a:solidFill>
                <a:latin typeface="Arial"/>
              </a:rPr>
              <a:t>Filh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984240"/>
            <a:ext cx="9144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homem muito rico e seu  filho  tinham grande paixão pelas 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ham de tudo em sua  coleção, desde Picasso até Rafael. Muito uni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entavam juntos para admirar as grandes obras de a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uma desgraça do destino, seu filho foi para gu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muito valente mas morreu na batalha, quando resgatava outro sol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i recebeu a notícia e sofreu profun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rte de seu único fi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85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280" y="476280"/>
            <a:ext cx="883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mês mais tarde,  alguém bateu à sua  por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um jovem com uma grande  tela em suas mãos e foi logo dizendo ao  pai: "O senhor não me conhece,  mas eu sou o soldado por quem seu filho deu a vida; ele salvou muitas  vidas nesse dia e estava me levando a 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gar seguro quando uma bala lhe atravessou o  peito, morre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 falava muito  do  senhor e de seu amor pelas artes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rapaz  estendeu os braços para entregar a te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Eu  sei que não é  muito, e eu também não  sou um grande artis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 sei também que  seu  filho gostaria que o senh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besse isto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i abriu a tela. Era  um retrato de seu fil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tado pelo jovem  sol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280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 olhou com profunda admiração a maneira com que o soldad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via capturado a personalidade de seu  filho na pintura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pai estava tão atraído pela expressão dos olhos de seu  filh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 seus próprios olhos encheram-se de lágrima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 agradeceu ao  jovem soldado, e ofereceu- se para pagar-lhe pela pintura. "Não, senhor, eu nunca  poderei pagar o que seu filho fez por mim! Essa  pintura é um presente.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pai colocou a tela à  frente de suas gran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ras de arte, e a cada vez que algué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sitava sua casa, ele mostrava o retrat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filho, antes de Mostrar sua famosa galeri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6280" y="141120"/>
            <a:ext cx="8686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homem morreu alguns meses mais tarde e se anunci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leilão de todas  as suas obras de ar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ita gente  importante e influente chegou ao loca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dia e horário  marcados, com grandes expectativ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comprar verdadeiras obras de ar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exposição estava o  retrato do  filh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eiloeiro bateu seu  martelo para dar  início ao leilã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Começaremos o leilão  com o  retrato "O FILHO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m oferece o primeiro  lance? Quanto oferec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este  quadro?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grande silêncio..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um grito  do fundo da sa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Queremos ver as  pinturas famosas!!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ça-se desta  !!! 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6280" y="52236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eiloeiro   insistiu: "Alguém oferece algo por essa pintura?? R$100?  R$200?..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uma vez outra voz: "Não viemos  por esta pintura, viem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Van  Gogh, Picasso... Vamos às ofertas de verdade.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smo assim o leiloeiro  continuou..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Quem leva O FILHO?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nalmente, uma voz: "Eu  dou R$10 pela pintura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ra o velho jardineiro  da cas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do um homem muito pobre, esse 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único dinheiro que podia oferec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Temos R$10! Quem dá  R$20?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itou o leiloei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47628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essoas já estavam  irritadas, não queriam a pintura do filho, queriam as que realmente eram  valiosas para  sua cole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ão o  leiloeiro  bateu o martelo: "Dou-lhe uma, dou-lhe duas, vendido por  R$10!!!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gora, vamos começar  com a coleção!" gritou 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leiloeiro soltou seu  martelo e diss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Sinto muito damas e cavalheiros, mas o leilã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gou ao   eu  final".  "Mas, e as pinturas?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guntaram os interess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Eu sinto muito", disse  o  leiloeiro, "quan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 chamaram para fazer o leilão, havia 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do estipulado  no testamen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antigo dono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00" y="77148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Não seria permitido revelar esse seg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esse exato mo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a pintura O FILHO  seria leiloada; aquele que a comprasse, herdaria absolutamente todas as  suas posses,inclusive as famosas pinturas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que comprou  “ O  FILHO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a com tudo !!!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1484280"/>
            <a:ext cx="8161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x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s entregou seu único  e amado filh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morrer por nós  numa cruz  há 2000 anos atr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como o leiloeiro, a mensagem hoje é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Quem ama o Filho tem tudo com o Pa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herdará suas riquezas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s não mente. Ele é perfeito. Sua palavra 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ixa os Ensinamentos  e  as  promessas  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m o 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6:06:20Z</dcterms:created>
  <dc:creator>Edgar Rocha Mendonça</dc:creator>
  <dc:description/>
  <dc:language>en-US</dc:language>
  <cp:lastModifiedBy>TD</cp:lastModifiedBy>
  <dcterms:modified xsi:type="dcterms:W3CDTF">2005-01-21T02:48:07Z</dcterms:modified>
  <cp:revision>18</cp:revision>
  <dc:subject/>
  <dc:title>O   FILHO</dc:title>
</cp:coreProperties>
</file>