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printemps%20au%20Japon_001.wav" ContentType="audio/x-wav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F81-29A2-4380-BF56-5F90297E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897-5E57-4DFE-804B-841EAA37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FB1-7CD5-4FF8-841F-5F754B52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878-4D88-43C6-8D8B-E169470A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05E-96E6-4742-97BB-A494F822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6D0-46F4-4368-B426-DB5D03A7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363-A258-43D9-B090-5C9188E4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2CD-39B3-4C12-BE90-9901EB85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D54-D078-4E7B-9832-946CDF24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A27-4631-4B73-9A10-263514FF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03F-AEC2-4410-A834-C99ADCE9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09E9-3255-41BB-903E-C4767791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FD67-1585-4E37-A590-3E3C1534F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printemps%20au%20Japon_001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a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37372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stellar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Castellar"/>
              </a:rPr>
              <a:t>DEMASIADO  BELL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stellar"/>
              </a:rPr>
              <a:t>     </a:t>
            </a:r>
            <a:r>
              <a:rPr b="0" lang="fr-FR" sz="6000" spc="-1" strike="noStrike">
                <a:solidFill>
                  <a:srgbClr val="000000"/>
                </a:solidFill>
                <a:latin typeface="Castellar"/>
              </a:rPr>
              <a:t>pArA  nO  s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0" lang="fr-FR" sz="6000" spc="-1" strike="noStrike">
                <a:solidFill>
                  <a:srgbClr val="000000"/>
                </a:solidFill>
                <a:latin typeface="Castellar"/>
              </a:rPr>
              <a:t>COMPART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409760" cy="16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513080" cy="165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5013360"/>
            <a:ext cx="1513080" cy="158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451640" y="5013360"/>
            <a:ext cx="151308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600"/>
                            </p:stCondLst>
                            <p:childTnLst>
                              <p:par>
                                <p:cTn id="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781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30240"/>
            <a:ext cx="6912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3160" y="0"/>
            <a:ext cx="5197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2133720"/>
            <a:ext cx="6769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C’est migno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n’est-ce pa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7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62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635280" y="5851440"/>
            <a:ext cx="27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F  i  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568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8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20:48:25Z</dcterms:created>
  <dc:creator>Salvador </dc:creator>
  <dc:description/>
  <dc:language>en-US</dc:language>
  <cp:lastModifiedBy>Salvador </cp:lastModifiedBy>
  <dcterms:modified xsi:type="dcterms:W3CDTF">2013-02-20T21:11:34Z</dcterms:modified>
  <cp:revision>2</cp:revision>
  <dc:subject/>
  <dc:title>Diapositiva 1</dc:title>
</cp:coreProperties>
</file>