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printemps%20au%20Japon_001.wav" ContentType="audio/x-wav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B7C-EBCE-48BB-9BE7-AFD23004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A43-6197-4046-9089-B50630FE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08B-81B9-483F-A307-C17DBE81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5F5-131D-486B-BE33-E3CC8060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0B6-BA8A-4C78-A82B-E9080972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DFF-BFFE-4B30-BFBD-7CDEBF7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4CA-64F5-4D81-A47C-EA58477A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5BC-5EF7-45AA-A9A9-98C6BC63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196-F251-4B7C-8CB9-323FF74B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4DF-8A10-453D-9834-BD296381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609-A84F-4AC1-A5B2-408C1E5D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0F3-EED8-4295-A705-7B7F8082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F0F3-F808-407A-96AB-62AEDAA95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printemps%20au%20Japon_001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a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37372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DEMASIADO  BELL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     </a:t>
            </a: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pArA  nO  s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      </a:t>
            </a: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COMPART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409760" cy="16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513080" cy="165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5013360"/>
            <a:ext cx="151308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51640" y="5013360"/>
            <a:ext cx="151308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60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8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30240"/>
            <a:ext cx="6912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197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133720"/>
            <a:ext cx="6769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C’est migno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n’est-ce pa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35280" y="5851440"/>
            <a:ext cx="27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F  i  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568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8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20:48:25Z</dcterms:created>
  <dc:creator>Salvador </dc:creator>
  <dc:description/>
  <dc:language>en-US</dc:language>
  <cp:lastModifiedBy>Salvador </cp:lastModifiedBy>
  <dcterms:modified xsi:type="dcterms:W3CDTF">2013-02-20T21:11:34Z</dcterms:modified>
  <cp:revision>2</cp:revision>
  <dc:subject/>
  <dc:title>Diapositiva 1</dc:title>
</cp:coreProperties>
</file>