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Zamphir%20-%20I%20Wil%20Always%20Love%20You.wav" ContentType="audio/x-wav"/>
  <Override PartName="/ppt/media/image2.jpeg" ContentType="image/jpeg"/>
  <Override PartName="/ppt/media/image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67C-C9D9-4308-ACC6-5D581477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1BB-740F-48A8-BBE6-9234AFDE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ACE-CF37-4DAF-A6F2-8123ED73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1DE-E3EC-4983-A311-6048CF33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02AE-05F3-4AB3-8E4B-597A9A65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839-6C16-4B84-9F0B-2CE434CD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A99-02D9-43DA-B9C8-140E5A0D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588-2B42-4475-9C5A-83F502E2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D3A-97CF-43D7-85E7-4697E534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B14-03ED-42FF-87FB-D0679CF5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C84-AA80-45F3-BB7A-7D76E8ED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954-7EFB-4D03-9A32-B8878673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F4BB-836E-4583-8875-BEAC7CBDD9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audio" Target="../media/Zamphir%20-%20I%20Wil%20Always%20Love%20You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9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0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1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2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hyperlink" Target="http://www.leticiathompson.net/" TargetMode="External"/><Relationship Id="rId10" Type="http://schemas.openxmlformats.org/officeDocument/2006/relationships/hyperlink" Target="mailto:bethnorling@globo.com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763640" y="2276640"/>
            <a:ext cx="58104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54597e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 EXISTE SAUDADE</a:t>
            </a:r>
            <a:endParaRPr b="0" i="1" lang="en-US" sz="4000" spc="1" strike="noStrike">
              <a:ln w="9360">
                <a:solidFill>
                  <a:srgbClr val="54597e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987640" y="4076640"/>
            <a:ext cx="34671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54597e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54597e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95480" y="2276640"/>
            <a:ext cx="7005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 saudade é esse passarinho que v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de leve e pousa no nosso coração trazendo lembranças, como um colibri que beija a flor e traz belez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E ela nem escolhe hora ou lugar, só aparece assim, invadindo inteiramente esse espaço que consideramos reservado às pessoas ou ocasiões especia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pull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66760" y="2565360"/>
            <a:ext cx="700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Mas se existe saudade, é porque existem sementinhas de ternura plantadas em nós; pedacinhos de coisas boas, que talvez nem tenham ficado muito tempo, mas o suficiente para deixar um rastro, um sabor, uma marca, um perfu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95480" y="3500280"/>
            <a:ext cx="707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Outro dia, falando sobre a saudade que sinto da minha família virtual, ouvi, com surpresa, alguém dizer que não é possível sentir saudade de pessoas que nunca vimos. E como nã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pull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95480" y="3645000"/>
            <a:ext cx="700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Que nome dar então a essa falta, esse vazio nostálgico, dolorido e bom que invade a alma e toma conta do mom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Essa viagem que fazemos sem malas e documentos e que nos leva e nos trás, cheios de amor e de não sei o q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pull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95480" y="3789360"/>
            <a:ext cx="700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 saudade é uma prova, um certificado, carimbado e assinado embaixo de que não estamos inteiramente sós e nem vazi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s pessoas vêm e vão e ficam assim se prolongando em nós, existindo pela eternidade do nosso camin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pull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23840" y="4221000"/>
            <a:ext cx="722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E amanhã ou depois, quando tudo o que sobrar em nós forem pedaços do passado, teremos esse coração rico em histórias que nos farão rir sozinhos e nos sentir v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pull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00000" y="3500280"/>
            <a:ext cx="73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São essas as peças que os verdadeiros amigos pregam ao nosso cor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Caímos nessa armadilha e ainda nos divertim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prendemos assim que sentir saudade é respirar o amor que plantaram em nós. É viver depois repletos desse amor para a vida to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pull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9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gradFill rotWithShape="0">
            <a:gsLst>
              <a:gs pos="0">
                <a:srgbClr val="54597e"/>
              </a:gs>
              <a:gs pos="50000">
                <a:srgbClr val="ffffe1"/>
              </a:gs>
              <a:gs pos="100000">
                <a:srgbClr val="54597e"/>
              </a:gs>
            </a:gsLst>
            <a:lin ang="13500000"/>
          </a:gradFill>
          <a:ln w="9360">
            <a:solidFill>
              <a:srgbClr val="54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250920" y="5157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380360" y="33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7380360" y="5084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21160" y="1978200"/>
            <a:ext cx="57981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Verdana"/>
              </a:rPr>
              <a:t>Texto: Letícia Thompson – Se existe sau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666699"/>
                </a:solidFill>
                <a:uFillTx/>
                <a:latin typeface="Verdana"/>
                <a:hlinkClick r:id="rId9"/>
              </a:rPr>
              <a:t>http://www.leticiathompson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Verdana"/>
              </a:rPr>
              <a:t>Música: Zamphir – </a:t>
            </a:r>
            <a:r>
              <a:rPr b="1" lang="en-US" sz="2000" spc="-1" strike="noStrike">
                <a:solidFill>
                  <a:srgbClr val="666699"/>
                </a:solidFill>
                <a:latin typeface="Verdana"/>
              </a:rPr>
              <a:t>I will always love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666699"/>
                </a:solidFill>
                <a:uFillTx/>
                <a:latin typeface="Verdana"/>
                <a:hlinkClick r:id="rId10"/>
              </a:rPr>
              <a:t>bethnorling@globo.com</a:t>
            </a:r>
            <a:r>
              <a:rPr b="1" lang="pt-BR" sz="2000" spc="-1" strike="noStrike">
                <a:solidFill>
                  <a:srgbClr val="66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pull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1:05:55Z</dcterms:created>
  <dc:creator>Beth Norling</dc:creator>
  <dc:description/>
  <dc:language>en-US</dc:language>
  <cp:lastModifiedBy>Letícia Thompson</cp:lastModifiedBy>
  <dcterms:modified xsi:type="dcterms:W3CDTF">2007-04-11T08:54:35Z</dcterms:modified>
  <cp:revision>23</cp:revision>
  <dc:subject/>
  <dc:title>Se_existe_saudade</dc:title>
</cp:coreProperties>
</file>