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Ernesto%20Cortazar%20-%20Grandpa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.gif" ContentType="image/gif"/>
  <Override PartName="/ppt/media/image6.gif" ContentType="image/gif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397-45A0-4115-84B1-DC6FDDBF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B5F-75A2-4B11-989C-488C705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96C-1B0E-4C28-9263-37A8E3C1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D69-FDF8-468A-AAF7-84640EFE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3F5-23D4-4054-B06E-D57E5D34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073-656F-40E9-A5EF-161C31B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FC3-BF80-46EB-B7AC-B237BFC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E3F-AB99-4104-8A11-D5E6489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63D-0C11-47C3-A554-723561FE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D42-F1C0-4AFC-9320-66647A4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99D-2CBF-421C-A381-55A6AD1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079-F162-49D7-867E-5E9C45A8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C72A-E226-4BE5-B97A-D823CB2B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audio" Target="../media/Ernesto%20Cortazar%20-%20Grandpa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47640" y="2781360"/>
            <a:ext cx="619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Century Gothic"/>
              </a:rPr>
              <a:t>A GRANDE ESCOLA DA VIDA</a:t>
            </a:r>
            <a:endParaRPr b="0" i="1" lang="en-US" sz="40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3933720"/>
            <a:ext cx="2600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Century Gothic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11000">
    <p:split dir="out" orient="vert"/>
    <p:sndAc>
      <p:stSnd>
        <p:snd r:embed="rId15" name="Ernesto%20Cortazar%20-%20Grandp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3500280"/>
            <a:ext cx="72216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 solidão nos ensina a inestimável graça de se ter alguém do lado e as multidões que de vez em quando faz bem se e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consigo me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É quando perdemos que valoriz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o que t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867280" y="620640"/>
            <a:ext cx="2089440" cy="2592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708280"/>
            <a:ext cx="7129440" cy="344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Foi através do Calvário que Deus nos ensinou o amor e o valor do perdão. Foi com suor e sangue que nos mostrou que não há um fim se o homem ainda crê que existe uma saída e que a vida, por mais dolorosa que seja, é apenas uma ponte entre o agora e a etern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ab"/>
                </a:solidFill>
                <a:latin typeface="Century Gothic"/>
              </a:rPr>
              <a:t>Quem crê nisso vive e viver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9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00200" y="1835280"/>
            <a:ext cx="599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  <a:hlinkClick r:id="rId11"/>
              </a:rPr>
              <a:t>www.leticiathompson.net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Música: Ernesto Cortazar – Grandp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  <a:hlinkClick r:id="rId12"/>
              </a:rPr>
              <a:t>bethnorling@globo.com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4797360"/>
            <a:ext cx="686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Quão maravilhosa é essa grande escola da vida! Sem as quatro paredes, 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lunos e mes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4797360"/>
            <a:ext cx="7272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na infância que viver é descobrir e aprendemos na velhice que ainda temos muito para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4724280"/>
            <a:ext cx="720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na adolescência dolorosamente com os muros do não que toda liberdade tem o seu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4869000"/>
            <a:ext cx="7148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9ab"/>
                </a:solidFill>
                <a:latin typeface="Century Gothic"/>
              </a:rPr>
              <a:t>Aprendemos com a morte que a vida é valiosa e com as flores que a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9ab"/>
                </a:solidFill>
                <a:latin typeface="Century Gothic"/>
              </a:rPr>
              <a:t>aqui não é e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4869000"/>
            <a:ext cx="7293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quando negamos e quando nos negam. Quando estamos felizes ou quando o mundo desaba sobre nossa cab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4292640"/>
            <a:ext cx="71499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que somos fortes e que ser humilde não é aceitar a dor de cabeça baixa como uma fatalidade do destino, mas tirar dela todas as lições para um recome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inda mel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4437000"/>
            <a:ext cx="7077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s alegrias nos ensinam que a vida vale a pena e as tristezas que os momentos felizes são tão preciosos quanto a água em momentos de s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4508640"/>
            <a:ext cx="7148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s guerras nos ensinam o valor da paz, a fome o valor do pouco, as catástrofes o da solidariedade, as diferenças o da compreensão e da toler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01:57Z</dcterms:created>
  <dc:creator>Beth Norling</dc:creator>
  <dc:description/>
  <dc:language>en-US</dc:language>
  <cp:lastModifiedBy>Beth Norling</cp:lastModifiedBy>
  <dcterms:modified xsi:type="dcterms:W3CDTF">2007-10-07T13:06:09Z</dcterms:modified>
  <cp:revision>11</cp:revision>
  <dc:subject/>
  <dc:title>A_grande_escola_da_vida</dc:title>
</cp:coreProperties>
</file>