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Ernesto%20Cortazar%20-%20Grandpa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.gif" ContentType="image/gif"/>
  <Override PartName="/ppt/media/image6.gif" ContentType="image/gif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5BB-C926-4AF7-8991-32930A5C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900-A374-4DBC-8BF9-A7817ED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B51-D7E9-47BE-95FF-97721FDA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54B-27A7-4D4E-B124-6645D36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D78-DDF1-4FCC-B4B9-D35D268F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C8F-A088-4B32-B31F-B08D93B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5C2-F7B1-4F63-BDB0-9218050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9FD-C4C2-48BE-89EE-CD43BD6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F8D-26F4-4969-A667-316BFDD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AFD-C2C6-4093-B09A-69B22461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062-45BF-426A-980E-D306E43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903-34BA-43B3-896C-B1CB1DE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688-2EE5-4D76-AD01-6373DCDA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audio" Target="../media/Ernesto%20Cortazar%20-%20Grandpa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hyperlink" Target="http://www.leticiathompson.net/" TargetMode="External"/><Relationship Id="rId12" Type="http://schemas.openxmlformats.org/officeDocument/2006/relationships/hyperlink" Target="mailto:bethnorling@globo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47640" y="2781360"/>
            <a:ext cx="6193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Century Gothic"/>
              </a:rPr>
              <a:t>A GRANDE ESCOLA DA VIDA</a:t>
            </a:r>
            <a:endParaRPr b="0" i="1" lang="en-US" sz="4000" spc="1" strike="noStrike">
              <a:ln w="0">
                <a:noFill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3933720"/>
            <a:ext cx="2600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Century Gothic"/>
              </a:rPr>
              <a:t>Letícia Thompson</a:t>
            </a:r>
            <a:endParaRPr b="0" i="1" lang="en-US" sz="24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11000">
    <p:split dir="out" orient="vert"/>
    <p:sndAc>
      <p:stSnd>
        <p:snd r:embed="rId15" name="Ernesto%20Cortazar%20-%20Grandp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3500280"/>
            <a:ext cx="72216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 solidão nos ensina a inestimável graça de se ter alguém do lado e as multidões que de vez em quando faz bem se es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consigo me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É quando perdemos que valoriz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o que te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867280" y="620640"/>
            <a:ext cx="2089440" cy="2592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708280"/>
            <a:ext cx="7129440" cy="344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Foi através do Calvário que Deus nos ensinou o amor e o valor do perdão. Foi com suor e sangue que nos mostrou que não há um fim se o homem ainda crê que existe uma saída e que a vida, por mais dolorosa que seja, é apenas uma ponte entre o agora e a etern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ab"/>
                </a:solidFill>
                <a:latin typeface="Century Gothic"/>
              </a:rPr>
              <a:t>Quem crê nisso vive e viver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9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00200" y="1835280"/>
            <a:ext cx="599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  <a:hlinkClick r:id="rId11"/>
              </a:rPr>
              <a:t>www.leticiathompson.net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Música: Ernesto Cortazar – Grandp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9ab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  <a:hlinkClick r:id="rId12"/>
              </a:rPr>
              <a:t>bethnorling@globo.com</a:t>
            </a:r>
            <a:r>
              <a:rPr b="0" lang="en-US" sz="2000" spc="-1" strike="noStrike" u="sng">
                <a:solidFill>
                  <a:srgbClr val="ffe9ab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4797360"/>
            <a:ext cx="6861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Quão maravilhosa é essa grande escola da vida! Sem as quatro paredes, so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lunos e mes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4797360"/>
            <a:ext cx="7272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na infância que viver é descobrir e aprendemos na velhice que ainda temos muito para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4724280"/>
            <a:ext cx="7201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na adolescência dolorosamente com os muros do não que toda liberdade tem o seu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4869000"/>
            <a:ext cx="7148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9ab"/>
                </a:solidFill>
                <a:latin typeface="Century Gothic"/>
              </a:rPr>
              <a:t>Aprendemos com a morte que a vida é valiosa e com as flores que a 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e9ab"/>
                </a:solidFill>
                <a:latin typeface="Century Gothic"/>
              </a:rPr>
              <a:t>aqui não é e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4869000"/>
            <a:ext cx="7293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quando negamos e quando nos negam. Quando estamos felizes ou quando o mundo desaba sobre nossa cab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71640" y="4292640"/>
            <a:ext cx="71499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prendemos que somos fortes e que ser humilde não é aceitar a dor de cabeça baixa como uma fatalidade do destino, mas tirar dela todas as lições para um recomeç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inda mel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4437000"/>
            <a:ext cx="7077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s alegrias nos ensinam que a vida vale a pena e as tristezas que os momentos felizes são tão preciosos quanto a água em momentos de s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60280"/>
            <a:ext cx="8207280" cy="6337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33360"/>
            <a:ext cx="8064720" cy="619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76280"/>
            <a:ext cx="7775280" cy="590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549360"/>
            <a:ext cx="7632720" cy="57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395280" y="47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rot="10800000">
            <a:off x="8101080" y="6021000"/>
            <a:ext cx="495360" cy="43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4508640"/>
            <a:ext cx="71485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ab"/>
                </a:solidFill>
                <a:latin typeface="Century Gothic"/>
              </a:rPr>
              <a:t>As guerras nos ensinam o valor da paz, a fome o valor do pouco, as catástrofes o da solidariedade, as diferenças o da compreensão e da toler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01:57Z</dcterms:created>
  <dc:creator>Beth Norling</dc:creator>
  <dc:description/>
  <dc:language>en-US</dc:language>
  <cp:lastModifiedBy>Beth Norling</cp:lastModifiedBy>
  <dcterms:modified xsi:type="dcterms:W3CDTF">2007-10-07T13:06:09Z</dcterms:modified>
  <cp:revision>11</cp:revision>
  <dc:subject/>
  <dc:title>A_grande_escola_da_vida</dc:title>
</cp:coreProperties>
</file>