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opin%20-%20Nocturne%20n.2.wav" ContentType="audio/x-wav"/>
  <Override PartName="/ppt/media/image5.jpeg" ContentType="image/jpeg"/>
  <Override PartName="/ppt/media/image10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6075-1AF7-4EB5-9C2E-FD6DD76EB88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CCBD-A352-4D7D-996E-7447871944A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188C-195B-4F2D-85A1-9727ECEE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CC1F-6E73-4231-AF5F-A3EB8A41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E23-1857-47AE-8CFD-8046DBA2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242F-7E6E-4F26-A02B-6F23E837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85B5-F288-4AC3-899B-E4EA2642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5AEB-BBA1-4765-AA4E-F82880DD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D9B-9A49-44F0-94BC-36E65E6B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B4F5-E1AA-4039-9B2D-5C211ECA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686-57D1-45CF-8F11-E81E3020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346-66ED-4B53-A9C4-B8F1E037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D25A-7094-4096-847F-D6DBD8B5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F3B2-1AE6-4CB6-B953-5D11084B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a6a6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E59F-8B5D-4B72-97D3-C5E4F45B23E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opin%20-%20Nocturne%20n.2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4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9" name="Imagem 5" descr="mmmmmmmmm.jpg"/>
          <p:cNvPicPr/>
          <p:nvPr/>
        </p:nvPicPr>
        <p:blipFill>
          <a:blip r:embed="rId2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50" name="CaixaDeTexto 6"/>
          <p:cNvSpPr/>
          <p:nvPr/>
        </p:nvSpPr>
        <p:spPr>
          <a:xfrm>
            <a:off x="468360" y="83664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6600" spc="-1" strike="noStrike">
                <a:solidFill>
                  <a:srgbClr val="ffffff"/>
                </a:solidFill>
                <a:latin typeface="comic"/>
                <a:ea typeface="Arial"/>
              </a:rPr>
              <a:t>“</a:t>
            </a:r>
            <a:r>
              <a:rPr b="0" i="1" lang="pt-BR" sz="6600" spc="-1" strike="noStrike">
                <a:solidFill>
                  <a:srgbClr val="ffffff"/>
                </a:solidFill>
                <a:latin typeface="comic"/>
                <a:ea typeface="Arial"/>
              </a:rPr>
              <a:t>O  MISTÉRIO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6600" spc="-1" strike="noStrike">
                <a:solidFill>
                  <a:srgbClr val="ffffff"/>
                </a:solidFill>
                <a:latin typeface="comic"/>
                <a:ea typeface="Arial"/>
              </a:rPr>
              <a:t>DAS  COISAS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ixaDeTexto 7"/>
          <p:cNvSpPr/>
          <p:nvPr/>
        </p:nvSpPr>
        <p:spPr>
          <a:xfrm>
            <a:off x="2195640" y="5516640"/>
            <a:ext cx="43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ff"/>
                </a:solidFill>
                <a:latin typeface="Monotype Corsiva"/>
              </a:rPr>
              <a:t>Fernando Pesso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hopin%20-%20Nocturne%20n.2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tângulo 4"/>
          <p:cNvSpPr/>
          <p:nvPr/>
        </p:nvSpPr>
        <p:spPr>
          <a:xfrm>
            <a:off x="974880" y="2349360"/>
            <a:ext cx="6011640" cy="46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tângulo 4"/>
          <p:cNvSpPr/>
          <p:nvPr/>
        </p:nvSpPr>
        <p:spPr>
          <a:xfrm>
            <a:off x="1738440" y="3076560"/>
            <a:ext cx="6019560" cy="46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tângulo 3"/>
          <p:cNvSpPr/>
          <p:nvPr/>
        </p:nvSpPr>
        <p:spPr>
          <a:xfrm>
            <a:off x="1884240" y="5589720"/>
            <a:ext cx="4559400" cy="4600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917640" y="620640"/>
            <a:ext cx="7632720" cy="56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Belas apresentações (slides) em PowerPoint, mensagens motivadoras, lindas imagens e textos para criar um ambiente de alegria e bem-es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Receba duas mensagens semanais gratuitas, uma na segunda-feira e outra na sexta.  Basta enviar um e-mail para: 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powerpointsemanal-subscribe@yahoogrupos.com.b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CLIQUE AQUI PARA RECEBER AS MENS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não precisa escrever nada no e-mail, nem no campo assunto é só enviar o e-mail e daí a pouco você recebe uma mensagem de confirmação, clique em responder sem escrever nada no e-mail, clique em Enviar e já estará inscrito(a) para receber as mensagen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Acesse:  WWW.PLANETAPOWERPOINT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4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3" name="Imagem 1" descr="mmmmmmmmmmmmmmmm.jpg"/>
          <p:cNvPicPr/>
          <p:nvPr/>
        </p:nvPicPr>
        <p:blipFill>
          <a:blip r:embed="rId2"/>
          <a:srcRect l="0" t="12526" r="0" b="0"/>
          <a:stretch/>
        </p:blipFill>
        <p:spPr>
          <a:xfrm>
            <a:off x="250920" y="1268280"/>
            <a:ext cx="8642160" cy="5321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54" name="CaixaDeTexto 3"/>
          <p:cNvSpPr/>
          <p:nvPr/>
        </p:nvSpPr>
        <p:spPr>
          <a:xfrm>
            <a:off x="1835280" y="54936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mistério das cousas, onde está e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m 5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6" name="Imagem 1" descr="mmmmmm.jpg"/>
          <p:cNvPicPr/>
          <p:nvPr/>
        </p:nvPicPr>
        <p:blipFill>
          <a:blip r:embed="rId2"/>
          <a:stretch/>
        </p:blipFill>
        <p:spPr>
          <a:xfrm>
            <a:off x="250920" y="1243080"/>
            <a:ext cx="8642160" cy="5332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57" name="CaixaDeTexto 3"/>
          <p:cNvSpPr/>
          <p:nvPr/>
        </p:nvSpPr>
        <p:spPr>
          <a:xfrm>
            <a:off x="684360" y="333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Onde está ele que não aparece?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Pelo menos a mostrar-nos que é mistér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6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9" name="Imagem 1" descr="mmm.jpg"/>
          <p:cNvPicPr/>
          <p:nvPr/>
        </p:nvPicPr>
        <p:blipFill>
          <a:blip r:embed="rId2"/>
          <a:srcRect l="0" t="5430" r="0" b="0"/>
          <a:stretch/>
        </p:blipFill>
        <p:spPr>
          <a:xfrm>
            <a:off x="250920" y="1301760"/>
            <a:ext cx="8642160" cy="5295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0" name="CaixaDeTexto 4"/>
          <p:cNvSpPr/>
          <p:nvPr/>
        </p:nvSpPr>
        <p:spPr>
          <a:xfrm>
            <a:off x="611280" y="2937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Que sabe o rio disso e que sabe a árvore?</a:t>
            </a:r>
            <a:br>
              <a:rPr sz="2400"/>
            </a:b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 eu, que não sou mais do que eles, que sei dis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m 6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2" name="Imagem 1" descr="mmmmmmmmmmmmm.jpg"/>
          <p:cNvPicPr/>
          <p:nvPr/>
        </p:nvPicPr>
        <p:blipFill>
          <a:blip r:embed="rId2"/>
          <a:srcRect l="0" t="12048" r="0" b="7235"/>
          <a:stretch/>
        </p:blipFill>
        <p:spPr>
          <a:xfrm>
            <a:off x="250920" y="1773360"/>
            <a:ext cx="8642160" cy="4824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3" name="CaixaDeTexto 5"/>
          <p:cNvSpPr/>
          <p:nvPr/>
        </p:nvSpPr>
        <p:spPr>
          <a:xfrm>
            <a:off x="395280" y="404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Sempre que olho para as cousas e penso no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os homens pensam delas,</a:t>
            </a:r>
            <a:br>
              <a:rPr sz="2400"/>
            </a:b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Rio como um regato que soa fresco numa ped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5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5" name="Imagem 1" descr="mmmmmmmmmmmm.jpg"/>
          <p:cNvPicPr/>
          <p:nvPr/>
        </p:nvPicPr>
        <p:blipFill>
          <a:blip r:embed="rId2"/>
          <a:srcRect l="0" t="0" r="0" b="3889"/>
          <a:stretch/>
        </p:blipFill>
        <p:spPr>
          <a:xfrm>
            <a:off x="250920" y="1301760"/>
            <a:ext cx="8642160" cy="5295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6" name="CaixaDeTexto 4"/>
          <p:cNvSpPr/>
          <p:nvPr/>
        </p:nvSpPr>
        <p:spPr>
          <a:xfrm>
            <a:off x="611280" y="33336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Porque o único sentido oculto das cousas</a:t>
            </a:r>
            <a:br>
              <a:rPr sz="2400"/>
            </a:b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É elas não terem sentido oculto nenhu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m 5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8" name="Imagem 1" descr="mmmmmmmmmmmmmm.jpg"/>
          <p:cNvPicPr/>
          <p:nvPr/>
        </p:nvPicPr>
        <p:blipFill>
          <a:blip r:embed="rId2"/>
          <a:srcRect l="0" t="4828" r="52253" b="3322"/>
          <a:stretch/>
        </p:blipFill>
        <p:spPr>
          <a:xfrm>
            <a:off x="250920" y="260280"/>
            <a:ext cx="4376520" cy="6337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9" name="CaixaDeTexto 4"/>
          <p:cNvSpPr/>
          <p:nvPr/>
        </p:nvSpPr>
        <p:spPr>
          <a:xfrm>
            <a:off x="4788000" y="1197000"/>
            <a:ext cx="410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É mais estranho do que todas as estranhez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 do que os sonhos de todos os poet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 os pensamentos de todos os filósofos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Que as cousas sejam realmente 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parecem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3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1" name="Imagem 5" descr="m.jpg"/>
          <p:cNvPicPr/>
          <p:nvPr/>
        </p:nvPicPr>
        <p:blipFill>
          <a:blip r:embed="rId2"/>
          <a:srcRect l="40622" t="0" r="13900" b="0"/>
          <a:stretch/>
        </p:blipFill>
        <p:spPr>
          <a:xfrm>
            <a:off x="250920" y="260280"/>
            <a:ext cx="4392360" cy="6337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2" name="CaixaDeTexto 6"/>
          <p:cNvSpPr/>
          <p:nvPr/>
        </p:nvSpPr>
        <p:spPr>
          <a:xfrm>
            <a:off x="4788000" y="404640"/>
            <a:ext cx="403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 não haja nada que compre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Sim, eis o que os meus sentidos aprenderam sozinho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As cousas não têm significação: têm existênci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As cousas são o único sentido oculto das cou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7"/>
          <p:cNvSpPr/>
          <p:nvPr/>
        </p:nvSpPr>
        <p:spPr>
          <a:xfrm>
            <a:off x="4932360" y="566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Monotype Corsiva"/>
              </a:rPr>
              <a:t>Fernando Pess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4" descr="PlanetaamorepazEmailFundoPreto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5" name="Imagem 1" descr="mmmmmmmm.jpg"/>
          <p:cNvPicPr/>
          <p:nvPr/>
        </p:nvPicPr>
        <p:blipFill>
          <a:blip r:embed="rId2"/>
          <a:srcRect l="0" t="0" r="0" b="11541"/>
          <a:stretch/>
        </p:blipFill>
        <p:spPr>
          <a:xfrm>
            <a:off x="250920" y="260280"/>
            <a:ext cx="8642160" cy="5097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6" name="CaixaDeTexto 3"/>
          <p:cNvSpPr/>
          <p:nvPr/>
        </p:nvSpPr>
        <p:spPr>
          <a:xfrm>
            <a:off x="324000" y="5516640"/>
            <a:ext cx="8351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Monotype Corsiva"/>
              </a:rPr>
              <a:t>Imagens: </a:t>
            </a:r>
            <a:r>
              <a:rPr b="0" lang="pt-BR" sz="2000" spc="-1" strike="noStrike">
                <a:solidFill>
                  <a:srgbClr val="ffffff"/>
                </a:solidFill>
                <a:latin typeface="Monotype Corsiva"/>
              </a:rPr>
              <a:t>Fotocommunity        </a:t>
            </a:r>
            <a:r>
              <a:rPr b="0" lang="pt-BR" sz="2400" spc="-1" strike="noStrike">
                <a:solidFill>
                  <a:srgbClr val="ffffff"/>
                </a:solidFill>
                <a:latin typeface="Monotype Corsiva"/>
              </a:rPr>
              <a:t>Música: </a:t>
            </a:r>
            <a:r>
              <a:rPr b="0" lang="pt-BR" sz="2000" spc="-1" strike="noStrike">
                <a:solidFill>
                  <a:srgbClr val="ffffff"/>
                </a:solidFill>
                <a:latin typeface="Monotype Corsiva"/>
              </a:rPr>
              <a:t>“Nocturne n.2” Cho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Monotype Corsiva"/>
              </a:rPr>
              <a:t>Formatação: </a:t>
            </a:r>
            <a:r>
              <a:rPr b="0" lang="pt-BR" sz="2000" spc="-1" strike="noStrike">
                <a:solidFill>
                  <a:srgbClr val="ffffff"/>
                </a:solidFill>
                <a:latin typeface="Monotype Corsiva"/>
              </a:rPr>
              <a:t>Christina Meirelles Ne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4T15:08:58Z</dcterms:created>
  <dc:creator>PARTICULAR</dc:creator>
  <dc:description/>
  <dc:language>en-US</dc:language>
  <cp:lastModifiedBy>Sergio Camargos</cp:lastModifiedBy>
  <dcterms:modified xsi:type="dcterms:W3CDTF">2013-04-19T20:44:27Z</dcterms:modified>
  <cp:revision>5</cp:revision>
  <dc:subject/>
  <dc:title>Slide 1</dc:title>
</cp:coreProperties>
</file>