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opin%20-%20Nocturne%20n.2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0EB-D616-4596-B139-7D06A84B58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5AA-0153-46F2-AED2-538B8D6BE9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073-F5ED-46C1-8463-6247A6BB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F1-9544-4A1F-8F67-3EE2475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5D0-C7FA-420B-B501-C411DAF9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E8D-4961-4807-B35F-EBE70905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B16-98B6-40C3-91C8-2800871B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2A8-D3AF-4AB7-B090-1A7031F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DD5-07FB-4306-8119-0CAAB05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37B-C95B-4FAA-A64A-13EFE0A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E95-0CB7-49A9-AD3B-03E5F7DB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216-BE7D-40CE-965B-E81CE55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35F-C159-45A2-95CB-655D090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5C3-78CB-4D11-8CC6-5ECA189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a6a6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1BD-4C4B-453A-A410-290310C02A7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opin%20-%20Nocturne%20n.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Imagem 5" descr="mmmmmmmmm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0" name="CaixaDeTexto 6"/>
          <p:cNvSpPr/>
          <p:nvPr/>
        </p:nvSpPr>
        <p:spPr>
          <a:xfrm>
            <a:off x="46836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“</a:t>
            </a: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O  MISTÉR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DAS  COISAS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2195640" y="55166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opin%20-%20Nocturne%20n.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Imagem 1" descr="mmmmmmmmmmmmmmmm.jpg"/>
          <p:cNvPicPr/>
          <p:nvPr/>
        </p:nvPicPr>
        <p:blipFill>
          <a:blip r:embed="rId2"/>
          <a:srcRect l="0" t="12526" r="0" b="0"/>
          <a:stretch/>
        </p:blipFill>
        <p:spPr>
          <a:xfrm>
            <a:off x="250920" y="1268280"/>
            <a:ext cx="8642160" cy="532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4" name="CaixaDeTexto 3"/>
          <p:cNvSpPr/>
          <p:nvPr/>
        </p:nvSpPr>
        <p:spPr>
          <a:xfrm>
            <a:off x="1835280" y="54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mistério das cousas, onde está 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Imagem 1" descr="mmmmmm.jpg"/>
          <p:cNvPicPr/>
          <p:nvPr/>
        </p:nvPicPr>
        <p:blipFill>
          <a:blip r:embed="rId2"/>
          <a:stretch/>
        </p:blipFill>
        <p:spPr>
          <a:xfrm>
            <a:off x="250920" y="1243080"/>
            <a:ext cx="8642160" cy="533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7" name="CaixaDeTexto 3"/>
          <p:cNvSpPr/>
          <p:nvPr/>
        </p:nvSpPr>
        <p:spPr>
          <a:xfrm>
            <a:off x="68436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nde está ele que não aparece?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elo menos a mostrar-nos que é mis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9" name="Imagem 1" descr="mmm.jpg"/>
          <p:cNvPicPr/>
          <p:nvPr/>
        </p:nvPicPr>
        <p:blipFill>
          <a:blip r:embed="rId2"/>
          <a:srcRect l="0" t="5430" r="0" b="0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0" name="CaixaDeTexto 4"/>
          <p:cNvSpPr/>
          <p:nvPr/>
        </p:nvSpPr>
        <p:spPr>
          <a:xfrm>
            <a:off x="611280" y="2937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sabe o rio disso e que sabe a árvore?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eu, que não sou mais do que eles, que sei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Imagem 1" descr="mmmmmmmmmmmmm.jpg"/>
          <p:cNvPicPr/>
          <p:nvPr/>
        </p:nvPicPr>
        <p:blipFill>
          <a:blip r:embed="rId2"/>
          <a:srcRect l="0" t="12048" r="0" b="7235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CaixaDeTexto 5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empre que olho para as cousas e penso n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s homens pensam delas,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io como um regato que soa fresco numa pe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Imagem 1" descr="mmmmmmmmmmmm.jpg"/>
          <p:cNvPicPr/>
          <p:nvPr/>
        </p:nvPicPr>
        <p:blipFill>
          <a:blip r:embed="rId2"/>
          <a:srcRect l="0" t="0" r="0" b="3889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6" name="CaixaDeTexto 4"/>
          <p:cNvSpPr/>
          <p:nvPr/>
        </p:nvSpPr>
        <p:spPr>
          <a:xfrm>
            <a:off x="611280" y="33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orque o único sentido oculto das cousas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elas não terem sentido oculto nenh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Imagem 1" descr="mmmmmmmmmmmmmm.jpg"/>
          <p:cNvPicPr/>
          <p:nvPr/>
        </p:nvPicPr>
        <p:blipFill>
          <a:blip r:embed="rId2"/>
          <a:srcRect l="0" t="4828" r="52253" b="3322"/>
          <a:stretch/>
        </p:blipFill>
        <p:spPr>
          <a:xfrm>
            <a:off x="250920" y="260280"/>
            <a:ext cx="437652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9" name="CaixaDeTexto 4"/>
          <p:cNvSpPr/>
          <p:nvPr/>
        </p:nvSpPr>
        <p:spPr>
          <a:xfrm>
            <a:off x="4788000" y="119700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mais estranho do que todas as estranhez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do que os sonhos de todos os poe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os pensamentos de todos os filósofos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as cousas sejam realmente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arec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3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Imagem 5" descr="m.jpg"/>
          <p:cNvPicPr/>
          <p:nvPr/>
        </p:nvPicPr>
        <p:blipFill>
          <a:blip r:embed="rId2"/>
          <a:srcRect l="40622" t="0" r="13900" b="0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2" name="CaixaDeTexto 6"/>
          <p:cNvSpPr/>
          <p:nvPr/>
        </p:nvSpPr>
        <p:spPr>
          <a:xfrm>
            <a:off x="4788000" y="40464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não haja nada que compre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im, eis o que os meus sentidos aprenderam sozinh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não têm significação: têm existênc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são o único sentido oculto das co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4932360" y="566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Imagem 1" descr="mmmmmmmm.jpg"/>
          <p:cNvPicPr/>
          <p:nvPr/>
        </p:nvPicPr>
        <p:blipFill>
          <a:blip r:embed="rId2"/>
          <a:srcRect l="0" t="0" r="0" b="11541"/>
          <a:stretch/>
        </p:blipFill>
        <p:spPr>
          <a:xfrm>
            <a:off x="250920" y="260280"/>
            <a:ext cx="8642160" cy="5097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6" name="CaixaDeTexto 3"/>
          <p:cNvSpPr/>
          <p:nvPr/>
        </p:nvSpPr>
        <p:spPr>
          <a:xfrm>
            <a:off x="324000" y="5516640"/>
            <a:ext cx="8351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Imagens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Fotocommunity        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Música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“Nocturne n.2” Cho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Formatação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Christina Meirelles N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5:08:58Z</dcterms:created>
  <dc:creator>PARTICULAR</dc:creator>
  <dc:description/>
  <dc:language>en-US</dc:language>
  <cp:lastModifiedBy>Sergio Camargos</cp:lastModifiedBy>
  <dcterms:modified xsi:type="dcterms:W3CDTF">2013-04-19T20:44:27Z</dcterms:modified>
  <cp:revision>5</cp:revision>
  <dc:subject/>
  <dc:title>Slide 1</dc:title>
</cp:coreProperties>
</file>