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ral_greg_katan2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557-D9F6-4727-8E52-77A83FF1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6BA-BB46-4C26-A44C-50C2140A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5F1-D522-43FF-BC0E-A1CA0BF2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BD4-879F-4CCF-95F5-E757BFDE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FA8-D8D1-41B3-8E81-F9FECF41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3A4-82D3-4F23-8216-FD70F4A3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161-BF58-4BC2-A12B-DF8F64C2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46B-530C-4BA3-8524-49357F0E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15F-FE85-412A-9A38-19DD6310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4D0-9383-4A56-AC9B-9F320CDD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A41-C766-47F8-82FE-398CD3B0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B9B-5C29-40C0-8B90-F6D9FAC2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28D9-47B0-4E37-88C3-C96641818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al_greg_katan2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914400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1</a:t>
            </a:r>
            <a:r>
              <a:rPr b="1" lang="pt-BR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minuto</a:t>
            </a:r>
            <a:r>
              <a:rPr b="1" lang="pt-BR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com</a:t>
            </a:r>
            <a:r>
              <a:rPr b="1" lang="pt-BR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DeuS</a:t>
            </a:r>
            <a:r>
              <a:rPr b="1" lang="pt-BR" sz="3600" spc="-1" strike="noStrike">
                <a:solidFill>
                  <a:srgbClr val="8735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  <p:sndAc>
      <p:stSnd>
        <p:snd r:embed="rId2" name="coral_greg_katan26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5520" y="457200"/>
            <a:ext cx="403848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Eu sou a luz do mundo, aquele que me segue jamais andará nas treva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EU TE AM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Monotype Corsiva"/>
              </a:rPr>
              <a:t>Jesus Cr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ande esta mensagem para 10 amigos, e veja o que acontece no 4º dia.  Sua vida irá mudar...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ão segure esta mensagem seja solidári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lguém, em algum lugar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ecisa muito d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-59659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152280"/>
            <a:ext cx="35049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EIA até o fim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a menos de 1 minu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que será que você vai fazer com essa mensagem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00600" y="762120"/>
            <a:ext cx="4343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eorge Tomas, um pregador Inglês, apareceu um dia em sua pregaçã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rregando uma gaiola e a colocou no púlpito, começou a fala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"Estava andando pela rua ontem, e vi um menino levando essa gaiola c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pequenos passarinhos dentro com frio e com medo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u perguntei: Menino o que você vai fazer com esses passarinhos?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609480"/>
            <a:ext cx="3886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le respondeu: leva-los para casa tirar as penas e queima-los, vou me divertir com ele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anto você quer por esses passarinhos menino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menino respondeu: - O senhor não v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ere-los, eles não servem para nada. São feios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pregador os comprou por 10 dólares! E os soltou em uma árvore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228600"/>
            <a:ext cx="441972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35ff"/>
                </a:solidFill>
                <a:latin typeface="Trebuchet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m dia Jesus e Satanás estavam conversando e Jesus perguntou a satanás o  que ele estava fazendo para as pessoas aqui na terra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Ele respondeu: Estou me divertindo com elas, ensino a fazer bombas e a matar, a usar revolver, a odiar umas a outras, a casar e a divorciar, ensino a abusar de criancinhas, ensino os jovens a usar drogas, a beber e fazer tudo o que não se deve e que os conduzirá a maldição futura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7632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7816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0"/>
            <a:ext cx="48276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stou me divertindo muito com ele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Jesus perguntou: E depois o que você vai fazer com eles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u mata-los e acabar com ele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Jesus perguntou: Quanto você quer por eles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atanás respondeu: você não vai querer essas pessoa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las são traiçoeiras, mentirosas, falsas, egoístas e avarenta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las não vão te amar de verdade, vão bater e cuspir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u rosto, vão  te desprezar e nem vão levar em consideração o que você fizer! Quan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cê quer por elas satanás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33920" y="60948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ero toda a tua lágrima e todo o teu sangue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rato feito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 Jesus pagou o preço da nossa liberdade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o nós podemos nos esquecer de Jesus! Acreditamos em tudo o que nos ensina, mas sempre questionamos as coisas que vem de Deus! Todos querem um dia estar com Deus, mas não querem conhece-lo! E ama-lo!  Muitos dizem: Eu acredito em Deus, (Satanás também!), mas não fazem nada por Ele! As pessoas mandam piadas por e-mail e umas passam para as outras em uma velocidade luz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71800" y="0"/>
            <a:ext cx="61722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s quando a mensagem é sobre Deus, as pessoas pensam duas vezes antes de compartilhar com as outras. Dizem a todo o momento, a qual clube pertence, mas pensam duas vezes antes de dizerem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OU DE CRISTO E AMO A DEUS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entam ser invisível, quando se trata de JESUS CRISTO! POR QUÊ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rá que quando você terminar de ler essa mensagem, você mandará ou você não está segura do que as pessoas pensarão sobre você se você enviar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alar sobre Jesus Cristo não é um assunto que as pessoas querem ouvir! Somente querem a Jesus quando estão em grandes apuros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Quem passará essa mensagem?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67080" y="212760"/>
            <a:ext cx="4876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735ff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us perguntou: A quem enviarei? Envie a mim SENHOR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 você é uma pessoa que Crê em Deus e o Ama, então envie essa mensagem todos qu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ocê conhece!!! Deus te recompensará!!!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Que Deus abençoe abundantemente o teu dia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 você não é uma pessoa que Crê em Deus e o Ama, não envie essa mensagem!!! Aja como um covarde. E simplesmente DELETE ela!!! 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atanás se sentira muito satisfeito, com sua ação!!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18:02:43Z</dcterms:created>
  <dc:creator>Paulo César</dc:creator>
  <dc:description/>
  <dc:language>en-US</dc:language>
  <cp:lastModifiedBy>LOJA DO PAPAI</cp:lastModifiedBy>
  <dcterms:modified xsi:type="dcterms:W3CDTF">2006-01-07T13:24:11Z</dcterms:modified>
  <cp:revision>13</cp:revision>
  <dc:subject/>
  <dc:title>Slide sem título </dc:title>
</cp:coreProperties>
</file>