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4.png" ContentType="image/png"/>
  <Override PartName="/ppt/media/Ernesto%20Cortazar%20-%20What%20Happened%20Between%20Us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899-99F4-4ACB-9DBB-BCAA91DF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B2C-4085-4EC8-A9B2-B3EAF731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DB5-646E-45C7-8028-B6D8CEB9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A30-D581-4767-8592-5C9A141E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78A-4952-4EDF-8BE4-C26363B3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090-722D-4B2A-BFE5-59507259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653-DFC3-4F5E-BC56-0477D936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BFF-C7BE-4A89-B34B-C7AF32F5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A0A-8FD0-4022-8748-6A7C3A18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B58-E72F-4057-A9B1-C7EF8E3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663-2521-4E1F-A810-C729C123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079-2527-44DC-860F-F062424E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398F-8604-4C83-B6C9-4AD0AA51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3.jpeg"/><Relationship Id="rId44" Type="http://schemas.openxmlformats.org/officeDocument/2006/relationships/image" Target="../media/image1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audio" Target="../media/Ernesto%20Cortazar%20-%20What%20Happened%20Between%20Us.wav"/><Relationship Id="rId5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3.jpeg"/><Relationship Id="rId44" Type="http://schemas.openxmlformats.org/officeDocument/2006/relationships/image" Target="../media/image1.jpeg"/><Relationship Id="rId45" Type="http://schemas.openxmlformats.org/officeDocument/2006/relationships/hyperlink" Target="http://www.leticiathompson.net/" TargetMode="External"/><Relationship Id="rId46" Type="http://schemas.openxmlformats.org/officeDocument/2006/relationships/hyperlink" Target="mailto:bethnorling@globo.com" TargetMode="External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2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3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4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5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6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7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8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9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76280"/>
            <a:ext cx="806472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549360"/>
            <a:ext cx="7921440" cy="5759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920" y="1628640"/>
            <a:ext cx="7490160" cy="360072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700280"/>
            <a:ext cx="7344000" cy="3457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2000" y="270828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eea7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ME COMO SE O OUTRO FOSSE VOCÊ</a:t>
            </a:r>
            <a:endParaRPr b="0" lang="en-US" sz="1800" spc="1" strike="noStrike">
              <a:ln w="9360">
                <a:solidFill>
                  <a:srgbClr val="ffeea7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64000" y="378936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eea7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ffeea7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476280"/>
            <a:ext cx="806472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549360"/>
            <a:ext cx="7921440" cy="5759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826920" y="836640"/>
            <a:ext cx="7490160" cy="5113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907920"/>
            <a:ext cx="7344000" cy="496908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8920" y="1844640"/>
            <a:ext cx="66452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Texto: Letícia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eea7"/>
                </a:solidFill>
                <a:uFillTx/>
                <a:latin typeface="Verdana"/>
                <a:hlinkClick r:id="rId45"/>
              </a:rPr>
              <a:t>www.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Imagens: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Música:Ernesto Cort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ea7"/>
                </a:solidFill>
                <a:latin typeface="Verdana"/>
              </a:rPr>
              <a:t>What happened between us</a:t>
            </a: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Formatação: Beth No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E-mail: </a:t>
            </a:r>
            <a:r>
              <a:rPr b="0" lang="pt-BR" sz="2400" spc="-1" strike="noStrike" u="sng">
                <a:solidFill>
                  <a:srgbClr val="ffeea7"/>
                </a:solidFill>
                <a:uFillTx/>
                <a:latin typeface="Verdana"/>
                <a:hlinkClick r:id="rId46"/>
              </a:rPr>
              <a:t>bethnorling@globo.com</a:t>
            </a: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1341360"/>
            <a:ext cx="347652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 o amor fosse bastante em cada coração, todos os males do mundo acabariam. Cada um olharia o outro como se estivesse se olhando no espelho e teria tanta compreensão e compaixão como se estivesse agi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por si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59280" y="1844640"/>
            <a:ext cx="354816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s asperezas da vida tornam as pessoas duras, amargas. E o pior é que nem sempre elas querem se livrar dessa carga que as tornam com o andar pesado e a visão do futuro vaga e obsc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59280" y="1844640"/>
            <a:ext cx="361944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Há pessoas que temos dificuldade em amar. Difícil admitir, pois fomos feitos e criados para amar o próximo sem querer saber o que se esconde por detrás de seu passado e o que vai na sua al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40200" y="1792440"/>
            <a:ext cx="369252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Cada um tem sua história, seus espinhos e sua cruz. Cada um também tem sua beleza, talvez apagada por acontecimentos, envelhecida por esperas que nunca tiveram fim e amargas pelo fel que a vida derrama v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ou out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788000" y="1125360"/>
            <a:ext cx="3692520" cy="40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Os altos e baixos da vida existem para todo mundo. Mas é quase sempre, para um e para outro, os baixos que marcam mais, os que definem a trajetória, marcam a vida inteira. E quando olhamos para uma pessoa assim cheia de cicatrizes, como rosas secas e sem perfume, a rejeitamos porque não queremos ficar iguais a 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859280" y="1557360"/>
            <a:ext cx="361944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Portanto... u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uto-análise poderia revelar o quanto de maneira surpreendente nos tornamos iguais às pessoas que rejeitamos exatamente por recolhermos no nosso coração os mesmos sentimentos de amargura, desafeto, reje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840200" y="1216080"/>
            <a:ext cx="361944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me cada pessoa como se para você ela estivesse acabando de nascer e seu coração não estivesse cheio de pré-julg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me como se passassem uma borracha sobre seus erros e conseguissem ver através de olhos de amor, apenas o bonito que há dentro de você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932360" y="1773360"/>
            <a:ext cx="35481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me como quem ama aquela flor que atravessou sol e chuva e sobreviveu, apesar de tu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me como você gostaria de ser 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8:30:53Z</dcterms:created>
  <dc:creator>Beth Norling</dc:creator>
  <dc:description/>
  <dc:language>en-US</dc:language>
  <cp:lastModifiedBy>Beth Norling</cp:lastModifiedBy>
  <dcterms:modified xsi:type="dcterms:W3CDTF">2008-09-19T21:35:14Z</dcterms:modified>
  <cp:revision>9</cp:revision>
  <dc:subject/>
  <dc:title>Ame_como_se_o_outro_fosse_voce</dc:title>
</cp:coreProperties>
</file>