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4.png" ContentType="image/png"/>
  <Override PartName="/ppt/media/Ernesto%20Cortazar%20-%20What%20Happened%20Between%20Us.wav" ContentType="audio/x-wav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AD4-8D5C-4EBD-B7F2-C79D00D6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2AB-FE1A-4F7F-85CA-695E5800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CC6-E375-445B-8E60-95902C6F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A5F-5FC9-4E32-BC2C-1C40880B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898-FB76-4133-B8C2-DE782041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75C-44BE-44CC-BCA0-92B1D3F1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4E3-007E-4231-9CC8-D8CF74EA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6DF-C96A-4BC3-8FE3-EB78A004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9A1-F152-4CAD-8260-47138848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D2D-4147-44F5-8DB7-DB2C6F00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CFF-B5D7-4FE5-8CA4-FF05C25E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B62-A096-47E6-A873-B1AAD6FA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D0F4-CD28-4209-8A45-87531946C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3.jpeg"/><Relationship Id="rId44" Type="http://schemas.openxmlformats.org/officeDocument/2006/relationships/image" Target="../media/image1.jpeg"/><Relationship Id="rId45" Type="http://schemas.openxmlformats.org/officeDocument/2006/relationships/image" Target="../media/image3.jpeg"/><Relationship Id="rId46" Type="http://schemas.openxmlformats.org/officeDocument/2006/relationships/image" Target="../media/image3.jpeg"/><Relationship Id="rId47" Type="http://schemas.openxmlformats.org/officeDocument/2006/relationships/image" Target="../media/image3.jpeg"/><Relationship Id="rId48" Type="http://schemas.openxmlformats.org/officeDocument/2006/relationships/image" Target="../media/image3.jpeg"/><Relationship Id="rId49" Type="http://schemas.openxmlformats.org/officeDocument/2006/relationships/audio" Target="../media/Ernesto%20Cortazar%20-%20What%20Happened%20Between%20Us.wav"/><Relationship Id="rId5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3.jpeg"/><Relationship Id="rId44" Type="http://schemas.openxmlformats.org/officeDocument/2006/relationships/image" Target="../media/image1.jpeg"/><Relationship Id="rId45" Type="http://schemas.openxmlformats.org/officeDocument/2006/relationships/hyperlink" Target="http://www.leticiathompson.net/" TargetMode="External"/><Relationship Id="rId46" Type="http://schemas.openxmlformats.org/officeDocument/2006/relationships/hyperlink" Target="mailto:bethnorling@globo.com" TargetMode="External"/><Relationship Id="rId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2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3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4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5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6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7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8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3.jpeg"/><Relationship Id="rId23" Type="http://schemas.openxmlformats.org/officeDocument/2006/relationships/image" Target="../media/image19.jpe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4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476280"/>
            <a:ext cx="806472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549360"/>
            <a:ext cx="7921440" cy="57592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26920" y="1628640"/>
            <a:ext cx="7490160" cy="360072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1700280"/>
            <a:ext cx="7344000" cy="34574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32000" y="2708280"/>
            <a:ext cx="65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eea7"/>
                  </a:solidFill>
                  <a:miter/>
                </a:ln>
                <a:blipFill rotWithShape="0">
                  <a:blip r:embed="rId45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AME COMO SE O OUTRO FOSSE VOCÊ</a:t>
            </a:r>
            <a:endParaRPr b="0" lang="en-US" sz="1800" spc="1" strike="noStrike">
              <a:ln w="9360">
                <a:solidFill>
                  <a:srgbClr val="ffeea7"/>
                </a:solidFill>
                <a:miter/>
              </a:ln>
              <a:blipFill rotWithShape="0">
                <a:blip r:embed="rId46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64000" y="378936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eea7"/>
                  </a:solidFill>
                  <a:miter/>
                </a:ln>
                <a:blipFill rotWithShape="0">
                  <a:blip r:embed="rId47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lang="en-US" sz="2400" spc="1" strike="noStrike">
              <a:ln w="9360">
                <a:solidFill>
                  <a:srgbClr val="ffeea7"/>
                </a:solidFill>
                <a:miter/>
              </a:ln>
              <a:blipFill rotWithShape="0">
                <a:blip r:embed="rId48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476280"/>
            <a:ext cx="806472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549360"/>
            <a:ext cx="7921440" cy="57592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826920" y="836640"/>
            <a:ext cx="7490160" cy="51134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907920"/>
            <a:ext cx="7344000" cy="496908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58920" y="1844640"/>
            <a:ext cx="664524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ea7"/>
                </a:solidFill>
                <a:latin typeface="Verdana"/>
              </a:rPr>
              <a:t>Créd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ea7"/>
                </a:solidFill>
                <a:latin typeface="Verdana"/>
              </a:rPr>
              <a:t>Texto: Letícia Tho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eea7"/>
                </a:solidFill>
                <a:uFillTx/>
                <a:latin typeface="Verdana"/>
                <a:hlinkClick r:id="rId45"/>
              </a:rPr>
              <a:t>www.leticiathompson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ea7"/>
                </a:solidFill>
                <a:latin typeface="Verdana"/>
              </a:rPr>
              <a:t>Imagens: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ea7"/>
                </a:solidFill>
                <a:latin typeface="Verdana"/>
              </a:rPr>
              <a:t>Música:Ernesto Corta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ea7"/>
                </a:solidFill>
                <a:latin typeface="Verdana"/>
              </a:rPr>
              <a:t>What happened between us</a:t>
            </a:r>
            <a:r>
              <a:rPr b="0" lang="pt-BR" sz="24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ea7"/>
                </a:solidFill>
                <a:latin typeface="Verdana"/>
              </a:rPr>
              <a:t>Formatação: Beth Nor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ea7"/>
                </a:solidFill>
                <a:latin typeface="Verdana"/>
              </a:rPr>
              <a:t>E-mail: </a:t>
            </a:r>
            <a:r>
              <a:rPr b="0" lang="pt-BR" sz="2400" spc="-1" strike="noStrike" u="sng">
                <a:solidFill>
                  <a:srgbClr val="ffeea7"/>
                </a:solidFill>
                <a:uFillTx/>
                <a:latin typeface="Verdana"/>
                <a:hlinkClick r:id="rId46"/>
              </a:rPr>
              <a:t>bethnorling@globo.com</a:t>
            </a:r>
            <a:r>
              <a:rPr b="0" lang="pt-BR" sz="24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76280"/>
            <a:ext cx="410364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549360"/>
            <a:ext cx="3960720" cy="57592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59280" y="1341360"/>
            <a:ext cx="347652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Se o amor fosse bastante em cada coração, todos os males do mundo acabariam. Cada um olharia o outro como se estivesse se olhando no espelho e teria tanta compreensão e compaixão como se estivesse agi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por si me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76280"/>
            <a:ext cx="410364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49360"/>
            <a:ext cx="3960720" cy="57592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59280" y="1844640"/>
            <a:ext cx="354816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As asperezas da vida tornam as pessoas duras, amargas. E o pior é que nem sempre elas querem se livrar dessa carga que as tornam com o andar pesado e a visão do futuro vaga e obscu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476280"/>
            <a:ext cx="410364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549360"/>
            <a:ext cx="3960720" cy="57592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859280" y="1844640"/>
            <a:ext cx="361944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Há pessoas que temos dificuldade em amar. Difícil admitir, pois fomos feitos e criados para amar o próximo sem querer saber o que se esconde por detrás de seu passado e o que vai na sua al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476280"/>
            <a:ext cx="410364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549360"/>
            <a:ext cx="3960720" cy="57592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40200" y="1792440"/>
            <a:ext cx="369252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Cada um tem sua história, seus espinhos e sua cruz. Cada um também tem sua beleza, talvez apagada por acontecimentos, envelhecida por esperas que nunca tiveram fim e amargas pelo fel que a vida derrama ve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ou out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476280"/>
            <a:ext cx="410364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1280" y="549360"/>
            <a:ext cx="3960720" cy="57592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4788000" y="1125360"/>
            <a:ext cx="3692520" cy="40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Os altos e baixos da vida existem para todo mundo. Mas é quase sempre, para um e para outro, os baixos que marcam mais, os que definem a trajetória, marcam a vida inteira. E quando olhamos para uma pessoa assim cheia de cicatrizes, como rosas secas e sem perfume, a rejeitamos porque não queremos ficar iguais a e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476280"/>
            <a:ext cx="410364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549360"/>
            <a:ext cx="3960720" cy="57592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859280" y="1557360"/>
            <a:ext cx="361944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Portanto... u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auto-análise poderia revelar o quanto de maneira surpreendente nos tornamos iguais às pessoas que rejeitamos exatamente por recolhermos no nosso coração os mesmos sentimentos de amargura, desafeto, reje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476280"/>
            <a:ext cx="410364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549360"/>
            <a:ext cx="3960720" cy="57592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840200" y="1216080"/>
            <a:ext cx="3619440" cy="375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Ame cada pessoa como se para você ela estivesse acabando de nascer e seu coração não estivesse cheio de pré-julg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Ame como se passassem uma borracha sobre seus erros e conseguissem ver através de olhos de amor, apenas o bonito que há dentro de você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183528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3635280" y="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54356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>
            <a:off x="7305840" y="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7"/>
          <a:stretch/>
        </p:blipFill>
        <p:spPr>
          <a:xfrm>
            <a:off x="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8"/>
          <a:stretch/>
        </p:blipFill>
        <p:spPr>
          <a:xfrm>
            <a:off x="183528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9"/>
          <a:stretch/>
        </p:blipFill>
        <p:spPr>
          <a:xfrm>
            <a:off x="3635280" y="66294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10"/>
          <a:stretch/>
        </p:blipFill>
        <p:spPr>
          <a:xfrm>
            <a:off x="54356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11"/>
          <a:stretch/>
        </p:blipFill>
        <p:spPr>
          <a:xfrm>
            <a:off x="7305840" y="66294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2"/>
          <a:stretch/>
        </p:blipFill>
        <p:spPr>
          <a:xfrm rot="5400000">
            <a:off x="-80496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3"/>
          <a:stretch/>
        </p:blipFill>
        <p:spPr>
          <a:xfrm rot="5400000">
            <a:off x="-805320" y="2649600"/>
            <a:ext cx="1838520" cy="2286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4"/>
          <a:stretch/>
        </p:blipFill>
        <p:spPr>
          <a:xfrm rot="5400000">
            <a:off x="-80496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15"/>
          <a:stretch/>
        </p:blipFill>
        <p:spPr>
          <a:xfrm rot="5400000">
            <a:off x="-804960" y="4233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6"/>
          <a:stretch/>
        </p:blipFill>
        <p:spPr>
          <a:xfrm rot="5400000">
            <a:off x="8110080" y="80460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7"/>
          <a:stretch/>
        </p:blipFill>
        <p:spPr>
          <a:xfrm rot="5400000">
            <a:off x="8110080" y="582444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8"/>
          <a:stretch/>
        </p:blipFill>
        <p:spPr>
          <a:xfrm rot="5400000">
            <a:off x="8110080" y="2577960"/>
            <a:ext cx="1838160" cy="2286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9"/>
          <a:stretch/>
        </p:blipFill>
        <p:spPr>
          <a:xfrm rot="5400000">
            <a:off x="8110080" y="4162320"/>
            <a:ext cx="1838160" cy="2286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24000" y="260280"/>
            <a:ext cx="8496000" cy="6337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476280"/>
            <a:ext cx="4103640" cy="59054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1280" y="549360"/>
            <a:ext cx="3960720" cy="575928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1403280" cy="13921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5"/>
          <a:stretch/>
        </p:blipFill>
        <p:spPr>
          <a:xfrm>
            <a:off x="7751880" y="0"/>
            <a:ext cx="1392120" cy="14032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6"/>
          <a:stretch/>
        </p:blipFill>
        <p:spPr>
          <a:xfrm>
            <a:off x="4680" y="5460840"/>
            <a:ext cx="1392480" cy="14036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7"/>
          <a:stretch/>
        </p:blipFill>
        <p:spPr>
          <a:xfrm rot="10642800">
            <a:off x="7746120" y="5459040"/>
            <a:ext cx="1403640" cy="13921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1617840" cy="1773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9"/>
          <a:stretch/>
        </p:blipFill>
        <p:spPr>
          <a:xfrm>
            <a:off x="0" y="5057640"/>
            <a:ext cx="1617840" cy="18003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0"/>
          <a:stretch/>
        </p:blipFill>
        <p:spPr>
          <a:xfrm>
            <a:off x="7854840" y="5445000"/>
            <a:ext cx="1289160" cy="14130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1"/>
          <a:stretch/>
        </p:blipFill>
        <p:spPr>
          <a:xfrm>
            <a:off x="7873920" y="0"/>
            <a:ext cx="1270080" cy="1413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2"/>
          <a:stretch/>
        </p:blipFill>
        <p:spPr>
          <a:xfrm>
            <a:off x="0" y="1628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3"/>
          <a:stretch/>
        </p:blipFill>
        <p:spPr>
          <a:xfrm>
            <a:off x="0" y="2421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4"/>
          <a:stretch/>
        </p:blipFill>
        <p:spPr>
          <a:xfrm>
            <a:off x="0" y="3141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5"/>
          <a:stretch/>
        </p:blipFill>
        <p:spPr>
          <a:xfrm>
            <a:off x="0" y="378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6"/>
          <a:stretch/>
        </p:blipFill>
        <p:spPr>
          <a:xfrm>
            <a:off x="0" y="4508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7"/>
          <a:stretch/>
        </p:blipFill>
        <p:spPr>
          <a:xfrm>
            <a:off x="8604360" y="134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8"/>
          <a:stretch/>
        </p:blipFill>
        <p:spPr>
          <a:xfrm>
            <a:off x="8604360" y="50846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9"/>
          <a:stretch/>
        </p:blipFill>
        <p:spPr>
          <a:xfrm>
            <a:off x="8604360" y="19890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0"/>
          <a:stretch/>
        </p:blipFill>
        <p:spPr>
          <a:xfrm>
            <a:off x="8604360" y="2781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1"/>
          <a:stretch/>
        </p:blipFill>
        <p:spPr>
          <a:xfrm>
            <a:off x="8604360" y="3573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2"/>
          <a:stretch/>
        </p:blipFill>
        <p:spPr>
          <a:xfrm>
            <a:off x="8604360" y="436572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4932360" y="1773360"/>
            <a:ext cx="354816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Ame como quem ama aquela flor que atravessou sol e chuva e sobreviveu, apesar de tu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Ame como você gostaria de ser a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3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8:30:53Z</dcterms:created>
  <dc:creator>Beth Norling</dc:creator>
  <dc:description/>
  <dc:language>en-US</dc:language>
  <cp:lastModifiedBy>Beth Norling</cp:lastModifiedBy>
  <dcterms:modified xsi:type="dcterms:W3CDTF">2008-09-19T21:35:14Z</dcterms:modified>
  <cp:revision>9</cp:revision>
  <dc:subject/>
  <dc:title>Ame_como_se_o_outro_fosse_voce</dc:title>
</cp:coreProperties>
</file>