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Richard%20Clayderman-Carolin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76C-6A03-4CF6-8F5D-739EDDBA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3F6-F74E-4AFC-BCF3-A99926C9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E68-0EDF-4678-84F1-E6DEDB21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E00-02FB-4B15-A5F5-67423855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4EC-F3A5-405F-9D49-C46543AE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0A2-9407-4687-8DDD-11A0BF6F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ECC-DF6A-4FBF-B094-A089AF54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D66-564B-4F79-888A-B4C1BBFD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3DB-EE6D-4907-96EE-EFB311CE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CA3-49C2-4BDC-99DD-065DB2C3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BD1-C06B-41FD-98A8-B7A84B6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E5A-0484-44F8-A1DE-4ED3E1DD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7A65-4FE8-4216-A255-44D7715A4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audio" Target="../media/Richard%20Clayderman-Carolin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52880" y="304920"/>
            <a:ext cx="3886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Copperplate Gothic Bold"/>
              </a:rPr>
              <a:t>É Lindo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10080" y="2438280"/>
            <a:ext cx="3124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Copperplate Gothic Bold"/>
              </a:rPr>
              <a:t>Danusa Leão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Copperplate Gothic Bold"/>
              <a:ea typeface="Copperplate Gothic Bold"/>
            </a:endParaRPr>
          </a:p>
        </p:txBody>
      </p:sp>
    </p:spTree>
  </p:cSld>
  <p:transition spd="slow" advTm="19000">
    <p:dissolve/>
    <p:sndAc>
      <p:stSnd>
        <p:snd r:embed="rId4" name="Richard%20Clayderman-Caroli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360360"/>
            <a:ext cx="380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epois, veio “Deixa em paz meu coração, que ele é um pote até aqui de mágoa”. As músicas diziam tudo o que não se tinha coragem de dizer, e era como se falassem por nós. Que mulher não cantou baixinho, depois que ele foi embora, “quando você me deixou, meu bem, me disse pra ser feliz e passar bem”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380880"/>
            <a:ext cx="358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 não fantasiou que quando ele ouvisse “e tantas águas rolaram, tantos homens me amaram, bem mais e melhor que você” ia imediatamente pensar nela, quem sabe sofreria, quem sabe teria uma crise de ciúmes e pegaria o telefone de madrugada? Quem sabe ... quem sab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7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1828800"/>
            <a:ext cx="25909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476280"/>
            <a:ext cx="3962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 quando ela se “enrolou” toda com a chegada de um namorado que não esperava e ficou repetindo o disco, no trecho que dizia “se na bagunça do teu coração”, para ver se ele entendia que o coração, às vezes, vira mesmo uma verdadeira bagunça, como o dela, naquele momen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828800"/>
            <a:ext cx="266688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33520"/>
            <a:ext cx="3886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Ah, Chico, ah, Roberto; vocês algum dia souberam que tinham sido tão importantes na nossa vida ? Pois fiquem sabendo: fo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Nesse tempo as moças não levavam os namorados para dormir em casa, ou porque tinham pais ou porque tinham filhos; para isso havia os moté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143000"/>
            <a:ext cx="380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 do primeiro a gente nunca esquece ... A cama redonda com cabeceira de curvin, a piscina – uma banheira de 2 x 2 – o som embutido na cabeceira e, sobretudo, o clima, um clima de pecado que as moças da zona sul adorav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1828800"/>
            <a:ext cx="25909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609480"/>
            <a:ext cx="4191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ando Roberto cantava “Amanhã de manhã vou pedir um café pra nós dois, te fazer um carinho e depois te envolver nos meus braços” e ele deixava “o café esfriando na mesa, esquecemos de tudo” e vinha o “pensando bem, amanhã eu não vou trabalhar, e além do mais, temos tantas razões pra ficar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828800"/>
            <a:ext cx="25909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57200"/>
            <a:ext cx="3886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não era preciso dizer nada: era a hora do telefonema para a empregada às 6 da manhã para que ela desmanchasse a cama e dissesse que você saiu cedo para buscar uma amiga no aeroporto, lembra ? Grandes tem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Hoje a gente olha para trás e pens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7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1828800"/>
            <a:ext cx="29718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85800"/>
            <a:ext cx="3353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s essas paixões existiram mesm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m Chico e sem Roberto teriam havido tantas, tão intensas e tão arrebatadora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las a gente até esqueceu, mas não do que se sentia ao ouvir “mas eu estou aqui vivendo este momento lindo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75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44792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E dá para viver momentos lindos hoje, ouvindo os Racionais MC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Pensando bem, o grande combustível de nossos corações foram as canções de Chico e Rob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28195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99072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, olhando para trás, é bem possível que a certeza de que “ se chorei ou se sofri, o importante é que emoções eu vivi ” não existiria sem a música de Rob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i bom demais ter vivido esse t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19640" y="1197000"/>
            <a:ext cx="3657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Copperplate Gothic Bold"/>
              </a:rPr>
              <a:t>edirsf@terra.com.br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19640" y="3429000"/>
            <a:ext cx="3581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Copperplate Gothic Bold"/>
              </a:rPr>
              <a:t>Apresenta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Copperplate Gothic Bold"/>
              <a:ea typeface="Copperplate Gothic Bold"/>
            </a:endParaRPr>
          </a:p>
        </p:txBody>
      </p:sp>
    </p:spTree>
  </p:cSld>
  <p:transition spd="slow" advTm="19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828800"/>
            <a:ext cx="2743200" cy="476892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5877000"/>
            <a:ext cx="4465440" cy="792000"/>
          </a:xfrm>
          <a:custGeom>
            <a:avLst/>
            <a:gdLst>
              <a:gd name="textAreaLeft" fmla="*/ 93240 w 4465440"/>
              <a:gd name="textAreaRight" fmla="*/ 4372200 w 44654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2173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8139" y="21600"/>
                </a:lnTo>
                <a:arcTo wR="3600" hR="3600" stAng="10800000" swAng="5400000"/>
                <a:lnTo>
                  <a:pt x="121739" y="3600"/>
                </a:lnTo>
                <a:arcTo wR="3600" hR="3600" stAng="5400000" swAng="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5943600"/>
            <a:ext cx="4338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VISITE E CONHEÇA TODOS OS SLIDES CRIADOS POR EDIR S. FIGUEIRA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ttp://usuario.sili.com.br/chamon/rides&amp;slides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5105520" y="5181480"/>
            <a:ext cx="160020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Reini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5257800"/>
            <a:ext cx="137160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d45"/>
                </a:solidFill>
                <a:latin typeface="Times New Roman"/>
              </a:rPr>
              <a:t>S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620640"/>
            <a:ext cx="3810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Houve um tempo em que se namorava muito e se pensava que se sofria muito – por amor, cla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As paixões se acendiam, embaladas pelas músicas do momento, que faziam parte integrante de noss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1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762120"/>
            <a:ext cx="3809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ando, numa reunião - havia muitas reuniões nessa época -  , os olhares se cruzavam, enquanto se ouvia “se você quer ser minha namorada, ai que linda namorada você poderia ser”, o coração se derretia e era hora de ir ao banheiro com uma amiga, só para co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990720"/>
            <a:ext cx="3886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ma bebidinha daqui, muitos sorrisinhos dali, e, na décima vez que o disco tocava e chegava no trecho “mas se em vez de minha namorada você quer ser minha amada, mais amada pra valer”, e ele olhava de longe, desta vez sério, o coração só faltava sair pela b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609480"/>
            <a:ext cx="380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Muitos anos e muitos amores depois, foi a vez de Roberto Carlos participar de todos os romances: “Você foi o maior dos meus casos, de todos os abraços, o que eu nunca esqueci” – ah, uma boa dor-de-cotovelo ouvindo Rob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Quem nunca passou por isso não sabe o que é viv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143000"/>
            <a:ext cx="3809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um início de caso – em altíssima voltagem ! – entrava Chico com “”quero ficar no teu corpo como tatuagem” – e quem não quer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, no fim do caso, dava para agüentar “as marcas de amor dos nossos lençóis”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914400"/>
            <a:ext cx="3733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Se ouvia muita música e, a noite, se ia sempre ao mesmo bar, onde um pianista tocava o que se tinha ouvido a tarde inteira; como todos se conheciam e sabiam das vidas uns dos outros, o pianista – Vinhas, quase sempre -  atacava a “nossa” música ... aquela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7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25909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533520"/>
            <a:ext cx="4191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noite prosseguia com os olhos grudados na porta, para ver se ele entr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 entrasse sozinho, era hora de ir ao toalete, não para retocar a maquiagem, mas para respirar fundo e jurar, mas jurar de pés juntos que não ia nem olhar para o lado d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madrugada se encarregava de mudar os pl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54:16Z</dcterms:created>
  <dc:creator>Edir S. Figueira    -    edirsf@terra.com.br</dc:creator>
  <dc:description>Autor texto Danuza Leão  *** Música Carolina de Chico Buarque </dc:description>
  <dc:language>en-US</dc:language>
  <cp:lastModifiedBy>Regina</cp:lastModifiedBy>
  <dcterms:modified xsi:type="dcterms:W3CDTF">2006-11-15T14:26:42Z</dcterms:modified>
  <cp:revision>19</cp:revision>
  <dc:subject/>
  <dc:title>É Lindo</dc:title>
</cp:coreProperties>
</file>