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Richard%20Clayderman-Carolina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7C86-F9B1-4AD6-9EAC-F01478847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1533-FAAC-42A3-B88C-DC9C875A7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8CD6-375C-4E6E-96AC-2CEBFBCEE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3BF3-F2D4-4070-B04C-8E29527DD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3D19-F7D1-419E-9E47-FA929D5E8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10DB-F222-4D1C-B3FE-D26AD999F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DEB0-DD6D-4DD6-B62D-84D072624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76A3-0263-46AC-9244-ED7B5AA0F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8B50-AD27-49CD-AC61-88D6D5562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2B41-B02B-4842-91C8-6BB39FFA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46ED-CDCD-48C0-B7D2-B77142764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4853-F851-483A-8BCD-EC826B72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1F410-90A2-4112-92C5-2B9F086A63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audio" Target="../media/Richard%20Clayderman-Carolina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609480"/>
            <a:ext cx="2819520" cy="5867640"/>
          </a:xfrm>
          <a:prstGeom prst="flowChartDocumen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1219320"/>
            <a:ext cx="2895480" cy="5257800"/>
          </a:xfrm>
          <a:prstGeom prst="flowChartDocument">
            <a:avLst/>
          </a:prstGeom>
          <a:blipFill rotWithShape="0">
            <a:blip r:embed="rId2"/>
            <a:srcRect/>
            <a:stretch/>
          </a:blip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0" y="1828800"/>
            <a:ext cx="2743200" cy="4724280"/>
          </a:xfrm>
          <a:prstGeom prst="flowChartDocument">
            <a:avLst/>
          </a:prstGeom>
          <a:blipFill rotWithShape="0">
            <a:blip r:embed="rId3"/>
            <a:srcRect/>
            <a:stretch/>
          </a:blip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952880" y="304920"/>
            <a:ext cx="38862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ff00"/>
                </a:solidFill>
                <a:latin typeface="Copperplate Gothic Bold"/>
              </a:rPr>
              <a:t>É Lindo</a:t>
            </a:r>
            <a:endParaRPr b="0" lang="en-US" sz="2400" spc="1" strike="noStrike">
              <a:ln w="19080">
                <a:solidFill>
                  <a:srgbClr val="ff9900"/>
                </a:solidFill>
                <a:miter/>
              </a:ln>
              <a:solidFill>
                <a:srgbClr val="ffff00"/>
              </a:solidFill>
              <a:latin typeface="Copperplate Gothic Bold"/>
              <a:ea typeface="Copperplate Gothic Bold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410080" y="2438280"/>
            <a:ext cx="312444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ff00"/>
                </a:solidFill>
                <a:latin typeface="Copperplate Gothic Bold"/>
              </a:rPr>
              <a:t>Danusa Leão</a:t>
            </a:r>
            <a:endParaRPr b="0" lang="en-US" sz="2400" spc="1" strike="noStrike">
              <a:ln w="19080">
                <a:solidFill>
                  <a:srgbClr val="ff9900"/>
                </a:solidFill>
                <a:miter/>
              </a:ln>
              <a:solidFill>
                <a:srgbClr val="ffff00"/>
              </a:solidFill>
              <a:latin typeface="Copperplate Gothic Bold"/>
              <a:ea typeface="Copperplate Gothic Bold"/>
            </a:endParaRPr>
          </a:p>
        </p:txBody>
      </p:sp>
    </p:spTree>
  </p:cSld>
  <p:transition spd="slow" advTm="19000">
    <p:dissolve/>
    <p:sndAc>
      <p:stSnd>
        <p:snd r:embed="rId4" name="Richard%20Clayderman-Carolin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09480" y="609480"/>
            <a:ext cx="2819520" cy="5867640"/>
          </a:xfrm>
          <a:prstGeom prst="flowChartDocumen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71600" y="1219320"/>
            <a:ext cx="2895480" cy="5257800"/>
          </a:xfrm>
          <a:prstGeom prst="flowChartDocument">
            <a:avLst/>
          </a:prstGeom>
          <a:blipFill rotWithShape="0">
            <a:blip r:embed="rId2"/>
            <a:srcRect/>
            <a:stretch/>
          </a:blip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0" y="1828800"/>
            <a:ext cx="2743200" cy="4724280"/>
          </a:xfrm>
          <a:prstGeom prst="flowChartDocument">
            <a:avLst/>
          </a:prstGeom>
          <a:blipFill rotWithShape="0">
            <a:blip r:embed="rId3"/>
            <a:srcRect/>
            <a:stretch/>
          </a:blip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029200" y="360360"/>
            <a:ext cx="38098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Depois, veio “Deixa em paz meu coração, que ele é um pote até aqui de mágoa”. As músicas diziam tudo o que não se tinha coragem de dizer, e era como se falassem por nós. Que mulher não cantou baixinho, depois que ele foi embora, “quando você me deixou, meu bem, me disse pra ser feliz e passar bem”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5000">
    <p:dissolv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2" dur="75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09480" y="609480"/>
            <a:ext cx="2819520" cy="5867640"/>
          </a:xfrm>
          <a:prstGeom prst="flowChartDocumen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371600" y="1219320"/>
            <a:ext cx="2895480" cy="5257800"/>
          </a:xfrm>
          <a:prstGeom prst="flowChartDocument">
            <a:avLst/>
          </a:prstGeom>
          <a:blipFill rotWithShape="0">
            <a:blip r:embed="rId2"/>
            <a:srcRect/>
            <a:stretch/>
          </a:blip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0" y="1828800"/>
            <a:ext cx="2743200" cy="4724280"/>
          </a:xfrm>
          <a:prstGeom prst="flowChartDocument">
            <a:avLst/>
          </a:prstGeom>
          <a:blipFill rotWithShape="0">
            <a:blip r:embed="rId3"/>
            <a:srcRect/>
            <a:stretch/>
          </a:blip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105520" y="380880"/>
            <a:ext cx="35812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 não fantasiou que quando ele ouvisse “e tantas águas rolaram, tantos homens me amaram, bem mais e melhor que você” ia imediatamente pensar nela, quem sabe sofreria, quem sabe teria uma crise de ciúmes e pegaria o telefone de madrugada? Quem sabe ... quem sab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4000">
    <p:dissolv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75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09480" y="609480"/>
            <a:ext cx="2819520" cy="5867640"/>
          </a:xfrm>
          <a:prstGeom prst="flowChartDocumen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1219320"/>
            <a:ext cx="2895480" cy="5257800"/>
          </a:xfrm>
          <a:prstGeom prst="flowChartDocument">
            <a:avLst/>
          </a:prstGeom>
          <a:blipFill rotWithShape="0">
            <a:blip r:embed="rId2"/>
            <a:srcRect/>
            <a:stretch/>
          </a:blip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0" y="1828800"/>
            <a:ext cx="2590920" cy="4724280"/>
          </a:xfrm>
          <a:prstGeom prst="flowChartDocument">
            <a:avLst/>
          </a:prstGeom>
          <a:blipFill rotWithShape="0">
            <a:blip r:embed="rId3"/>
            <a:srcRect/>
            <a:stretch/>
          </a:blip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59280" y="476280"/>
            <a:ext cx="39625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E quando ela se “enrolou” toda com a chegada de um namorado que não esperava e ficou repetindo o disco, no trecho que dizia “se na bagunça do teu coração”, para ver se ele entendia que o coração, às vezes, vira mesmo uma verdadeira bagunça, como o dela, naquele momento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4000">
    <p:dissolv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6" dur="75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09480" y="609480"/>
            <a:ext cx="2819520" cy="5867640"/>
          </a:xfrm>
          <a:prstGeom prst="flowChartDocumen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71600" y="1219320"/>
            <a:ext cx="2895480" cy="5257800"/>
          </a:xfrm>
          <a:prstGeom prst="flowChartDocument">
            <a:avLst/>
          </a:prstGeom>
          <a:blipFill rotWithShape="0">
            <a:blip r:embed="rId2"/>
            <a:srcRect/>
            <a:stretch/>
          </a:blipFill>
          <a:ln w="1908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0" y="1828800"/>
            <a:ext cx="2666880" cy="4724280"/>
          </a:xfrm>
          <a:prstGeom prst="flowChartDocument">
            <a:avLst/>
          </a:prstGeom>
          <a:blipFill rotWithShape="0">
            <a:blip r:embed="rId3"/>
            <a:srcRect/>
            <a:stretch/>
          </a:blipFill>
          <a:ln w="1908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533520"/>
            <a:ext cx="38862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Times New Roman"/>
              </a:rPr>
              <a:t>Ah, Chico, ah, Roberto; vocês algum dia souberam que tinham sido tão importantes na nossa vida ? Pois fiquem sabendo: fo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Times New Roman"/>
              </a:rPr>
              <a:t>Nesse tempo as moças não levavam os namorados para dormir em casa, ou porque tinham pais ou porque tinham filhos; para isso havia os moté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4000">
    <p:dissolv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3" dur="75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09480" y="609480"/>
            <a:ext cx="2819520" cy="5867640"/>
          </a:xfrm>
          <a:prstGeom prst="flowChartDocumen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1219320"/>
            <a:ext cx="2895480" cy="5257800"/>
          </a:xfrm>
          <a:prstGeom prst="flowChartDocument">
            <a:avLst/>
          </a:prstGeom>
          <a:blipFill rotWithShape="0">
            <a:blip r:embed="rId2"/>
            <a:srcRect/>
            <a:stretch/>
          </a:blipFill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0" y="1828800"/>
            <a:ext cx="2743200" cy="4724280"/>
          </a:xfrm>
          <a:prstGeom prst="flowChartDocument">
            <a:avLst/>
          </a:prstGeom>
          <a:blipFill rotWithShape="0">
            <a:blip r:embed="rId3"/>
            <a:srcRect/>
            <a:stretch/>
          </a:blipFill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05520" y="1143000"/>
            <a:ext cx="3809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E do primeiro a gente nunca esquece ... A cama redonda com cabeceira de curvin, a piscina – uma banheira de 2 x 2 – o som embutido na cabeceira e, sobretudo, o clima, um clima de pecado que as moças da zona sul adorav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3000">
    <p:dissolv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0" dur="75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09480" y="609480"/>
            <a:ext cx="2819520" cy="5867640"/>
          </a:xfrm>
          <a:prstGeom prst="flowChartDocumen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71600" y="1219320"/>
            <a:ext cx="2895480" cy="5257800"/>
          </a:xfrm>
          <a:prstGeom prst="flowChartDocument">
            <a:avLst/>
          </a:prstGeom>
          <a:blipFill rotWithShape="0">
            <a:blip r:embed="rId2"/>
            <a:srcRect/>
            <a:stretch/>
          </a:blipFill>
          <a:ln w="1908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0" y="1828800"/>
            <a:ext cx="2590920" cy="4724280"/>
          </a:xfrm>
          <a:prstGeom prst="flowChartDocument">
            <a:avLst/>
          </a:prstGeom>
          <a:blipFill rotWithShape="0">
            <a:blip r:embed="rId3"/>
            <a:srcRect/>
            <a:stretch/>
          </a:blipFill>
          <a:ln w="1908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952880" y="609480"/>
            <a:ext cx="41911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Quando Roberto cantava “Amanhã de manhã vou pedir um café pra nós dois, te fazer um carinho e depois te envolver nos meus braços” e ele deixava “o café esfriando na mesa, esquecemos de tudo” e vinha o “pensando bem, amanhã eu não vou trabalhar, e além do mais, temos tantas razões pra ficar”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6000">
    <p:dissolv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7" dur="75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09480" y="609480"/>
            <a:ext cx="2819520" cy="5867640"/>
          </a:xfrm>
          <a:prstGeom prst="flowChartDocumen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71600" y="1219320"/>
            <a:ext cx="2895480" cy="5257800"/>
          </a:xfrm>
          <a:prstGeom prst="flowChartDocument">
            <a:avLst/>
          </a:prstGeom>
          <a:blipFill rotWithShape="0">
            <a:blip r:embed="rId2"/>
            <a:srcRect/>
            <a:stretch/>
          </a:blip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0" y="1828800"/>
            <a:ext cx="2590920" cy="4724280"/>
          </a:xfrm>
          <a:prstGeom prst="flowChartDocument">
            <a:avLst/>
          </a:prstGeom>
          <a:blipFill rotWithShape="0">
            <a:blip r:embed="rId3"/>
            <a:srcRect/>
            <a:stretch/>
          </a:blip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029200" y="457200"/>
            <a:ext cx="38862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não era preciso dizer nada: era a hora do telefonema para a empregada às 6 da manhã para que ela desmanchasse a cama e dissesse que você saiu cedo para buscar uma amiga no aeroporto, lembra ? Grandes temp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Hoje a gente olha para trás e pensa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4000">
    <p:dissolv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4" dur="75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09480" y="609480"/>
            <a:ext cx="2819520" cy="5867640"/>
          </a:xfrm>
          <a:prstGeom prst="flowChartDocumen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1219320"/>
            <a:ext cx="2895480" cy="5257800"/>
          </a:xfrm>
          <a:prstGeom prst="flowChartDocument">
            <a:avLst/>
          </a:prstGeom>
          <a:blipFill rotWithShape="0">
            <a:blip r:embed="rId2"/>
            <a:srcRect/>
            <a:stretch/>
          </a:blip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0" y="1828800"/>
            <a:ext cx="2971800" cy="4724280"/>
          </a:xfrm>
          <a:prstGeom prst="flowChartDocument">
            <a:avLst/>
          </a:prstGeom>
          <a:blipFill rotWithShape="0">
            <a:blip r:embed="rId3"/>
            <a:srcRect/>
            <a:stretch/>
          </a:blip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410080" y="685800"/>
            <a:ext cx="33530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as essas paixões existiram mesmo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em Chico e sem Roberto teriam havido tantas, tão intensas e tão arrebatadora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elas a gente até esqueceu, mas não do que se sentia ao ouvir “mas eu estou aqui vivendo este momento lindo”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4000">
    <p:dissolv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1" dur="75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09480" y="609480"/>
            <a:ext cx="2819520" cy="5867640"/>
          </a:xfrm>
          <a:prstGeom prst="flowChartDocumen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71600" y="1219320"/>
            <a:ext cx="2895480" cy="5257800"/>
          </a:xfrm>
          <a:prstGeom prst="flowChartDocument">
            <a:avLst/>
          </a:prstGeom>
          <a:blipFill rotWithShape="0">
            <a:blip r:embed="rId2"/>
            <a:srcRect/>
            <a:stretch/>
          </a:blip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0" y="1828800"/>
            <a:ext cx="2743200" cy="4724280"/>
          </a:xfrm>
          <a:prstGeom prst="flowChartDocument">
            <a:avLst/>
          </a:prstGeom>
          <a:blipFill rotWithShape="0">
            <a:blip r:embed="rId3"/>
            <a:srcRect/>
            <a:stretch/>
          </a:blip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81480" y="1447920"/>
            <a:ext cx="3657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E dá para viver momentos lindos hoje, ouvindo os Racionais MC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Pensando bem, o grande combustível de nossos corações foram as canções de Chico e Rober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9000">
    <p:dissolv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8" dur="75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09480" y="609480"/>
            <a:ext cx="2819520" cy="5867640"/>
          </a:xfrm>
          <a:prstGeom prst="flowChartDocumen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1219320"/>
            <a:ext cx="2895480" cy="5257800"/>
          </a:xfrm>
          <a:prstGeom prst="flowChartDocument">
            <a:avLst/>
          </a:prstGeom>
          <a:blipFill rotWithShape="0">
            <a:blip r:embed="rId2"/>
            <a:srcRect/>
            <a:stretch/>
          </a:blipFill>
          <a:ln w="1908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0" y="1828800"/>
            <a:ext cx="2819520" cy="4724280"/>
          </a:xfrm>
          <a:prstGeom prst="flowChartDocument">
            <a:avLst/>
          </a:prstGeom>
          <a:blipFill rotWithShape="0">
            <a:blip r:embed="rId3"/>
            <a:srcRect/>
            <a:stretch/>
          </a:blipFill>
          <a:ln w="1908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990720"/>
            <a:ext cx="3429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E, olhando para trás, é bem possível que a certeza de que “ se chorei ou se sofri, o importante é que emoções eu vivi ” não existiria sem a música de Rober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oi bom demais ter vivido esse temp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2000">
    <p:dissolv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5" dur="75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609480"/>
            <a:ext cx="2819520" cy="5867640"/>
          </a:xfrm>
          <a:prstGeom prst="flowChartDocumen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371600" y="1219320"/>
            <a:ext cx="2895480" cy="5257800"/>
          </a:xfrm>
          <a:prstGeom prst="flowChartDocument">
            <a:avLst/>
          </a:prstGeom>
          <a:blipFill rotWithShape="0">
            <a:blip r:embed="rId2"/>
            <a:srcRect/>
            <a:stretch/>
          </a:blip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0" y="1828800"/>
            <a:ext cx="2743200" cy="4724280"/>
          </a:xfrm>
          <a:prstGeom prst="flowChartDocument">
            <a:avLst/>
          </a:prstGeom>
          <a:blipFill rotWithShape="0">
            <a:blip r:embed="rId3"/>
            <a:srcRect/>
            <a:stretch/>
          </a:blip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219640" y="1197000"/>
            <a:ext cx="36576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ff00"/>
                </a:solidFill>
                <a:latin typeface="Copperplate Gothic Bold"/>
              </a:rPr>
              <a:t>edirsf@terra.com.br</a:t>
            </a:r>
            <a:endParaRPr b="0" lang="en-US" sz="2400" spc="1" strike="noStrike">
              <a:ln w="19080">
                <a:solidFill>
                  <a:srgbClr val="ff9900"/>
                </a:solidFill>
                <a:miter/>
              </a:ln>
              <a:solidFill>
                <a:srgbClr val="ffff00"/>
              </a:solidFill>
              <a:latin typeface="Copperplate Gothic Bold"/>
              <a:ea typeface="Copperplate Gothic Bold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219640" y="3429000"/>
            <a:ext cx="358164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ff00"/>
                </a:solidFill>
                <a:latin typeface="Copperplate Gothic Bold"/>
              </a:rPr>
              <a:t>Apresenta</a:t>
            </a:r>
            <a:endParaRPr b="0" lang="en-US" sz="2400" spc="1" strike="noStrike">
              <a:ln w="19080">
                <a:solidFill>
                  <a:srgbClr val="ff9900"/>
                </a:solidFill>
                <a:miter/>
              </a:ln>
              <a:solidFill>
                <a:srgbClr val="ffff00"/>
              </a:solidFill>
              <a:latin typeface="Copperplate Gothic Bold"/>
              <a:ea typeface="Copperplate Gothic Bold"/>
            </a:endParaRPr>
          </a:p>
        </p:txBody>
      </p:sp>
    </p:spTree>
  </p:cSld>
  <p:transition spd="slow" advTm="19000">
    <p:dissolv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7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609480"/>
            <a:ext cx="2819520" cy="5867640"/>
          </a:xfrm>
          <a:prstGeom prst="flowChartDocumen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" y="1219320"/>
            <a:ext cx="2895480" cy="5257800"/>
          </a:xfrm>
          <a:prstGeom prst="flowChartDocument">
            <a:avLst/>
          </a:prstGeom>
          <a:blipFill rotWithShape="0">
            <a:blip r:embed="rId2"/>
            <a:srcRect/>
            <a:stretch/>
          </a:blip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0" y="1828800"/>
            <a:ext cx="2743200" cy="4768920"/>
          </a:xfrm>
          <a:prstGeom prst="flowChartDocument">
            <a:avLst/>
          </a:prstGeom>
          <a:blipFill rotWithShape="0">
            <a:blip r:embed="rId3"/>
            <a:srcRect/>
            <a:stretch/>
          </a:blip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00720" y="5877000"/>
            <a:ext cx="4465440" cy="792000"/>
          </a:xfrm>
          <a:custGeom>
            <a:avLst/>
            <a:gdLst>
              <a:gd name="textAreaLeft" fmla="*/ 93240 w 4465440"/>
              <a:gd name="textAreaRight" fmla="*/ 4372200 w 4465440"/>
              <a:gd name="textAreaTop" fmla="*/ 93240 h 792000"/>
              <a:gd name="textAreaBottom" fmla="*/ 698760 h 792000"/>
            </a:gdLst>
            <a:ahLst/>
            <a:rect l="textAreaLeft" t="textAreaTop" r="textAreaRight" b="textAreaBottom"/>
            <a:pathLst>
              <a:path w="12173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18139" y="21600"/>
                </a:lnTo>
                <a:arcTo wR="3600" hR="3600" stAng="10800000" swAng="5400000"/>
                <a:lnTo>
                  <a:pt x="121739" y="3600"/>
                </a:lnTo>
                <a:arcTo wR="3600" hR="3600" stAng="5400000" swAng="5400000"/>
                <a:close/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00720" y="5943600"/>
            <a:ext cx="433836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VISITE E CONHEÇA TODOS OS SLIDES CRIADOS POR EDIR S. FIGUEIRA E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http://usuario.sili.com.br/chamon/rides&amp;slides.h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" action="ppaction://hlinkshowjump?jump=firstslide"/>
          </p:cNvPr>
          <p:cNvSpPr/>
          <p:nvPr/>
        </p:nvSpPr>
        <p:spPr>
          <a:xfrm>
            <a:off x="5105520" y="5181480"/>
            <a:ext cx="1600200" cy="4572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Times New Roman"/>
              </a:rPr>
              <a:t>Reinici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467480" y="5257800"/>
            <a:ext cx="1371600" cy="38088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d45"/>
                </a:solidFill>
                <a:latin typeface="Times New Roman"/>
              </a:rPr>
              <a:t>S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45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09480" y="609480"/>
            <a:ext cx="2819520" cy="5867640"/>
          </a:xfrm>
          <a:prstGeom prst="flowChartDocumen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71600" y="1219320"/>
            <a:ext cx="2895480" cy="5257800"/>
          </a:xfrm>
          <a:prstGeom prst="flowChartDocument">
            <a:avLst/>
          </a:prstGeom>
          <a:blipFill rotWithShape="0">
            <a:blip r:embed="rId2"/>
            <a:srcRect/>
            <a:stretch/>
          </a:blipFill>
          <a:ln w="1908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0" y="1828800"/>
            <a:ext cx="2743200" cy="4724280"/>
          </a:xfrm>
          <a:prstGeom prst="flowChartDocument">
            <a:avLst/>
          </a:prstGeom>
          <a:blipFill rotWithShape="0">
            <a:blip r:embed="rId3"/>
            <a:srcRect/>
            <a:stretch/>
          </a:blipFill>
          <a:ln w="1908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076720" y="620640"/>
            <a:ext cx="38102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Times New Roman"/>
              </a:rPr>
              <a:t>Houve um tempo em que se namorava muito e se pensava que se sofria muito – por amor, cla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Times New Roman"/>
              </a:rPr>
              <a:t>As paixões se acendiam, embaladas pelas músicas do momento, que faziam parte integrante de noss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1000">
    <p:dissolv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" dur="75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09480" y="609480"/>
            <a:ext cx="2819520" cy="5867640"/>
          </a:xfrm>
          <a:prstGeom prst="flowChartDocumen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1219320"/>
            <a:ext cx="2895480" cy="5257800"/>
          </a:xfrm>
          <a:prstGeom prst="flowChartDocument">
            <a:avLst/>
          </a:prstGeom>
          <a:blipFill rotWithShape="0">
            <a:blip r:embed="rId2"/>
            <a:srcRect/>
            <a:stretch/>
          </a:blip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0" y="1828800"/>
            <a:ext cx="2743200" cy="4724280"/>
          </a:xfrm>
          <a:prstGeom prst="flowChartDocument">
            <a:avLst/>
          </a:prstGeom>
          <a:blipFill rotWithShape="0">
            <a:blip r:embed="rId3"/>
            <a:srcRect/>
            <a:stretch/>
          </a:blip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029200" y="762120"/>
            <a:ext cx="38098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Quando, numa reunião - havia muitas reuniões nessa época -  , os olhares se cruzavam, enquanto se ouvia “se você quer ser minha namorada, ai que linda namorada você poderia ser”, o coração se derretia e era hora de ir ao banheiro com uma amiga, só para cont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3000">
    <p:dissolv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" dur="75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09480" y="609480"/>
            <a:ext cx="2819520" cy="5867640"/>
          </a:xfrm>
          <a:prstGeom prst="flowChartDocumen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71600" y="1219320"/>
            <a:ext cx="2895480" cy="5257800"/>
          </a:xfrm>
          <a:prstGeom prst="flowChartDocument">
            <a:avLst/>
          </a:prstGeom>
          <a:blipFill rotWithShape="0">
            <a:blip r:embed="rId2"/>
            <a:srcRect/>
            <a:stretch/>
          </a:blip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0" y="1828800"/>
            <a:ext cx="2743200" cy="4724280"/>
          </a:xfrm>
          <a:prstGeom prst="flowChartDocument">
            <a:avLst/>
          </a:prstGeom>
          <a:blipFill rotWithShape="0">
            <a:blip r:embed="rId3"/>
            <a:srcRect/>
            <a:stretch/>
          </a:blip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29200" y="990720"/>
            <a:ext cx="38862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Uma bebidinha daqui, muitos sorrisinhos dali, e, na décima vez que o disco tocava e chegava no trecho “mas se em vez de minha namorada você quer ser minha amada, mais amada pra valer”, e ele olhava de longe, desta vez sério, o coração só faltava sair pela bo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2000">
    <p:dissolv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75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09480" y="609480"/>
            <a:ext cx="2819520" cy="5867640"/>
          </a:xfrm>
          <a:prstGeom prst="flowChartDocumen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371600" y="1219320"/>
            <a:ext cx="2895480" cy="5257800"/>
          </a:xfrm>
          <a:prstGeom prst="flowChartDocument">
            <a:avLst/>
          </a:prstGeom>
          <a:blipFill rotWithShape="0">
            <a:blip r:embed="rId2"/>
            <a:srcRect/>
            <a:stretch/>
          </a:blip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1828800"/>
            <a:ext cx="2743200" cy="4724280"/>
          </a:xfrm>
          <a:prstGeom prst="flowChartDocument">
            <a:avLst/>
          </a:prstGeom>
          <a:blipFill rotWithShape="0">
            <a:blip r:embed="rId3"/>
            <a:srcRect/>
            <a:stretch/>
          </a:blip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29200" y="609480"/>
            <a:ext cx="38098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Muitos anos e muitos amores depois, foi a vez de Roberto Carlos participar de todos os romances: “Você foi o maior dos meus casos, de todos os abraços, o que eu nunca esqueci” – ah, uma boa dor-de-cotovelo ouvindo Rober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Quem nunca passou por isso não sabe o que é viver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3000">
    <p:dissolv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" dur="75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09480" y="609480"/>
            <a:ext cx="2819520" cy="5867640"/>
          </a:xfrm>
          <a:prstGeom prst="flowChartDocumen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371600" y="1219320"/>
            <a:ext cx="2895480" cy="5257800"/>
          </a:xfrm>
          <a:prstGeom prst="flowChartDocument">
            <a:avLst/>
          </a:prstGeom>
          <a:blipFill rotWithShape="0">
            <a:blip r:embed="rId2"/>
            <a:srcRect/>
            <a:stretch/>
          </a:blipFill>
          <a:ln w="1908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0" y="1828800"/>
            <a:ext cx="2743200" cy="4724280"/>
          </a:xfrm>
          <a:prstGeom prst="flowChartDocument">
            <a:avLst/>
          </a:prstGeom>
          <a:blipFill rotWithShape="0">
            <a:blip r:embed="rId3"/>
            <a:srcRect/>
            <a:stretch/>
          </a:blipFill>
          <a:ln w="1908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1143000"/>
            <a:ext cx="3809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Num início de caso – em altíssima voltagem ! – entrava Chico com “”quero ficar no teu corpo como tatuagem” – e quem não queria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E, no fim do caso, dava para agüentar “as marcas de amor dos nossos lençóis”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2000">
    <p:dissolv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1" dur="75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09480" y="609480"/>
            <a:ext cx="2819520" cy="5867640"/>
          </a:xfrm>
          <a:prstGeom prst="flowChartDocumen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1219320"/>
            <a:ext cx="2895480" cy="5257800"/>
          </a:xfrm>
          <a:prstGeom prst="flowChartDocument">
            <a:avLst/>
          </a:prstGeom>
          <a:blipFill rotWithShape="0">
            <a:blip r:embed="rId2"/>
            <a:srcRect/>
            <a:stretch/>
          </a:blipFill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0" y="1828800"/>
            <a:ext cx="2743200" cy="4724280"/>
          </a:xfrm>
          <a:prstGeom prst="flowChartDocument">
            <a:avLst/>
          </a:prstGeom>
          <a:blipFill rotWithShape="0">
            <a:blip r:embed="rId3"/>
            <a:srcRect/>
            <a:stretch/>
          </a:blipFill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105520" y="914400"/>
            <a:ext cx="37335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Times New Roman"/>
              </a:rPr>
              <a:t>Se ouvia muita música e, a noite, se ia sempre ao mesmo bar, onde um pianista tocava o que se tinha ouvido a tarde inteira; como todos se conheciam e sabiam das vidas uns dos outros, o pianista – Vinhas, quase sempre -  atacava a “nossa” música ... aquela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3000">
    <p:dissolv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8" dur="75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609480"/>
            <a:ext cx="2819520" cy="5867640"/>
          </a:xfrm>
          <a:prstGeom prst="flowChartDocumen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71600" y="1219320"/>
            <a:ext cx="2895480" cy="5257800"/>
          </a:xfrm>
          <a:prstGeom prst="flowChartDocument">
            <a:avLst/>
          </a:prstGeom>
          <a:blipFill rotWithShape="0">
            <a:blip r:embed="rId2"/>
            <a:srcRect/>
            <a:stretch/>
          </a:blipFill>
          <a:ln w="1908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0" y="1828800"/>
            <a:ext cx="2590920" cy="4724280"/>
          </a:xfrm>
          <a:prstGeom prst="flowChartDocument">
            <a:avLst/>
          </a:prstGeom>
          <a:blipFill rotWithShape="0">
            <a:blip r:embed="rId3"/>
            <a:srcRect/>
            <a:stretch/>
          </a:blipFill>
          <a:ln w="1908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952880" y="533520"/>
            <a:ext cx="41911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 noite prosseguia com os olhos grudados na porta, para ver se ele entrav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 entrasse sozinho, era hora de ir ao toalete, não para retocar a maquiagem, mas para respirar fundo e jurar, mas jurar de pés juntos que não ia nem olhar para o lado de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 madrugada se encarregava de mudar os plan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4000">
    <p:dissolv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5" dur="75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8:54:16Z</dcterms:created>
  <dc:creator>Edir S. Figueira    -    edirsf@terra.com.br</dc:creator>
  <dc:description>Autor texto Danuza Leão  *** Música Carolina de Chico Buarque </dc:description>
  <dc:language>en-US</dc:language>
  <cp:lastModifiedBy>Regina</cp:lastModifiedBy>
  <dcterms:modified xsi:type="dcterms:W3CDTF">2006-11-15T14:26:42Z</dcterms:modified>
  <cp:revision>19</cp:revision>
  <dc:subject/>
  <dc:title>É Lindo</dc:title>
</cp:coreProperties>
</file>