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Sorri%20-%20Djavan.cut1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71D-2B8C-4E98-8315-08D92062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C21-A209-43A1-8792-9BB8E7B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08C-67FC-4EB3-AD78-42DA8243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33C-684E-44CF-8037-60E9AECF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D80-4C99-4DEA-A8AB-8BA7ED9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E8E-21F1-448C-ABD4-C54D12A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C49-5A43-4C86-9B7B-7A16B38C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56E-4BB7-493A-89B9-00E7BE3A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3D8-5A0D-41B3-883F-91A420F7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7EE-7BC3-4D1F-8518-834D03D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236-3B42-4A7B-9C81-7F55EC64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5A5-337D-4891-AF96-CED18DC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8C46-E5E0-4235-A4E2-2F81B6C681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audio" Target="../media/Sorri%20-%20Djavan.cut1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leticiathompson.net/minhas_mensagens_em_pps.htm" TargetMode="External"/><Relationship Id="rId6" Type="http://schemas.openxmlformats.org/officeDocument/2006/relationships/hyperlink" Target="http://www.leticiathompson.net/minhas_mensagens_em_pps.htm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8600"/>
            <a:ext cx="8686800" cy="6400800"/>
          </a:xfrm>
          <a:custGeom>
            <a:avLst/>
            <a:gdLst>
              <a:gd name="textAreaLeft" fmla="*/ 330840 w 8686800"/>
              <a:gd name="textAreaRight" fmla="*/ 8355960 w 8686800"/>
              <a:gd name="textAreaTop" fmla="*/ 330840 h 6400800"/>
              <a:gd name="textAreaBottom" fmla="*/ 6069960 h 6400800"/>
            </a:gdLst>
            <a:ahLst/>
            <a:rect l="textAreaLeft" t="textAreaTop" r="textAreaRight" b="textAreaBottom"/>
            <a:pathLst>
              <a:path w="29314" h="21600">
                <a:moveTo>
                  <a:pt x="1580" y="0"/>
                </a:moveTo>
                <a:arcTo wR="1580" hR="1580" stAng="0" swAng="5400000"/>
                <a:lnTo>
                  <a:pt x="0" y="20020"/>
                </a:lnTo>
                <a:arcTo wR="1580" hR="1580" stAng="16200000" swAng="5400000"/>
                <a:lnTo>
                  <a:pt x="27734" y="21600"/>
                </a:lnTo>
                <a:arcTo wR="1580" hR="1580" stAng="10800000" swAng="5400000"/>
                <a:lnTo>
                  <a:pt x="29314" y="1580"/>
                </a:lnTo>
                <a:arcTo wR="1580" hR="158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cap="rnd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914400"/>
            <a:ext cx="7267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Copperplate Gothic Bold"/>
              </a:rPr>
              <a:t>Última Lágrima</a:t>
            </a:r>
            <a:endParaRPr b="1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4952880"/>
            <a:ext cx="4762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Copperplate Gothic Bold"/>
              </a:rPr>
              <a:t>Fátima Irene Pinto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randomBar dir="vert"/>
    <p:sndAc>
      <p:stSnd>
        <p:snd r:embed="rId7" name="Sorri%20-%20Djavan.cut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a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60948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Dia haverá, que ao acordar de manhã,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pensarei em outras coisas que não sejam você.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Que não indagarei mais o porquê,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Que terei transcendido esta saudade.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Que não sentirei por você, mais nada,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nem ao menos amiza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b4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16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Dia haverá, que não precisarei mais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saber como você tem passado: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se feliz ou triste, se contente ou amuado.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Que não perguntarei mais de você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a ninguém, porque pouco me importará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se você estiver passando mal ou be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04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20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a4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0948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Dia haverá, que não pedirei mais a Deus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que você me escreva, que me ligue,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me procure ou dê sinal de vida.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Que não abrirei mais as cartas na mesa,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no afã de encontrar uma saída.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Que não precisarei mais lhe contar os detalhes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aqui da minha lid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b4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8580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Dia haverá, que você estará banido da minha mente,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do meu destino, das minhas noites insones.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Que conseguirei olhar as estrelas, sem chorar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e sem gritar seu nome.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Que terei me sobreposto e dizimado este fadário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Na última lágrima,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Na última conta do meu rosá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24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8900"/>
                            </p:stCondLst>
                            <p:childTnLst>
                              <p:par>
                                <p:cTn id="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572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javan – So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676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743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ff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38080" y="5105520"/>
            <a:ext cx="1828800" cy="76176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429000" y="4952880"/>
            <a:ext cx="2209680" cy="106704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6477120" y="5105520"/>
            <a:ext cx="1828800" cy="761760"/>
          </a:xfrm>
          <a:prstGeom prst="flowChartAlternateProcess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25"/>
                            </p:stCondLst>
                            <p:childTnLst>
                              <p:par>
                                <p:cTn id="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825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325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825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325"/>
                            </p:stCondLst>
                            <p:childTnLst>
                              <p:par>
                                <p:cTn id="9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4:47:52Z</dcterms:created>
  <dc:creator>ssoliver@terra.com.br </dc:creator>
  <dc:description/>
  <dc:language>en-US</dc:language>
  <cp:lastModifiedBy>Leticia Thompson</cp:lastModifiedBy>
  <dcterms:modified xsi:type="dcterms:W3CDTF">2004-11-02T20:57:42Z</dcterms:modified>
  <cp:revision>7</cp:revision>
  <dc:subject>PPS</dc:subject>
  <dc:title>Última Lágrima</dc:title>
</cp:coreProperties>
</file>