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Sorri%20-%20Djavan.cut1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01B-B3EF-4A31-92EB-87B121A5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04B-9E3E-4E51-95FF-38302B79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7AB-CB4A-432D-8629-0A9DAFE8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956-1626-4CB2-82CD-3174D6AE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1B7-7992-46D9-B7C0-03E42273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655-D0BF-47E9-9F18-674951F0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81E-2C15-4DF0-B4A7-7A79FEA1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A88-04EA-48E1-B4AE-DCCB0231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6C3-E5A6-486C-950D-594C38BB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763-621F-4233-9FE7-20F06F18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F66-3EE9-466A-A768-46ED7AA1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35B-42F0-40A6-B44A-8FB54644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4DC1-3C8A-4E02-9E39-7063306FDF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audio" Target="../media/Sorri%20-%20Djavan.cut1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hyperlink" Target="http://www.leticiathompson.com/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leticiathompson.net/minhas_mensagens_em_pps.htm" TargetMode="External"/><Relationship Id="rId6" Type="http://schemas.openxmlformats.org/officeDocument/2006/relationships/hyperlink" Target="http://www.leticiathompson.net/minhas_mensagens_em_pps.htm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28600"/>
            <a:ext cx="8686800" cy="6400800"/>
          </a:xfrm>
          <a:custGeom>
            <a:avLst/>
            <a:gdLst>
              <a:gd name="textAreaLeft" fmla="*/ 330840 w 8686800"/>
              <a:gd name="textAreaRight" fmla="*/ 8355960 w 8686800"/>
              <a:gd name="textAreaTop" fmla="*/ 330840 h 6400800"/>
              <a:gd name="textAreaBottom" fmla="*/ 6069960 h 6400800"/>
            </a:gdLst>
            <a:ahLst/>
            <a:rect l="textAreaLeft" t="textAreaTop" r="textAreaRight" b="textAreaBottom"/>
            <a:pathLst>
              <a:path w="29314" h="21600">
                <a:moveTo>
                  <a:pt x="1580" y="0"/>
                </a:moveTo>
                <a:arcTo wR="1580" hR="1580" stAng="0" swAng="5400000"/>
                <a:lnTo>
                  <a:pt x="0" y="20020"/>
                </a:lnTo>
                <a:arcTo wR="1580" hR="1580" stAng="16200000" swAng="5400000"/>
                <a:lnTo>
                  <a:pt x="27734" y="21600"/>
                </a:lnTo>
                <a:arcTo wR="1580" hR="1580" stAng="10800000" swAng="5400000"/>
                <a:lnTo>
                  <a:pt x="29314" y="1580"/>
                </a:lnTo>
                <a:arcTo wR="1580" hR="1580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cap="rnd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914400"/>
            <a:ext cx="7267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Copperplate Gothic Bold"/>
              </a:rPr>
              <a:t>Última Lágrima</a:t>
            </a:r>
            <a:endParaRPr b="1" lang="en-US" sz="7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4952880"/>
            <a:ext cx="4762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Copperplate Gothic Bold"/>
              </a:rPr>
              <a:t>Fátima Irene Pinto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randomBar dir="vert"/>
    <p:sndAc>
      <p:stSnd>
        <p:snd r:embed="rId7" name="Sorri%20-%20Djavan.cut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a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609480"/>
            <a:ext cx="693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Dia haverá, que ao acordar de manhã,</a:t>
            </a:r>
            <a:br>
              <a:rPr sz="3200"/>
            </a:b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pensarei em outras coisas que não sejam você.</a:t>
            </a:r>
            <a:br>
              <a:rPr sz="3200"/>
            </a:b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Que não indagarei mais o porquê,</a:t>
            </a:r>
            <a:br>
              <a:rPr sz="3200"/>
            </a:b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Que terei transcendido esta saudade.</a:t>
            </a:r>
            <a:br>
              <a:rPr sz="3200"/>
            </a:b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Que não sentirei por você, mais nada,</a:t>
            </a:r>
            <a:br>
              <a:rPr sz="3200"/>
            </a:br>
            <a:r>
              <a:rPr b="0" i="1" lang="en-US" sz="3200" spc="-1" strike="noStrike">
                <a:solidFill>
                  <a:srgbClr val="91ae58"/>
                </a:solidFill>
                <a:latin typeface="Lucida Handwriting"/>
                <a:ea typeface="Arial"/>
              </a:rPr>
              <a:t>nem ao menos amiza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b4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162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Dia haverá, que não precisarei mais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saber como você tem passado: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se feliz ou triste, se contente ou amuado.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Que não perguntarei mais de você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a ninguém, porque pouco me importará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se você estiver passando mal ou bem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04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20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a4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0948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Dia haverá, que não pedirei mais a Deus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que você me escreva, que me ligue,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me procure ou dê sinal de vida.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Que não abrirei mais as cartas na mesa,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no afã de encontrar uma saída.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Que não precisarei mais lhe contar os detalhes</a:t>
            </a:r>
            <a:br>
              <a:rPr sz="3200"/>
            </a:br>
            <a:r>
              <a:rPr b="0" i="1" lang="en-US" sz="3200" spc="-1" strike="noStrike">
                <a:solidFill>
                  <a:srgbClr val="88a450"/>
                </a:solidFill>
                <a:latin typeface="Lucida Handwriting"/>
                <a:ea typeface="Arial"/>
              </a:rPr>
              <a:t>aqui da minha lid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b4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685800"/>
            <a:ext cx="784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Dia haverá, que você estará banido da minha mente,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do meu destino, das minhas noites insones.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Que conseguirei olhar as estrelas, sem chorar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e sem gritar seu nome.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Que terei me sobreposto e dizimado este fadário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Na última lágrima,</a:t>
            </a:r>
            <a:br>
              <a:rPr sz="3200"/>
            </a:br>
            <a:r>
              <a:rPr b="0" i="1" lang="en-US" sz="3200" spc="-1" strike="noStrike">
                <a:solidFill>
                  <a:srgbClr val="95b05e"/>
                </a:solidFill>
                <a:latin typeface="Lucida Handwriting"/>
                <a:ea typeface="Arial"/>
              </a:rPr>
              <a:t>Na última conta do meu rosá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24f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8900"/>
                            </p:stCondLst>
                            <p:childTnLst>
                              <p:par>
                                <p:cTn id="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572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javan – Sor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676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7432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ff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38080" y="5105520"/>
            <a:ext cx="1828800" cy="76176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3429000" y="4952880"/>
            <a:ext cx="2209680" cy="106704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endshow"/>
          </p:cNvPr>
          <p:cNvSpPr/>
          <p:nvPr/>
        </p:nvSpPr>
        <p:spPr>
          <a:xfrm>
            <a:off x="6477120" y="5105520"/>
            <a:ext cx="1828800" cy="761760"/>
          </a:xfrm>
          <a:prstGeom prst="flowChartAlternateProcess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25"/>
                            </p:stCondLst>
                            <p:childTnLst>
                              <p:par>
                                <p:cTn id="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825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325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825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325"/>
                            </p:stCondLst>
                            <p:childTnLst>
                              <p:par>
                                <p:cTn id="9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4:47:52Z</dcterms:created>
  <dc:creator>ssoliver@terra.com.br </dc:creator>
  <dc:description/>
  <dc:language>en-US</dc:language>
  <cp:lastModifiedBy>Leticia Thompson</cp:lastModifiedBy>
  <dcterms:modified xsi:type="dcterms:W3CDTF">2004-11-02T20:57:42Z</dcterms:modified>
  <cp:revision>7</cp:revision>
  <dc:subject>PPS</dc:subject>
  <dc:title>Última Lágrima</dc:title>
</cp:coreProperties>
</file>