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Albinoni%20Adagio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138-E350-4E0E-8967-264348F7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048-3874-415F-9DD1-055CFBD8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620-B857-4921-B420-BB12B1A9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BA2-855C-41E9-85F8-67A6B6C2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527-22E2-4151-8B6C-92C123C9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5F4-2AFD-46EF-9B1E-3DC0E52A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498-D3A3-430A-BBFC-2369C25D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569-04C6-4FE4-96BE-B92BC22F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B3B-A684-466E-9905-EDB27ABD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5B2-A503-4EA2-922C-34C5397D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11B-6E14-46C2-BD79-DF29E7FF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52C-4685-411A-8996-BCB23211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E6B7-37AE-43EA-9E24-377F1903A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lbinoni%20Adagio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esus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349000"/>
            <a:ext cx="727236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stas são fotografias de esculturas em metal da crucificação de Jesus Cri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s esculturas  estão em Amarillo, Tex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s cruzes também são feitas em me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O homem que as fez, o fez por devo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A terra onde se encontra esta obra foi doada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  <p:sndAc>
      <p:stSnd>
        <p:snd r:embed="rId1" name="Albinoni%20Adagi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m é Jesus Cris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92360" y="1125000"/>
            <a:ext cx="57592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 Química, Ele transformou água em vinh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 biologia, Ele nasceu sem ter tido uma concepção norm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 física, Ele superou a gravidade quando Ele Ascendeu ao céu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 economia, Ele subverteu a lei dos rendimentos decrescentes ao alimentar 5000 pessoas com dois peixes e 5 pã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92360" y="863640"/>
            <a:ext cx="575928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m medicina, Ele curou os doentes e os cegos sem administrar absolutamente nenhum reméd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m, história, Ele é  O começo e O fim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m direito, Ele disse que deveria ser chamado  de Filho do Pai, Príncipe da Paz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Em religião, Ele disse quem ninguém chega ao Pai  sem não for através dE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m é Jesus Cris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75840" y="1268280"/>
            <a:ext cx="6589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nte-se a mim e vamos celebrá-lo Ele vale o esforç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s olhos que lêem esta mensagem não verão o m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mãos que enviarem esta mensagem a todos, não terão agido em vã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os lábios que disserem amem a esta oração sorrirão para semp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maneça em Deus e procure sua face semp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m Deus achamos Tud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2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20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m é Jesus Cris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727280" y="1123920"/>
            <a:ext cx="5688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 maior homem da histó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esus não tinha servos, ainda assim O chamavam de Mest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ão tinha escolaridade, ainda assim O chamavam de Profess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ão tinha remédios, ainda assim O chamavam de Curad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ão tinha exércitos, ainda assim reis O temi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 não venceu batalhas militares, ainda assim conquistou o mund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92360" y="1052640"/>
            <a:ext cx="57592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Ele não cometeu crime, ainda assim crucificaram-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Ele foi enterrado em uma tumba, ainda assim Ele vive ho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Sinto-me honrado de servir um líder que nos a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Eu creio em Deus e em Jesus Cristo seu fil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Arial"/>
              </a:rPr>
              <a:t>Envie esta mensagem a todos que você quer b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Arial"/>
              </a:rPr>
              <a:t>Não  a ignore; lembre-se que Jesus diss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i="1" lang="pt-BR" sz="2000" spc="-1" strike="noStrike">
                <a:solidFill>
                  <a:srgbClr val="ffff00"/>
                </a:solidFill>
                <a:latin typeface="Arial"/>
              </a:rPr>
              <a:t>Se você me negar diante dos homens, Eu negarei você diante do Pai no céu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6:51:19Z</dcterms:created>
  <dc:creator>Matriz</dc:creator>
  <dc:description/>
  <dc:language>en-US</dc:language>
  <cp:lastModifiedBy>Elio Fernandes</cp:lastModifiedBy>
  <dcterms:modified xsi:type="dcterms:W3CDTF">2008-04-15T01:42:12Z</dcterms:modified>
  <cp:revision>9</cp:revision>
  <dc:subject/>
  <dc:title>Slide 1</dc:title>
</cp:coreProperties>
</file>