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Albinoni%20Adagio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43F-7792-4886-8DC6-409F1D4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157-9294-41D0-AE16-142DC61B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C34-FD3E-4CF8-9234-7BE3D6F8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F8F-E738-428C-BD5C-8E5FF325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B0F-9FD5-4B6D-8E32-A3DC85E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D85-8BAF-42DE-B197-2930E98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D6C-9FD9-4653-BF6F-62CEDA96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097-A07A-4F78-BAE7-7CB2D0A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8F5-3AD0-4F3B-AB93-EE1DB30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63F-4985-4017-A3D0-2D9C1D3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BD9-66E4-4472-8839-F0B4B48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3F4-D73D-49C5-B2DB-37109E2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D85-0A0D-4552-B6A5-BAB2BF852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binoni%20Adagi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esus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727236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as são fotografias de esculturas em metal da crucificação de Jesus Cr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s esculturas  estão em Amarillo, Tex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s cruzes também são feitas em me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homem que as fez, o fez por devo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terra onde se encontra esta obra foi doad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  <p:sndAc>
      <p:stSnd>
        <p:snd r:embed="rId1" name="Albinoni%20Adagi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92360" y="1125000"/>
            <a:ext cx="575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Química, Ele transformou água em vin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biologia, Ele nasceu sem ter tido uma concepção norm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física, Ele superou a gravidade quando Ele Ascendeu ao cé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economia, Ele subverteu a lei dos rendimentos decrescentes ao alimentar 5000 pessoas com dois peixes e 5 pã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92360" y="863640"/>
            <a:ext cx="575928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medicina, Ele curou os doentes e os cegos sem administrar absolutamente nenhum reméd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, história, Ele é  O começo e O fi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direito, Ele disse que deveria ser chamado  de Filho do Pai, Príncipe da Pa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religião, Ele disse quem ninguém chega ao Pai  sem não for através d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75840" y="1268280"/>
            <a:ext cx="6589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nte-se a mim e vamos celebrá-lo Ele vale o esforç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s olhos que lêem esta mensagem não verão o 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mãos que enviarem esta mensagem a todos, não terão agido em v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os lábios que disserem amem a esta oração sorrirão para semp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maneça em Deus e procure sua face semp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m Deus achamos Tud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27280" y="1123920"/>
            <a:ext cx="5688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 maior homem da hist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sus não tinha servos, ainda assim O chamavam de Mest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escolaridade, ainda assim O chamavam de Prof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remédios, ainda assim O chamavam de Cura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exércitos, ainda assim reis O temi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 não venceu batalhas militares, ainda assim conquistou o mund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92360" y="1052640"/>
            <a:ext cx="57592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le não cometeu crime, ainda assim crucificaram-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le foi enterrado em uma tumba, ainda assim Ele vive h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Sinto-me honrado de servir um líder que nos a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u creio em Deus e em Jesus Cristo seu fi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Arial"/>
              </a:rPr>
              <a:t>Envie esta mensagem a todos que você quer b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Arial"/>
              </a:rPr>
              <a:t>Não  a ignore; lembre-se que Jesus dis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Se você me negar diante dos homens, Eu negarei você diante do Pai no céu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51:19Z</dcterms:created>
  <dc:creator>Matriz</dc:creator>
  <dc:description/>
  <dc:language>en-US</dc:language>
  <cp:lastModifiedBy>Elio Fernandes</cp:lastModifiedBy>
  <dcterms:modified xsi:type="dcterms:W3CDTF">2008-04-15T01:42:12Z</dcterms:modified>
  <cp:revision>9</cp:revision>
  <dc:subject/>
  <dc:title>Slide 1</dc:title>
</cp:coreProperties>
</file>