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When%20I%20fall%20in%20love%20%20-%20Nat%20King%20Col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When%20I%20fall%20in%20love%20%20-%20Nat%20King%20Col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-395280" y="4232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395280" y="907920"/>
            <a:ext cx="7962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OS GESTOS TAMBÉM FALAM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862360" y="4495680"/>
            <a:ext cx="341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90720" y="4842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37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80600" y="1479600"/>
            <a:ext cx="633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Texto: </a:t>
            </a: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Letícia Thompson </a:t>
            </a: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– Os gestos também fa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Música: Nat King Cole – When I Fall in L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bethnorling@globo.com</a:t>
            </a: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90720" y="2327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94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040" y="3048120"/>
            <a:ext cx="832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ando as palavras calam, os gestos fal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ivemos às vezes situações em que as palavras parecem desaparecer do nosso vocabulário. Elas ficam todas emboladas no nosso estômago, sobem até a garganta e não sabemos, não temos idéia de como colocá-las para f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90720" y="2327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156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0303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ão muitas vezes quando nossos amigos mais precisam de nós. E, justamente, é aí que encontramos essa barreira. Não sabemos o que dizer, não temos explicação aceitável para o sofrimento, temos medo de falar algo que não devemos e nos cal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90720" y="3165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81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9080" y="649440"/>
            <a:ext cx="84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hamos com facilidade palavras, repetidas e gastas mesmo na maioria das vezes, para expressar nossa alegria, nosso desejo de felicidade ao outro e não nos importamos se alguém já disse ou não. Pegamos emprestadas essas frases corriqueiras e fazemos delas nossa mensagem. E nossos amigos recebem isso de coração aberto, sorriso estampado, porque eles fazem também uso disso. É de praxe, é normal, é gentil, é nobre. É milhões de vezes melhor que o esquec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90720" y="3165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106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360" y="725400"/>
            <a:ext cx="82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ssa grande dificuldade é expressar em palavras de consolo quando nós mesmos temos um coração moído pela dor de ver o sofrimento do outro e termos a consciência de que nada podemos fazer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90720" y="3394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040" y="346860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ai  passar, sabemos disso, pois todas as dores passam, como passam as noites de lua e os dias de s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da é estável e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90720" y="4842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8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080" y="954000"/>
            <a:ext cx="855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queríamos tanto encontrar as palavras exatas que amenizasse o sofrimento, que trouxesse consolo imediato, que anestesiasse ou curasse de vez! E lá, nesse exato instante, as palavras morr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s eis um segredo que só os anjos conhecem: os gestos fal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90720" y="4842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040" y="573120"/>
            <a:ext cx="855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lores falam muito. Um beijo fala. Um afago fala de voz doce e suave. Uma presença, mesmo calada, fala demais. Um abraço fala muito alto. Um olhar sincero diz tanto! Uma mão que segura outra mão fala como várias bocas e centenas de coraçõ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ando as palavras se recusarem a sair de você, fale com gestos. O outro compreende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90720" y="4842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37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2200" y="1000080"/>
            <a:ext cx="81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ja você o anjo calado que vai trazer um lenço e vai ficar do lado para o outro se sentir menos sozinho. Dar de si vale mais que todas as palavras do dicionário juntas. E nesses instantes, Deus se cala também. Ele se contenta, como nós, de olhar com ternura e Ele sente prazer em nó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0:37:36Z</dcterms:created>
  <dc:creator>Beth Norling</dc:creator>
  <dc:description/>
  <dc:language>en-US</dc:language>
  <cp:lastModifiedBy>Beth Norling</cp:lastModifiedBy>
  <dcterms:modified xsi:type="dcterms:W3CDTF">2007-02-28T19:09:48Z</dcterms:modified>
  <cp:revision>27</cp:revision>
  <dc:subject/>
  <dc:title>Os_gestos_tambem_falam</dc:title>
</cp:coreProperties>
</file>