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BF0-2BDB-4DC6-AAF2-184A650A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0AB-9BE8-4B3C-B083-A02AE0A5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DA6-EDF9-4E7E-AB7E-43FEE048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C18-88FA-4095-86AB-439118E3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75E0-9896-40C0-A1F8-8D9958D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A42A-A810-43BB-A819-E57585F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976-4305-41F2-A165-2545A69C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1D8-A00A-4DAB-A15E-3D3EB7DF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930-5DA7-46E8-AC82-4D4641C5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E7D-9E55-40C3-AB88-3B76C23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8892-2F71-446E-BCCC-08F57F4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A50-1F53-4E93-A8CB-6E9F4F7F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616-0E8B-481F-98BA-983556A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A66D-1D2F-413E-9D5D-B2D21CA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0B8D-27B5-464A-A276-4F348A3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41FE-8873-418F-A94A-491328F0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9C0-D416-45E9-A0BA-7762EB3C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01A-1616-445B-B434-7B53173E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73B-DE2F-43E6-86C7-6967302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CFD-DFE5-4581-A51D-C005BAA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99D-CF29-4E73-8CC4-2B17FB7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8A0-FC51-404A-B8A9-BBDF04C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DC7-8D03-420B-8DA3-6217005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1EB-9E4A-41C6-8358-3B4203B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E072-63E4-4D86-A941-EAADFB7B7A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4C99-A654-46E8-940E-50ED8B5776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ESTE DE PERSONALIDADE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IBETANO 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O que escreveres ser-te-á necessário. Este questionário dirá bastante àcerca de ti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Dá uma resposta para cada i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A primeira coisa que te ocorrer é, provávelmente, a melhor resposta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Lembra-te: só tu vês tudo isto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1) Põe os seguintes 5 animais pela ordem da tua preferência: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Vaca, Tigre, Ovelha, Cavalo, Porc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2) Escreve uma palavra que descreva cada um dos seguintes: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Cão, Gato, Rato, Café, Mar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3) Pensa em alguèm, que também te conheça e seja importante para ti, que possas relacionar com as seguintes core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Não repitas as respost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Apenas uma pessoa para cada co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4) Finalmente, escreve o teu número favorito e o teu dia da semana preferido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Por favor, certifica-t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que as respostas são as que tu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5f5f5f"/>
                </a:solidFill>
                <a:uFillTx/>
                <a:latin typeface="Book Antiqua"/>
              </a:rPr>
              <a:t>REALMENTE QUERES</a:t>
            </a: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Book Antiqua"/>
              </a:rPr>
              <a:t>TERMINADO ?</a:t>
            </a:r>
            <a:endParaRPr b="0" lang="en-US" sz="4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8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Repara nas interpretações seguintes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Mas, antes de continuares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5f5f5f"/>
                </a:solidFill>
                <a:uFillTx/>
                <a:latin typeface="Book Antiqua"/>
              </a:rPr>
              <a:t>REPETE o teu desejo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RESPOSTAS: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Definições das tuas prioridades na vida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Vaca significa CARREIR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Tigre significa ORGULH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Ovelha significa AMOR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Cavalo significa FAMILI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Porco significa DINHEIR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Book Antiqua"/>
              </a:rPr>
              <a:t>(1) </a:t>
            </a:r>
            <a:endParaRPr b="0" lang="en-US" sz="4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94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94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94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4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94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72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ão implica a tua própria personalidad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gato a descrição do teu p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rato, a personalidade dos teus inimigo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afé significa a maneira como vez o sexo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mar significa o modo como vês a tua própri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2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Gasta um pouco do tempo com este teste e ficarás surpreendid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 : Alguém que nunca esquecerá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 : Alguém que consideras um verdadeiro amigo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 : Alguém que amas de verdad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 : A tua alma gémea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 : Alguém que lembrarás até ao fim d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3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Deves mandar esta mensagem para tantas pessoas quantas o teu número favorito e o teu desejo será satisfeito no dia que referist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Isto disse o Dalai Lama àcerca do Milénio – gasta apenas uns minutos para o ler o pens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4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3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Não apagues esta mensagem, o mantra sair-te-às das mãos nas próximas 96 horas. Terás uma surpresa muito agradável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credita nisto, mesmo que não sejas supersticioso. Faz isto e acharás que é fascinante.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MANDA ESTE MANTRA POR E-MAIL PARA, PELO MENOS, CINCO PESSOAS E A TUA VIDA MELHORARÁ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0-4 pessoas: A vida melhora levement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5-9 pessoas: A tua vida melhora quanto quisere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9-14 pessoas: Terás pelo menos cinco surpresas nas próximas três seman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15 ou mais pessoas: A tua vida melhorará drásticamente e obterás tudo o que deseja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O Dalai Lama sugere que o leias e vejas como se aplica a ti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6666"/>
                </a:solidFill>
                <a:latin typeface="Book Antiqua"/>
              </a:rPr>
              <a:t>Muito Interessante.</a:t>
            </a:r>
            <a:endParaRPr b="0" lang="en-US" sz="58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Apenas 4 pergunta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e as respostas irã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surpreender-t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Sê honesto e não tentes ver as respostas antecipadamen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A mente é como um paraquedas, funciona melhor quando abert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Isto é interessante mas terás que seguir as instruções à risc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Não faças batot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Book Antiqua"/>
              </a:rPr>
              <a:t>AVISO ! !</a:t>
            </a:r>
            <a:endParaRPr b="0" lang="en-US" sz="5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6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7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 u="sng">
                <a:solidFill>
                  <a:srgbClr val="5f5f5f"/>
                </a:solidFill>
                <a:uFillTx/>
                <a:latin typeface="Book Antiqua"/>
              </a:rPr>
              <a:t>PEDE UM DESEJO</a:t>
            </a:r>
            <a:r>
              <a:rPr b="0" lang="en-GB" sz="6000" spc="-1" strike="noStrike">
                <a:solidFill>
                  <a:srgbClr val="5f5f5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NTES DE COMEÇARES O TESTE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Responde às perguntas à medida que forem aparecendo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Só há 4 perguntas e se as vires antes de tempo não terás respostas honestas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66"/>
                </a:solidFill>
                <a:latin typeface="Book Antiqua"/>
              </a:rPr>
              <a:t>Atenção!</a:t>
            </a:r>
            <a:endParaRPr b="0" lang="en-US" sz="6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f5f5f"/>
                </a:solidFill>
                <a:latin typeface="Book Antiqua"/>
              </a:rPr>
              <a:t>Vai devagar e completa cada exercicio à medida que vai aparecend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Não tenhas pressa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rranja papel e lápis para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escreveres as tuas respostas à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medida que as fores dand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8:09:57Z</dcterms:created>
  <dc:creator>mahmoodj</dc:creator>
  <dc:description/>
  <dc:language>en-US</dc:language>
  <cp:lastModifiedBy>António Soares</cp:lastModifiedBy>
  <dcterms:modified xsi:type="dcterms:W3CDTF">2005-06-23T15:22:31Z</dcterms:modified>
  <cp:revision>13</cp:revision>
  <dc:subject/>
  <dc:title>TIBETAN PERSONALITY TEST </dc:title>
</cp:coreProperties>
</file>