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0B0-182A-4155-BB86-C1D70EA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15A-25AA-4906-805D-DDA307B6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C00-7CB8-48DC-805B-6CAD9337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5F0-B189-4FFE-B838-EF1A847B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4CE3-DD34-484B-869D-22191EF2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5CF-A29B-427D-A8BB-7748070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93DA-CBDE-4511-BDC0-863CA79F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E0B8-C476-480F-B9DC-18776E7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CC81-2ECD-4489-98DD-2D87B20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D63-5B51-4DDB-B7BE-EE8A29A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5F4-08B1-4A91-993F-C11DE0E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D58-E829-453C-9634-339ECD0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C1BC-DE4D-413D-AD6F-93B3E60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A73-F4F7-4F35-802C-25AD303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A22-558E-4985-8990-326522D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2E12-974E-4571-B2FE-0EEFE69E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C236-3E1B-4B8B-8517-65F75D8C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2DF-F607-4493-BB2A-DE5EA99C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136-1F49-4E0A-9CC8-CE7AC51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654-1849-46BC-8C72-9F1D9AFE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964-00CC-4441-B6A9-2B7F492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242-E234-46CF-A848-2B21317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084-665C-468D-9133-07421EC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93D-EBE2-4450-91C5-25641FE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5C2-FC52-45C9-AC4B-885C5F2B8D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044-7326-4BE6-A53D-D51CA726F8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ESTE DE PERSONALIDADE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IBETANO 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O que escreveres ser-te-á necessário. Este questionário dirá bastante àcerca de ti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Dá uma resposta para cada i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A primeira coisa que te ocorrer é, provávelmente, a melhor resposta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Lembra-te: só tu vês tudo isto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1) Põe os seguintes 5 animais pela ordem da tua preferência: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Vaca, Tigre, Ovelha, Cavalo, Porc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2) Escreve uma palavra que descreva cada um dos seguintes: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Cão, Gato, Rato, Café, Mar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3) Pensa em alguèm, que também te conheça e seja importante para ti, que possas relacionar com as seguintes core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Não repitas as respost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Apenas uma pessoa para cada co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4) Finalmente, escreve o teu número favorito e o teu dia da semana preferido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Por favor, certifica-t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que as respostas são as que tu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5f5f5f"/>
                </a:solidFill>
                <a:uFillTx/>
                <a:latin typeface="Book Antiqua"/>
              </a:rPr>
              <a:t>REALMENTE QUERES</a:t>
            </a: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Book Antiqua"/>
              </a:rPr>
              <a:t>TERMINADO ?</a:t>
            </a:r>
            <a:endParaRPr b="0" lang="en-US" sz="4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8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Repara nas interpretações seguintes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Mas, antes de continuares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5f5f5f"/>
                </a:solidFill>
                <a:uFillTx/>
                <a:latin typeface="Book Antiqua"/>
              </a:rPr>
              <a:t>REPETE o teu desejo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RESPOSTAS: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Definições das tuas prioridades na vida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Vaca significa CARREIR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Tigre significa ORGULH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Ovelha significa AMOR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Cavalo significa FAMILI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Porco significa DINHEIR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Book Antiqua"/>
              </a:rPr>
              <a:t>(1) </a:t>
            </a:r>
            <a:endParaRPr b="0" lang="en-US" sz="4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94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94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94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4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94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72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ão implica a tua própria personalidad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gato a descrição do teu p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rato, a personalidade dos teus inimigo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afé significa a maneira como vez o sexo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mar significa o modo como vês a tua própri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2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Gasta um pouco do tempo com este teste e ficarás surpreendid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 : Alguém que nunca esquecerá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 : Alguém que consideras um verdadeiro amigo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 : Alguém que amas de verdad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 : A tua alma gémea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 : Alguém que lembrarás até ao fim d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3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Deves mandar esta mensagem para tantas pessoas quantas o teu número favorito e o teu desejo será satisfeito no dia que referist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Isto disse o Dalai Lama àcerca do Milénio – gasta apenas uns minutos para o ler o pens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4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3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Não apagues esta mensagem, o mantra sair-te-às das mãos nas próximas 96 horas. Terás uma surpresa muito agradável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credita nisto, mesmo que não sejas supersticioso. Faz isto e acharás que é fascinante.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MANDA ESTE MANTRA POR E-MAIL PARA, PELO MENOS, CINCO PESSOAS E A TUA VIDA MELHORARÁ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0-4 pessoas: A vida melhora levement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5-9 pessoas: A tua vida melhora quanto quisere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9-14 pessoas: Terás pelo menos cinco surpresas nas próximas três seman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15 ou mais pessoas: A tua vida melhorará drásticamente e obterás tudo o que deseja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O Dalai Lama sugere que o leias e vejas como se aplica a ti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6666"/>
                </a:solidFill>
                <a:latin typeface="Book Antiqua"/>
              </a:rPr>
              <a:t>Muito Interessante.</a:t>
            </a:r>
            <a:endParaRPr b="0" lang="en-US" sz="58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Apenas 4 pergunta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e as respostas irã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surpreender-t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Sê honesto e não tentes ver as respostas antecipadamen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A mente é como um paraquedas, funciona melhor quando abert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Isto é interessante mas terás que seguir as instruções à risc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Não faças batot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Book Antiqua"/>
              </a:rPr>
              <a:t>AVISO ! !</a:t>
            </a:r>
            <a:endParaRPr b="0" lang="en-US" sz="5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6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7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 u="sng">
                <a:solidFill>
                  <a:srgbClr val="5f5f5f"/>
                </a:solidFill>
                <a:uFillTx/>
                <a:latin typeface="Book Antiqua"/>
              </a:rPr>
              <a:t>PEDE UM DESEJO</a:t>
            </a:r>
            <a:r>
              <a:rPr b="0" lang="en-GB" sz="6000" spc="-1" strike="noStrike">
                <a:solidFill>
                  <a:srgbClr val="5f5f5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NTES DE COMEÇARES O TESTE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Responde às perguntas à medida que forem aparecendo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Só há 4 perguntas e se as vires antes de tempo não terás respostas honestas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66"/>
                </a:solidFill>
                <a:latin typeface="Book Antiqua"/>
              </a:rPr>
              <a:t>Atenção!</a:t>
            </a:r>
            <a:endParaRPr b="0" lang="en-US" sz="6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f5f5f"/>
                </a:solidFill>
                <a:latin typeface="Book Antiqua"/>
              </a:rPr>
              <a:t>Vai devagar e completa cada exercicio à medida que vai aparecend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Não tenhas pressa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rranja papel e lápis para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escreveres as tuas respostas à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medida que as fores dand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8:09:57Z</dcterms:created>
  <dc:creator>mahmoodj</dc:creator>
  <dc:description/>
  <dc:language>en-US</dc:language>
  <cp:lastModifiedBy>António Soares</cp:lastModifiedBy>
  <dcterms:modified xsi:type="dcterms:W3CDTF">2005-06-23T15:22:31Z</dcterms:modified>
  <cp:revision>13</cp:revision>
  <dc:subject/>
  <dc:title>TIBETAN PERSONALITY TEST </dc:title>
</cp:coreProperties>
</file>