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eline%20-%20Dion%20-%20Happy%20Chrixsma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bHalfFrame"/>
          <p:cNvSpPr/>
          <p:nvPr/>
        </p:nvSpPr>
        <p:spPr>
          <a:xfrm>
            <a:off x="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ubHalfFrame"/>
          <p:cNvSpPr/>
          <p:nvPr/>
        </p:nvSpPr>
        <p:spPr>
          <a:xfrm rot="5400000">
            <a:off x="7315200" y="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ubHalfFrame"/>
          <p:cNvSpPr/>
          <p:nvPr/>
        </p:nvSpPr>
        <p:spPr>
          <a:xfrm rot="10800000">
            <a:off x="731520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ubHalfFrame"/>
          <p:cNvSpPr/>
          <p:nvPr/>
        </p:nvSpPr>
        <p:spPr>
          <a:xfrm rot="16200000">
            <a:off x="0" y="50292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noFill/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217000" y="6613560"/>
            <a:ext cx="92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800" spc="-1" strike="noStrike">
                <a:solidFill>
                  <a:srgbClr val="ffffff"/>
                </a:solidFill>
                <a:latin typeface="Arial"/>
              </a:rPr>
              <a:t>Colacio.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eline%20-%20Dion%20-%20Happy%20Chrixsmas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1413000"/>
            <a:ext cx="7272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00"/>
                </a:solidFill>
                <a:latin typeface="바탕"/>
              </a:rPr>
              <a:t>COLACIO. J  SLID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00"/>
                </a:solidFill>
                <a:latin typeface="바탕"/>
              </a:rPr>
              <a:t>APRESENT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6020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76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바탕"/>
              </a:rPr>
              <a:t>Rolagem automática dos slid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l"/>
    <p:sndAc>
      <p:stSnd>
        <p:snd r:embed="rId2" name="Celine%20-%20Dion%20-%20Happy%20Chrixsm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341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바탕"/>
              </a:rPr>
              <a:t>Natal Chegando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6445440"/>
            <a:ext cx="59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바탕"/>
              </a:rPr>
              <a:t>Texto de: </a:t>
            </a:r>
            <a:r>
              <a:rPr b="1" lang="pt-BR" sz="2400" spc="-1" strike="noStrike">
                <a:solidFill>
                  <a:srgbClr val="ffffff"/>
                </a:solidFill>
                <a:latin typeface="바탕"/>
              </a:rPr>
              <a:t>Ilze Soa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1266480"/>
            <a:ext cx="273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Por incrível que pareça,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o Natal está chegando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Comecemos, pois,    a nos preparar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em belos presentes pensando..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220760"/>
            <a:ext cx="23763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Papai Noel possa    nos da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aquilo que mais desejamo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a paz possa chegar a todos os corações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31320"/>
            <a:ext cx="212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nenhuma criança morra de fome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nenhum idoso seja abandonado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não existam mais balas perdidas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1026360"/>
            <a:ext cx="251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as esperanças         sejam resgatadas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os dirigentes tenha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Responsabil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e que todos pratiquem a carida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1171800"/>
            <a:ext cx="259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Que a violência seja esqueci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as amizades reatadas,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e todos usem      a bon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바탕"/>
              </a:rPr>
              <a:t>como verdadeiros cristã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03280"/>
            <a:ext cx="237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Que estes presentes possam pela Terra serem espalhado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germinando em cada coração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trazendo a paz e  a felicidade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바탕"/>
              </a:rPr>
              <a:t>que sempre sonhamos!</a:t>
            </a:r>
            <a:r>
              <a:rPr b="0" lang="pt-BR" sz="20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413000"/>
            <a:ext cx="748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rédit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 de: Ilze So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úsica: Happy Chrixsmas - CelineD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agem: Gettyimag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esentação: Colacio.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to: colacio.j@ig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/12/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2160" y="649116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바탕"/>
              </a:rPr>
              <a:t>http://www.ilzesoares.recantodasletras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49:13Z</dcterms:created>
  <dc:creator>Colacio.j Slides</dc:creator>
  <dc:description>Texto de: Ilze Soares 
Música: Happy Chrixsmas - CelineDion
Imagem: Gettyimages.com
Apresentação: Colacio.j
Contato: colacio.j@ig.com.br
14/12/2010
</dc:description>
  <dc:language>en-US</dc:language>
  <cp:lastModifiedBy>terminal</cp:lastModifiedBy>
  <dcterms:modified xsi:type="dcterms:W3CDTF">2010-12-14T11:38:54Z</dcterms:modified>
  <cp:revision>26</cp:revision>
  <dc:subject>Apresentação slides</dc:subject>
  <dc:title>Natal Chegando - Ilze Soares</dc:title>
</cp:coreProperties>
</file>