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Amazing%20grace%20solo%20feminino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tretch/>
        </p:blipFill>
        <p:spPr>
          <a:xfrm>
            <a:off x="2771640" y="0"/>
            <a:ext cx="3743640" cy="3808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5"/>
          <a:stretch/>
        </p:blipFill>
        <p:spPr>
          <a:xfrm rot="16200000">
            <a:off x="-1680840" y="3165480"/>
            <a:ext cx="3743280" cy="3808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6"/>
          <a:stretch/>
        </p:blipFill>
        <p:spPr>
          <a:xfrm>
            <a:off x="2987640" y="6477120"/>
            <a:ext cx="3743280" cy="3808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7"/>
          <a:stretch/>
        </p:blipFill>
        <p:spPr>
          <a:xfrm rot="16200000">
            <a:off x="7081920" y="3381480"/>
            <a:ext cx="3743280" cy="3808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028000" y="645336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olacio.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mazing%20grace%20solo%20feminino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000" y="3429000"/>
            <a:ext cx="7272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LACIO. J 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PRES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949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7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lagem automática dos sl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  <p:sndAc>
      <p:stSnd>
        <p:snd r:embed="rId2" name="Amazing%20grace%20solo%20feminino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63400" y="4075920"/>
            <a:ext cx="491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Nas Mãos de Deus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6160" y="5876280"/>
            <a:ext cx="37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o de: Ilze So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13160" y="4867200"/>
            <a:ext cx="44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 suas mãos, Senh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posito minha vi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nhos, esperanças e ide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59800" y="4290480"/>
            <a:ext cx="639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u confio no Senh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i que de mim cuidará com am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rmita que meus sonhos possa realiz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m jamais nos outros pi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5800" y="4651200"/>
            <a:ext cx="633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ndo um objetivo alcanç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e eu sinta a humildade de reconhe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e o Senhor esteve a me ajud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46520" y="4506480"/>
            <a:ext cx="540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 quando fracass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e eu nunca fique a me lastim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enas aprenda com o err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irando lição para outra ocasi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67440" y="48672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inda engatinho na escala da evoluçã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is erro do que acer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r isso peço seu perd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38920" y="4939920"/>
            <a:ext cx="46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 por todas as bênçã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e recebo por sua bond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brigada, Senh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3933720"/>
            <a:ext cx="8496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Verdana"/>
              </a:rPr>
              <a:t>Autora Texto: Ilze Soa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Verdana"/>
              </a:rPr>
              <a:t>Imagem: Autor Desconhec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presentação: Colacio.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ontato: colacio.j@superig.com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Verdana"/>
              </a:rPr>
              <a:t>Visite o site:  http://www.ilzesoares.recantodasletras.com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18/10/2010 -10:00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0:59:13Z</dcterms:created>
  <dc:creator>Colacio.j Slide</dc:creator>
  <dc:description>Autora Texto: Ilze Soares 
Imagem: Autor Desconhecido
Apresentação: Colacio.j
Contato: colacio.j@superig.com.br
Visite o site:  http://www.ilzesoares.recantodasletras.com.br
18/10/2010 -10:00hs
</dc:description>
  <dc:language>en-US</dc:language>
  <cp:lastModifiedBy>terminal</cp:lastModifiedBy>
  <dcterms:modified xsi:type="dcterms:W3CDTF">2010-10-18T12:05:11Z</dcterms:modified>
  <cp:revision>4</cp:revision>
  <dc:subject>Apresentação Slides</dc:subject>
  <dc:title>Nas Mãos de Deus - Ilze Soares</dc:title>
</cp:coreProperties>
</file>