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D41-CDFB-478D-A369-1BDF9D19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225-B5C7-4B38-AB5A-F49B823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C6D-D91E-4AC7-BDA5-A168B659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61A-7D6A-44B2-B699-E09736FA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272-0F30-4A9F-B400-5940652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F16-183D-4148-99A3-985B4253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288-12BE-49F4-8516-FC09526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62D-0E0B-4EFC-9AA7-82D1C65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5D9-968B-4001-B23D-8B154BA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EBE-3EE3-4DCB-A2CC-DDF680C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28B-4E5C-4A23-8B50-6039758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E23-A3EA-4EDE-9C54-E7E5A7E9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BE6B-978B-4F07-9108-46C1B22B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02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ff00"/>
                </a:solidFill>
                <a:latin typeface="Arial"/>
              </a:rPr>
              <a:t>Miss Zericordia 2009... escolha a sua 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4220640"/>
            <a:ext cx="6481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"/>
              </a:rPr>
              <a:t>Produç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ff00"/>
                </a:solidFill>
                <a:latin typeface="Arial"/>
              </a:rPr>
              <a:t>João Carlos J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2960" y="0"/>
            <a:ext cx="37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0520" y="0"/>
            <a:ext cx="44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09:30Z</dcterms:created>
  <dc:creator>TEL</dc:creator>
  <dc:description/>
  <dc:language>en-US</dc:language>
  <cp:lastModifiedBy>TEL</cp:lastModifiedBy>
  <dcterms:modified xsi:type="dcterms:W3CDTF">2009-11-17T10:09:40Z</dcterms:modified>
  <cp:revision>1</cp:revision>
  <dc:subject/>
  <dc:title>Miss Zericordia 2009... escolha a sua ...</dc:title>
</cp:coreProperties>
</file>