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6D8B-5311-4BA8-82B0-A95CBEB0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E2E-BBC9-4E02-A64B-D0E0C337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1A2B-C268-45C2-9D1F-0E96DD3A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271-45D6-4C6C-B2C9-595C0AAB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0E8-E300-4670-95B8-5E092033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6152-30C6-4DAF-9290-7C034D9D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9B8-439D-4AC6-A4DE-81A5BAE5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DDC-D278-4C02-97D8-8F6231F8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F0F-00B8-4AE4-B115-64D18E0B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04C-3BE6-45BF-B463-7CACC145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66E-3F66-401E-8752-1D66EE9A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E63-0735-4BA4-8073-EBB71779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F53A-3180-41B8-B222-E029722F6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025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ffff00"/>
                </a:solidFill>
                <a:latin typeface="Arial"/>
              </a:rPr>
              <a:t>Miss Zericordia 2009... escolha a sua 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2920" y="4220640"/>
            <a:ext cx="64818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"/>
              </a:rPr>
              <a:t>Produçã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ffff00"/>
                </a:solidFill>
                <a:latin typeface="Arial"/>
              </a:rPr>
              <a:t>João Carlos J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10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2960" y="0"/>
            <a:ext cx="371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0520" y="0"/>
            <a:ext cx="442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0:09:30Z</dcterms:created>
  <dc:creator>TEL</dc:creator>
  <dc:description/>
  <dc:language>en-US</dc:language>
  <cp:lastModifiedBy>TEL</cp:lastModifiedBy>
  <dcterms:modified xsi:type="dcterms:W3CDTF">2009-11-17T10:09:40Z</dcterms:modified>
  <cp:revision>1</cp:revision>
  <dc:subject/>
  <dc:title>Miss Zericordia 2009... escolha a sua ...</dc:title>
</cp:coreProperties>
</file>