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_celine_dion_-_im_alive%202.14%20cut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C6B-31AD-4270-85E8-0FE134E0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91E-5814-4705-A822-4454FA11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E5C-F2AA-4987-BF98-B94AAAEE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2ED-8E4B-4562-8555-4CF6E0E4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BC1-E9F0-4BBC-AC66-7C7A60DA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733-AABB-4235-BA17-12B5313F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8A1-0C3D-415A-9C3F-171AE7C2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E98-D62F-4DE8-BFCD-4D35350C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04D-7F21-4368-A91A-1AEE2040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2683-54EA-445D-97C3-D0022FED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660-6032-4B7B-84F8-0AA2DB7F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C18-4D37-492B-B246-6CDE6EB3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80AF-D20E-4983-97C4-896574BD974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_celine_dion_-_im_alive%202.14%20cu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http://www.leticiathompson.net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6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295280"/>
            <a:ext cx="7696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ac"/>
                </a:solidFill>
                <a:latin typeface="Copperplate Gothic Light"/>
                <a:ea typeface="Arial"/>
              </a:rPr>
              <a:t>Sempre num lugar por onde passavam muitas pessoas, um mendigo sentava-se na calçada e ao lado colocava uma placa com os dizeres: Vejam como sou feliz! Sou um homem próspero, sei que sou bonito, sou muito importante, tenho uma bela residência, vivo confortavelmente, sou um sucesso, sou saudável e bem humorado. Alguns passantes o olhavam intrigados, outros o achavam doido e outros até davam-lhe dinhei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38088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ac"/>
                </a:solidFill>
                <a:latin typeface="Copperplate Gothic Light"/>
                <a:ea typeface="Arial"/>
              </a:rPr>
              <a:t>Palavras nos reforçam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48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  <p:sndAc>
      <p:stSnd>
        <p:snd r:embed="rId2" name="_celine_dion_-_im_alive%202.14%20cu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2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4300"/>
                            </p:stCondLst>
                            <p:childTnLst>
                              <p:par>
                                <p:cTn id="1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6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91440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Copperplate Gothic Light"/>
                <a:ea typeface="Arial"/>
              </a:rPr>
              <a:t>Todos os dias, antes de dormir, ele contava o dinheiro e notava que a cada dia a quantia era maior. Numa bela manhã, um importante e arrojado executivo, que já o observava há algum tempo, aproximou-se e lhe disse: Você é muito criativo!... Não gostaria de colaborar numa campanha da empresa? Vamos lá... Só tenho a ganhar! Respondeu o mendigo. Após um caprichado banho e com roupas novas, foi levado para a empresa... Daí para frente sua vida foi uma seqüência de sucessos e a certo tempo ele tornou-se um dos sócios majoritá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randomBa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2400"/>
                            </p:stCondLst>
                            <p:childTnLst>
                              <p:par>
                                <p:cTn id="2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2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6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685800"/>
            <a:ext cx="723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2bd"/>
                </a:solidFill>
                <a:latin typeface="Copperplate Gothic Light"/>
                <a:ea typeface="Arial"/>
              </a:rPr>
              <a:t>Numa entrevista coletiva à imprensa, ele esclareceu de como conseguira sair da mendicância para tão alta posição... Contou ele : - Bem, houve época em que eu costumava me sentar nas calçadas com uma placa ao lado, que dizia: Sou um nada neste mundo! Ninguém me ajuda! Não tenho onde morar! Sou um homem fracassado e maltratado pela vida! Não consigo um mísero emprego que me renda alguns trocados! Mal consigo sobreviver! As coisas iam de mal a pior quando, certa noite, achei um livro e nele atentei para um trecho que diz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2100"/>
                            </p:stCondLst>
                            <p:childTnLst>
                              <p:par>
                                <p:cTn id="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2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560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533520"/>
            <a:ext cx="7696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2bd"/>
                </a:solidFill>
                <a:latin typeface="Copperplate Gothic Light"/>
                <a:ea typeface="Arial"/>
              </a:rPr>
              <a:t>Tudo que você fala a seu respeito vai se reforçando. Por pior que esteja a sua vida, diga que tudo vai bem. Por mais que você não goste de sua aparência, afirme-se bonito. Por mais pobre que seja você , diga a si mesmo e aos outros que você é próspero. Aquilo me tocou profundamente e, como nada tinha a perder, decidi trocar os dizeres da placa... E a partir desse dia tudo começou a mudar, a vida me trouxe a pessoa certa para tudo que eu precisava, até que cheguei onde estou hoj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4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randomBa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1800"/>
                            </p:stCondLst>
                            <p:childTnLst>
                              <p:par>
                                <p:cTn id="5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6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533520"/>
            <a:ext cx="7772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ac"/>
                </a:solidFill>
                <a:latin typeface="Copperplate Gothic Light"/>
                <a:ea typeface="Arial"/>
              </a:rPr>
              <a:t>Tive apenas que entender o Poder das Palavras... O Universo sempre apoiará tudo o que dissermos, escrevermos ou pensarmos a nosso respeito e isso acabará se manifestando em nossa vida como realidade... Enquanto afirmarmos que tudo vai mal, que nossa aparência é horrível, que nossos bens materiais são ínfimos, a tendência é que as coisas fiquem piores ainda, pois o Universo as reforçará... Ele materializa em nossa vida todas as nossas crenç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5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300"/>
                            </p:stCondLst>
                            <p:childTnLst>
                              <p:par>
                                <p:cTn id="6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6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762120"/>
            <a:ext cx="754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ac"/>
                </a:solidFill>
                <a:latin typeface="Copperplate Gothic Light"/>
                <a:ea typeface="Arial"/>
              </a:rPr>
              <a:t>Uma repórter, ironicamente, questionou:  - O senhor está querendo dizer que algumas palavras escritas numa simples placa modificaram a sua vida? Respondeu o homem, cheio de bom humor: - Claro que não, minha ingênua amiga!... Primeiro eu tive que acreditar nelas!... Tudo que você diz, escreve ou pensa a seu respeito, é recebido pelo Universo como uma o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58672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ac"/>
                </a:solidFill>
                <a:latin typeface="Copperplate Gothic Light"/>
              </a:rPr>
              <a:t>(Desconheço a  auto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58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1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8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ece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6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38088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ece6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ece6"/>
                </a:solidFill>
                <a:latin typeface="Times New Roman"/>
              </a:rPr>
              <a:t>Celine Dion - I’m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167652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ce6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ce6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31240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ece6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343400"/>
            <a:ext cx="80010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ece6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4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100"/>
                            </p:stCondLst>
                            <p:childTnLst>
                              <p:par>
                                <p:cTn id="9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125"/>
                            </p:stCondLst>
                            <p:childTnLst>
                              <p:par>
                                <p:cTn id="9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425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825"/>
                            </p:stCondLst>
                            <p:childTnLst>
                              <p:par>
                                <p:cTn id="11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5:42:55Z</dcterms:created>
  <dc:creator>ssoliver@terra.com.br </dc:creator>
  <dc:description/>
  <dc:language>en-US</dc:language>
  <cp:lastModifiedBy>Leticia Thompson</cp:lastModifiedBy>
  <dcterms:modified xsi:type="dcterms:W3CDTF">2004-11-02T21:37:11Z</dcterms:modified>
  <cp:revision>7</cp:revision>
  <dc:subject>pps</dc:subject>
  <dc:title>Palavras nos reforçam</dc:title>
</cp:coreProperties>
</file>