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-%20Somewhere%20in%20my%20soul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E46-88BB-4D9F-8F2F-336F3D0A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6B8-3D89-4740-81EF-430698D0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89A-5967-4164-8AE8-14C314CB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C8A-C7D4-4F72-BD80-B40CE42C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870-846E-4B2A-B639-5074EEE1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AF0-951D-4C1F-9BC1-493198CB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B2F-5B64-47E7-A372-5B0F6727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C33-E845-42AA-B8E5-179051FE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89A-4C2C-4E16-BDB5-1FC640EB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989-29B7-44A4-902A-942D6411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8B7-D4A1-4CD9-96B2-29FC0BC4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F0C-3775-45FB-ACF2-65EED341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4FD0-D706-4B98-BBE1-BD9E6ACBF98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Ernesto%20Cortazar%20-%20Somewhere%20in%20my%20soul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ttyimages.com/" TargetMode="External"/><Relationship Id="rId3" Type="http://schemas.openxmlformats.org/officeDocument/2006/relationships/hyperlink" Target="http://www.gettyimages.com/" TargetMode="External"/><Relationship Id="rId4" Type="http://schemas.openxmlformats.org/officeDocument/2006/relationships/hyperlink" Target="http://www.gettyimages.com/" TargetMode="External"/><Relationship Id="rId5" Type="http://schemas.openxmlformats.org/officeDocument/2006/relationships/hyperlink" Target="http://www.leticiathompson.net/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11640" y="249228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1e3c"/>
                  </a:outerShdw>
                </a:effectLst>
                <a:latin typeface="Arial Black"/>
              </a:rPr>
              <a:t>Recolando Pedaços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1e3c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219640" y="3573360"/>
            <a:ext cx="2086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1e3c"/>
                  </a:outerShdw>
                </a:effectLst>
                <a:latin typeface="Arial Black"/>
              </a:rPr>
              <a:t>Letícia Thomps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1e3c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2421000"/>
            <a:ext cx="3816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É possível que ela seja mais próxima de uma outra pessoa, mas porque existem mais afinidades entre eles, não por que o amor seja difere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Amor de mãe é amor de mã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1640" y="1700280"/>
            <a:ext cx="374328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Que seja você a colocar o orgulho de lado pelo menos uma vez na sua vida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Que seja você a estender a mão, a pedir perdão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Que seja você a recolar os pedaços de um relacionamento que se quebrou um dia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1557360"/>
            <a:ext cx="374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Que seja você a ultrapassar as barreiras, derreter o gelo, dar o primeiro beijo, reconciliar em você e por você mesmo, o primeiro amor que você teve na vid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3357720"/>
            <a:ext cx="37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Vasos quebrados talvez não sejam como no início. Mas poderão ter uma outra aparência, mosaica e bela. E, sobretudo, a certeza de que alguma coisa foi reconstruída e você foi o responsáv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20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2421000"/>
            <a:ext cx="39589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Amor reconquistado é amor dobr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É amor carregado das experiências que o tornaram mais forte, mais sólido e verdadei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2060640"/>
            <a:ext cx="381492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Quer ter uma vida long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Eis a sabedoria bíbl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"Honra a teu pai e tua mãe para que se prolonguem seus dias na terra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1413000"/>
            <a:ext cx="381492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Crédit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Texto: Letícia Thomp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Imagens: </a:t>
            </a:r>
            <a:r>
              <a:rPr b="0" lang="pt-BR" sz="1400" spc="-1" strike="noStrike" u="sng">
                <a:solidFill>
                  <a:srgbClr val="333399"/>
                </a:solidFill>
                <a:uFillTx/>
                <a:latin typeface="Trebuchet MS"/>
                <a:hlinkClick r:id="rId2"/>
              </a:rPr>
              <a:t>Getty</a:t>
            </a:r>
            <a:r>
              <a:rPr b="0" lang="pt-BR" sz="1400" spc="-1" strike="noStrike" u="sng">
                <a:solidFill>
                  <a:srgbClr val="333399"/>
                </a:solidFill>
                <a:uFillTx/>
                <a:latin typeface="Trebuchet MS"/>
                <a:hlinkClick r:id="rId3"/>
              </a:rPr>
              <a:t> </a:t>
            </a:r>
            <a:r>
              <a:rPr b="0" lang="pt-BR" sz="1400" spc="-1" strike="noStrike" u="sng">
                <a:solidFill>
                  <a:srgbClr val="333399"/>
                </a:solidFill>
                <a:uFillTx/>
                <a:latin typeface="Trebuchet MS"/>
                <a:hlinkClick r:id="rId4"/>
              </a:rPr>
              <a:t>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Formatação: Mara Lú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Música: Somewhere in my So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    </a:t>
            </a: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Ernesto Corta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Maio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Site da auto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333399"/>
                </a:solidFill>
                <a:uFillTx/>
                <a:latin typeface="Trebuchet MS"/>
                <a:hlinkClick r:id="rId5"/>
              </a:rPr>
              <a:t>www.leticiathompso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Repasse sem retirar os crédi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2133720"/>
            <a:ext cx="3457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Dizem que as coisas recoladas não têm mais o mesmo valor, nem a mesma bele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Talvez você seja dessas pessoas que pensam ass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1773360"/>
            <a:ext cx="370836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E agora, que a festa para as mães se aproxima e você vê e lê tantas coisas bonitas que dizem sobre as mães, você se pergunta por que com você é difere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Você se diz que gostaria de ter tido aquela ou aquela mãe, não a sua, com quem você não consegue ter um relacionamento norm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6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62864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Definitivamente, você se diz que a sua não é a mãe com a qual sempre sonhou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350028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292428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Mas... você nunca, na realidade, sonhou com mãe nenhuma!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436572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81960" y="4292640"/>
            <a:ext cx="29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Foi ela quem sonhou você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1700280"/>
            <a:ext cx="37450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Foi ela, sim, por mais imperfeita que seja, que te carregou nos braços ou no ventre, ou mesmo os dois, te carregou certamente no cor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Foi ela quem se esqueceu da dor quando viu seu rostinho pela primeira vez e teve o coração tão cheio de ternura que ela não saberia encontrar as palavras para defini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6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1484280"/>
            <a:ext cx="374508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Ela sonhou que você seria a criança mais bonita do mu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Que seria o melhor aluno, melhor filho, melhor ami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Aquela pessoa que todos apreciaria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Ela nunca contou que você teria defeito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7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700"/>
                            </p:stCondLst>
                            <p:childTnLst>
                              <p:par>
                                <p:cTn id="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1557360"/>
            <a:ext cx="37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E portanto... crescendo, você foi se tornando você mesmo, um ser tão imperfeitamente normal como qualquer ou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2924280"/>
            <a:ext cx="324036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E as desavenças, diferenças de opiniões, ciúme, fizeram com que, um dia, você tenha ficado de um lado e sua mãe do ou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E você continua acreditando que, absolutamente, não se recola pedaço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2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2060640"/>
            <a:ext cx="302436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O curioso é que você é muitas vezes capaz de lutar, mesmo se humilhar, para recuperar o amor de uma outra pessoa, mas o amor de mãe fica de l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Seria o amor de mãe menos importante que qualquer outro am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1989000"/>
            <a:ext cx="338436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Talvez você se diga que seja a ela fazer o primeiro passo, que ela sempre teve preferência por um dos seus irmãos, que foi ela quem erro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Mas você não sabe que coração de mãe tem espaço especial para cada filh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3:38:21Z</dcterms:created>
  <dc:creator>Mara Lúcia Sarmento Didonet</dc:creator>
  <dc:description>mdidonet@uol.com.br
</dc:description>
  <dc:language>en-US</dc:language>
  <cp:lastModifiedBy>Letícia Thompson</cp:lastModifiedBy>
  <dcterms:modified xsi:type="dcterms:W3CDTF">2006-10-30T12:57:53Z</dcterms:modified>
  <cp:revision>15</cp:revision>
  <dc:subject/>
  <dc:title>Recolocando Pedaços - Letícia Thompson</dc:title>
</cp:coreProperties>
</file>