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Ernesto%20Cortazar%20-%20Somewhere%20in%20my%20soul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7FB1-D8BE-48CF-A1F9-0AD3B1A8A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936C-0680-414E-AAA3-54FDD071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7FCC-30D8-415E-AF27-BC578EF4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67A8-3BBC-4FCB-B493-EC4D1B0C9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06D3-236A-4511-98FC-3CBA8C0A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55A7-9031-44AF-85CC-20F3F33D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BC77-C5E0-47DB-964F-78666C3A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F176-BA57-4904-AD6E-D0F3EC30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ECF9-4288-44CA-BEC5-57462634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0490-24F7-499C-9465-6520081C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EC1A-03DE-4742-9308-48ACFBDB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CAD3-3200-4324-B036-64EEE00A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6663-CDB6-4250-BB0F-3B132B6DE9D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Ernesto%20Cortazar%20-%20Somewhere%20in%20my%20soul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ettyimages.com/" TargetMode="External"/><Relationship Id="rId3" Type="http://schemas.openxmlformats.org/officeDocument/2006/relationships/hyperlink" Target="http://www.gettyimages.com/" TargetMode="External"/><Relationship Id="rId4" Type="http://schemas.openxmlformats.org/officeDocument/2006/relationships/hyperlink" Target="http://www.gettyimages.com/" TargetMode="External"/><Relationship Id="rId5" Type="http://schemas.openxmlformats.org/officeDocument/2006/relationships/hyperlink" Target="http://www.leticiathompson.net/" TargetMode="Externa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549360"/>
            <a:ext cx="8496000" cy="5688000"/>
          </a:xfrm>
          <a:prstGeom prst="rect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907920"/>
            <a:ext cx="792000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981000"/>
            <a:ext cx="777708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1052640"/>
            <a:ext cx="7632720" cy="4608360"/>
          </a:xfrm>
          <a:prstGeom prst="rect">
            <a:avLst/>
          </a:prstGeom>
          <a:noFill/>
          <a:ln w="9360">
            <a:solidFill>
              <a:srgbClr val="d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211640" y="2492280"/>
            <a:ext cx="38386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1e3c"/>
                  </a:outerShdw>
                </a:effectLst>
                <a:latin typeface="Arial Black"/>
              </a:rPr>
              <a:t>Recolando Pedaços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1e3c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219640" y="3573360"/>
            <a:ext cx="20862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1e3c"/>
                  </a:outerShdw>
                </a:effectLst>
                <a:latin typeface="Arial Black"/>
              </a:rPr>
              <a:t>Letícia Thompso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1e3c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095640" cy="4019760"/>
          </a:xfrm>
          <a:prstGeom prst="rect">
            <a:avLst/>
          </a:prstGeom>
          <a:ln w="9360">
            <a:solidFill>
              <a:srgbClr val="d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4000" y="549360"/>
            <a:ext cx="8496000" cy="5688000"/>
          </a:xfrm>
          <a:prstGeom prst="rect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907920"/>
            <a:ext cx="792000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981000"/>
            <a:ext cx="777708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1052640"/>
            <a:ext cx="7632720" cy="4608360"/>
          </a:xfrm>
          <a:prstGeom prst="rect">
            <a:avLst/>
          </a:prstGeom>
          <a:noFill/>
          <a:ln w="9360">
            <a:solidFill>
              <a:srgbClr val="d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84720" y="2421000"/>
            <a:ext cx="381636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É possível que ela seja mais próxima de uma outra pessoa, mas porque existem mais afinidades entre eles, não por que o amor seja diferen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Amor de mãe é amor de mã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095640" cy="4019760"/>
          </a:xfrm>
          <a:prstGeom prst="rect">
            <a:avLst/>
          </a:prstGeom>
          <a:ln w="9360">
            <a:solidFill>
              <a:srgbClr val="d00000"/>
            </a:solidFill>
            <a:miter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24000" y="549360"/>
            <a:ext cx="8496000" cy="5688000"/>
          </a:xfrm>
          <a:prstGeom prst="rect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907920"/>
            <a:ext cx="792000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981000"/>
            <a:ext cx="777708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1052640"/>
            <a:ext cx="7632720" cy="4608360"/>
          </a:xfrm>
          <a:prstGeom prst="rect">
            <a:avLst/>
          </a:prstGeom>
          <a:noFill/>
          <a:ln w="9360">
            <a:solidFill>
              <a:srgbClr val="d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11640" y="1700280"/>
            <a:ext cx="3743280" cy="34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99"/>
                </a:solidFill>
                <a:latin typeface="Trebuchet MS"/>
              </a:rPr>
              <a:t>Que seja você a colocar o orgulho de lado pelo menos uma vez na sua vida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99"/>
                </a:solidFill>
                <a:latin typeface="Trebuchet MS"/>
              </a:rPr>
              <a:t>Que seja você a estender a mão, a pedir perdão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99"/>
                </a:solidFill>
                <a:latin typeface="Trebuchet MS"/>
              </a:rPr>
              <a:t>Que seja você a recolar os pedaços de um relacionamento que se quebrou um dia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095640" cy="4019760"/>
          </a:xfrm>
          <a:prstGeom prst="rect">
            <a:avLst/>
          </a:prstGeom>
          <a:ln w="9360">
            <a:solidFill>
              <a:srgbClr val="d00000"/>
            </a:solidFill>
            <a:miter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4000" y="549360"/>
            <a:ext cx="8496000" cy="5688000"/>
          </a:xfrm>
          <a:prstGeom prst="rect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907920"/>
            <a:ext cx="792000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981000"/>
            <a:ext cx="777708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1052640"/>
            <a:ext cx="7632720" cy="4608360"/>
          </a:xfrm>
          <a:prstGeom prst="rect">
            <a:avLst/>
          </a:prstGeom>
          <a:noFill/>
          <a:ln w="9360">
            <a:solidFill>
              <a:srgbClr val="d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11640" y="1557360"/>
            <a:ext cx="3743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Que seja você a ultrapassar as barreiras, derreter o gelo, dar o primeiro beijo, reconciliar em você e por você mesmo, o primeiro amor que você teve na vida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84720" y="3357720"/>
            <a:ext cx="3743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Vasos quebrados talvez não sejam como no início. Mas poderão ter uma outra aparência, mosaica e bela. E, sobretudo, a certeza de que alguma coisa foi reconstruída e você foi o responsáve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095640" cy="4019760"/>
          </a:xfrm>
          <a:prstGeom prst="rect">
            <a:avLst/>
          </a:prstGeom>
          <a:ln w="9360">
            <a:solidFill>
              <a:srgbClr val="d00000"/>
            </a:solidFill>
            <a:miter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200"/>
                            </p:stCondLst>
                            <p:childTnLst>
                              <p:par>
                                <p:cTn id="1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549360"/>
            <a:ext cx="8496000" cy="5688000"/>
          </a:xfrm>
          <a:prstGeom prst="rect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907920"/>
            <a:ext cx="792000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981000"/>
            <a:ext cx="777708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052640"/>
            <a:ext cx="7632720" cy="4608360"/>
          </a:xfrm>
          <a:prstGeom prst="rect">
            <a:avLst/>
          </a:prstGeom>
          <a:noFill/>
          <a:ln w="9360">
            <a:solidFill>
              <a:srgbClr val="d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40360" y="2421000"/>
            <a:ext cx="395892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Amor reconquistado é amor dobrad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É amor carregado das experiências que o tornaram mais forte, mais sólido e verdadei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095640" cy="4019760"/>
          </a:xfrm>
          <a:prstGeom prst="rect">
            <a:avLst/>
          </a:prstGeom>
          <a:ln w="9360">
            <a:solidFill>
              <a:srgbClr val="d00000"/>
            </a:solidFill>
            <a:miter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4000" y="549360"/>
            <a:ext cx="8496000" cy="5688000"/>
          </a:xfrm>
          <a:prstGeom prst="rect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907920"/>
            <a:ext cx="792000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981000"/>
            <a:ext cx="777708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1052640"/>
            <a:ext cx="7632720" cy="4608360"/>
          </a:xfrm>
          <a:prstGeom prst="rect">
            <a:avLst/>
          </a:prstGeom>
          <a:noFill/>
          <a:ln w="9360">
            <a:solidFill>
              <a:srgbClr val="d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11640" y="2060640"/>
            <a:ext cx="381492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Quer ter uma vida long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Eis a sabedoria bíblic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"Honra a teu pai e tua mãe para que se prolonguem seus dias na terra.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095640" cy="4019760"/>
          </a:xfrm>
          <a:prstGeom prst="rect">
            <a:avLst/>
          </a:prstGeom>
          <a:ln w="9360">
            <a:solidFill>
              <a:srgbClr val="d00000"/>
            </a:solidFill>
            <a:miter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2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24000" y="549360"/>
            <a:ext cx="8496000" cy="5688000"/>
          </a:xfrm>
          <a:prstGeom prst="rect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907920"/>
            <a:ext cx="792000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981000"/>
            <a:ext cx="777708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1052640"/>
            <a:ext cx="7632720" cy="4608360"/>
          </a:xfrm>
          <a:prstGeom prst="rect">
            <a:avLst/>
          </a:prstGeom>
          <a:noFill/>
          <a:ln w="9360">
            <a:solidFill>
              <a:srgbClr val="d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11640" y="1413000"/>
            <a:ext cx="381492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99"/>
                </a:solidFill>
                <a:latin typeface="Trebuchet MS"/>
              </a:rPr>
              <a:t>Crédit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99"/>
                </a:solidFill>
                <a:latin typeface="Trebuchet MS"/>
              </a:rPr>
              <a:t>Texto: Letícia Thomp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99"/>
                </a:solidFill>
                <a:latin typeface="Trebuchet MS"/>
              </a:rPr>
              <a:t>Imagens: </a:t>
            </a:r>
            <a:r>
              <a:rPr b="0" lang="pt-BR" sz="1400" spc="-1" strike="noStrike" u="sng">
                <a:solidFill>
                  <a:srgbClr val="333399"/>
                </a:solidFill>
                <a:uFillTx/>
                <a:latin typeface="Trebuchet MS"/>
                <a:hlinkClick r:id="rId2"/>
              </a:rPr>
              <a:t>Getty</a:t>
            </a:r>
            <a:r>
              <a:rPr b="0" lang="pt-BR" sz="1400" spc="-1" strike="noStrike" u="sng">
                <a:solidFill>
                  <a:srgbClr val="333399"/>
                </a:solidFill>
                <a:uFillTx/>
                <a:latin typeface="Trebuchet MS"/>
                <a:hlinkClick r:id="rId3"/>
              </a:rPr>
              <a:t> </a:t>
            </a:r>
            <a:r>
              <a:rPr b="0" lang="pt-BR" sz="1400" spc="-1" strike="noStrike" u="sng">
                <a:solidFill>
                  <a:srgbClr val="333399"/>
                </a:solidFill>
                <a:uFillTx/>
                <a:latin typeface="Trebuchet MS"/>
                <a:hlinkClick r:id="rId4"/>
              </a:rPr>
              <a:t>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99"/>
                </a:solidFill>
                <a:latin typeface="Trebuchet MS"/>
              </a:rPr>
              <a:t>Formatação: Mara Lú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99"/>
                </a:solidFill>
                <a:latin typeface="Trebuchet MS"/>
              </a:rPr>
              <a:t>Música: Somewhere in my So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99"/>
                </a:solidFill>
                <a:latin typeface="Trebuchet MS"/>
              </a:rPr>
              <a:t>    </a:t>
            </a:r>
            <a:r>
              <a:rPr b="1" lang="pt-BR" sz="1400" spc="-1" strike="noStrike">
                <a:solidFill>
                  <a:srgbClr val="333399"/>
                </a:solidFill>
                <a:latin typeface="Trebuchet MS"/>
              </a:rPr>
              <a:t>Ernesto Cortaz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99"/>
                </a:solidFill>
                <a:latin typeface="Trebuchet MS"/>
              </a:rPr>
              <a:t>Maio/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99"/>
                </a:solidFill>
                <a:latin typeface="Trebuchet MS"/>
              </a:rPr>
              <a:t>Site da autor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333399"/>
                </a:solidFill>
                <a:uFillTx/>
                <a:latin typeface="Trebuchet MS"/>
                <a:hlinkClick r:id="rId5"/>
              </a:rPr>
              <a:t>www.leticiathompso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99"/>
                </a:solidFill>
                <a:latin typeface="Trebuchet MS"/>
              </a:rPr>
              <a:t>Repasse sem retirar os crédi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826920" y="1341360"/>
            <a:ext cx="3095640" cy="4019760"/>
          </a:xfrm>
          <a:prstGeom prst="rect">
            <a:avLst/>
          </a:prstGeom>
          <a:ln w="9360">
            <a:solidFill>
              <a:srgbClr val="d00000"/>
            </a:solidFill>
            <a:miter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549360"/>
            <a:ext cx="8496000" cy="5688000"/>
          </a:xfrm>
          <a:prstGeom prst="rect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907920"/>
            <a:ext cx="792000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981000"/>
            <a:ext cx="777708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1052640"/>
            <a:ext cx="7632720" cy="4608360"/>
          </a:xfrm>
          <a:prstGeom prst="rect">
            <a:avLst/>
          </a:prstGeom>
          <a:noFill/>
          <a:ln w="9360">
            <a:solidFill>
              <a:srgbClr val="d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27640" y="2133720"/>
            <a:ext cx="34574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99"/>
                </a:solidFill>
                <a:latin typeface="Trebuchet MS"/>
              </a:rPr>
              <a:t>Dizem que as coisas recoladas não têm mais o mesmo valor, nem a mesma belez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99"/>
                </a:solidFill>
                <a:latin typeface="Trebuchet MS"/>
              </a:rPr>
              <a:t>Talvez você seja dessas pessoas que pensam assi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095640" cy="4019760"/>
          </a:xfrm>
          <a:prstGeom prst="rect">
            <a:avLst/>
          </a:prstGeom>
          <a:ln w="9360">
            <a:solidFill>
              <a:srgbClr val="d00000"/>
            </a:solidFill>
            <a:miter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549360"/>
            <a:ext cx="8496000" cy="5688000"/>
          </a:xfrm>
          <a:prstGeom prst="rect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907920"/>
            <a:ext cx="792000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981000"/>
            <a:ext cx="777708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1052640"/>
            <a:ext cx="7632720" cy="4608360"/>
          </a:xfrm>
          <a:prstGeom prst="rect">
            <a:avLst/>
          </a:prstGeom>
          <a:noFill/>
          <a:ln w="9360">
            <a:solidFill>
              <a:srgbClr val="d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27640" y="1773360"/>
            <a:ext cx="3708360" cy="31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E agora, que a festa para as mães se aproxima e você vê e lê tantas coisas bonitas que dizem sobre as mães, você se pergunta por que com você é diferen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Você se diz que gostaria de ter tido aquela ou aquela mãe, não a sua, com quem você não consegue ter um relacionamento norm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095640" cy="4019760"/>
          </a:xfrm>
          <a:prstGeom prst="rect">
            <a:avLst/>
          </a:prstGeom>
          <a:ln w="9360">
            <a:solidFill>
              <a:srgbClr val="d00000"/>
            </a:solidFill>
            <a:miter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6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549360"/>
            <a:ext cx="8496000" cy="5688000"/>
          </a:xfrm>
          <a:prstGeom prst="rect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907920"/>
            <a:ext cx="792000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981000"/>
            <a:ext cx="777708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1052640"/>
            <a:ext cx="7632720" cy="4608360"/>
          </a:xfrm>
          <a:prstGeom prst="rect">
            <a:avLst/>
          </a:prstGeom>
          <a:noFill/>
          <a:ln w="9360">
            <a:solidFill>
              <a:srgbClr val="d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1628640"/>
            <a:ext cx="316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Definitivamente, você se diz que a sua não é a mãe com a qual sempre sonhou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3280" y="3500280"/>
            <a:ext cx="30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2924280"/>
            <a:ext cx="30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99"/>
                </a:solidFill>
                <a:latin typeface="Trebuchet MS"/>
              </a:rPr>
              <a:t>Mas... você nunca, na realidade, sonhou com mãe nenhuma!!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32360" y="4365720"/>
            <a:ext cx="26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81960" y="4292640"/>
            <a:ext cx="290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Foi ela quem sonhou você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095640" cy="4019760"/>
          </a:xfrm>
          <a:prstGeom prst="rect">
            <a:avLst/>
          </a:prstGeom>
          <a:ln w="9360">
            <a:solidFill>
              <a:srgbClr val="d00000"/>
            </a:solidFill>
            <a:miter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24000" y="549360"/>
            <a:ext cx="8496000" cy="5688000"/>
          </a:xfrm>
          <a:prstGeom prst="rect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907920"/>
            <a:ext cx="792000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981000"/>
            <a:ext cx="777708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1052640"/>
            <a:ext cx="7632720" cy="4608360"/>
          </a:xfrm>
          <a:prstGeom prst="rect">
            <a:avLst/>
          </a:prstGeom>
          <a:noFill/>
          <a:ln w="9360">
            <a:solidFill>
              <a:srgbClr val="d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56000" y="1700280"/>
            <a:ext cx="374508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Foi ela, sim, por mais imperfeita que seja, que te carregou nos braços ou no ventre, ou mesmo os dois, te carregou certamente no coraçã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Foi ela quem se esqueceu da dor quando viu seu rostinho pela primeira vez e teve o coração tão cheio de ternura que ela não saberia encontrar as palavras para defini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095640" cy="4019760"/>
          </a:xfrm>
          <a:prstGeom prst="rect">
            <a:avLst/>
          </a:prstGeom>
          <a:ln w="9360">
            <a:solidFill>
              <a:srgbClr val="d00000"/>
            </a:solidFill>
            <a:miter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6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4000" y="549360"/>
            <a:ext cx="8496000" cy="5688000"/>
          </a:xfrm>
          <a:prstGeom prst="rect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907920"/>
            <a:ext cx="792000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981000"/>
            <a:ext cx="777708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052640"/>
            <a:ext cx="7632720" cy="4608360"/>
          </a:xfrm>
          <a:prstGeom prst="rect">
            <a:avLst/>
          </a:prstGeom>
          <a:noFill/>
          <a:ln w="9360">
            <a:solidFill>
              <a:srgbClr val="d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11640" y="1484280"/>
            <a:ext cx="374508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Ela sonhou que você seria a criança mais bonita do mun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Que seria o melhor aluno, melhor filho, melhor amig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Aquela pessoa que todos apreciaria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Ela nunca contou que você teria defeito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095640" cy="4019760"/>
          </a:xfrm>
          <a:prstGeom prst="rect">
            <a:avLst/>
          </a:prstGeom>
          <a:ln w="9360">
            <a:solidFill>
              <a:srgbClr val="d00000"/>
            </a:solidFill>
            <a:miter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7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700"/>
                            </p:stCondLst>
                            <p:childTnLst>
                              <p:par>
                                <p:cTn id="8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000" y="549360"/>
            <a:ext cx="8496000" cy="5688000"/>
          </a:xfrm>
          <a:prstGeom prst="rect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907920"/>
            <a:ext cx="792000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981000"/>
            <a:ext cx="777708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1052640"/>
            <a:ext cx="7632720" cy="4608360"/>
          </a:xfrm>
          <a:prstGeom prst="rect">
            <a:avLst/>
          </a:prstGeom>
          <a:noFill/>
          <a:ln w="9360">
            <a:solidFill>
              <a:srgbClr val="d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6000" y="1557360"/>
            <a:ext cx="374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E portanto... crescendo, você foi se tornando você mesmo, um ser tão imperfeitamente normal como qualquer out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43280" y="2924280"/>
            <a:ext cx="324036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99"/>
                </a:solidFill>
                <a:latin typeface="Trebuchet MS"/>
              </a:rPr>
              <a:t>E as desavenças, diferenças de opiniões, ciúme, fizeram com que, um dia, você tenha ficado de um lado e sua mãe do out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99"/>
                </a:solidFill>
                <a:latin typeface="Trebuchet MS"/>
              </a:rPr>
              <a:t>E você continua acreditando que, absolutamente, não se recola pedaços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095640" cy="4019760"/>
          </a:xfrm>
          <a:prstGeom prst="rect">
            <a:avLst/>
          </a:prstGeom>
          <a:ln w="9360">
            <a:solidFill>
              <a:srgbClr val="d00000"/>
            </a:solidFill>
            <a:miter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250"/>
                            </p:stCondLst>
                            <p:childTnLst>
                              <p:par>
                                <p:cTn id="102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165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4000" y="549360"/>
            <a:ext cx="8496000" cy="5688000"/>
          </a:xfrm>
          <a:prstGeom prst="rect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907920"/>
            <a:ext cx="792000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981000"/>
            <a:ext cx="777708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1052640"/>
            <a:ext cx="7632720" cy="4608360"/>
          </a:xfrm>
          <a:prstGeom prst="rect">
            <a:avLst/>
          </a:prstGeom>
          <a:noFill/>
          <a:ln w="9360">
            <a:solidFill>
              <a:srgbClr val="d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2060640"/>
            <a:ext cx="302436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O curioso é que você é muitas vezes capaz de lutar, mesmo se humilhar, para recuperar o amor de uma outra pessoa, mas o amor de mãe fica de lad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Seria o amor de mãe menos importante que qualquer outro amo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095640" cy="4019760"/>
          </a:xfrm>
          <a:prstGeom prst="rect">
            <a:avLst/>
          </a:prstGeom>
          <a:ln w="9360">
            <a:solidFill>
              <a:srgbClr val="d00000"/>
            </a:solidFill>
            <a:miter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549360"/>
            <a:ext cx="8496000" cy="5688000"/>
          </a:xfrm>
          <a:prstGeom prst="rect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907920"/>
            <a:ext cx="792000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981000"/>
            <a:ext cx="777708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1052640"/>
            <a:ext cx="7632720" cy="4608360"/>
          </a:xfrm>
          <a:prstGeom prst="rect">
            <a:avLst/>
          </a:prstGeom>
          <a:noFill/>
          <a:ln w="9360">
            <a:solidFill>
              <a:srgbClr val="d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00720" y="1989000"/>
            <a:ext cx="338436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Talvez você se diga que seja a ela fazer o primeiro passo, que ela sempre teve preferência por um dos seus irmãos, que foi ela quem erro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rebuchet MS"/>
              </a:rPr>
              <a:t>Mas você não sabe que coração de mãe tem espaço especial para cada filho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095640" cy="4019760"/>
          </a:xfrm>
          <a:prstGeom prst="rect">
            <a:avLst/>
          </a:prstGeom>
          <a:ln w="9360">
            <a:solidFill>
              <a:srgbClr val="d00000"/>
            </a:solidFill>
            <a:miter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13:38:21Z</dcterms:created>
  <dc:creator>Mara Lúcia Sarmento Didonet</dc:creator>
  <dc:description>mdidonet@uol.com.br
</dc:description>
  <dc:language>en-US</dc:language>
  <cp:lastModifiedBy>Letícia Thompson</cp:lastModifiedBy>
  <dcterms:modified xsi:type="dcterms:W3CDTF">2006-10-30T12:57:53Z</dcterms:modified>
  <cp:revision>15</cp:revision>
  <dc:subject/>
  <dc:title>Recolocando Pedaços - Letícia Thompson</dc:title>
</cp:coreProperties>
</file>